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93F9-546C-4FD4-990B-0A6F832D687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D0BC-6AF0-4CBB-8DAF-AB9CD1E4FCC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956-BD47-4A55-9869-149CA72B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C3D-BA48-4FFD-811D-98DDB6A9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0F8-0B6D-4854-BFDD-618E1366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B19-D8E4-4C7F-91DF-657D114B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DCC5-D24F-499A-A6DC-EE4FD02B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CE98-4049-4930-94D7-1D9683E2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D5E9-8099-4A79-A77E-19B69D4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76B8-59A3-474C-B409-BADB7D0E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EDAC-8A46-4771-98C8-DF7743C6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238A-793C-4D11-A9BC-04D0DFAD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7A91-EA99-4355-949E-3F3458A1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21C-37E2-495B-8051-08591168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B461-E8EE-4904-BB63-37EA878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4201-97B5-455C-B6CB-0D32C414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FE5F-29A2-47EA-A399-3912F570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DAE4-314F-42F5-AFA2-BDAFE991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70D1-3A47-402C-996F-548D272D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AA42-7704-4506-9D29-E1C8BB9A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9B682-4B4C-43B6-AF46-C4AD0EE3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E881-06CF-4F4B-8D2F-420C44D5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F57E-1816-402F-8499-727BCE24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6592C-4D6D-4B46-B796-FF960990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F39-CFAF-4FA8-9BB4-A7DCD5B0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DF1F-16BC-45CC-8E4B-752DE3FB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30D9-3574-4011-B7CB-4A478EC3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6067-BE9A-4099-9709-688E931A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344F-69D0-4453-A82A-0C1B385A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EE33-9663-44D7-B233-9D8167C2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638E-7B54-4FE8-94FB-5A8FC193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CBA2-5A6A-45A3-AA34-B3007363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90FB-CA94-4E4C-9BEE-CFDD0E37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24543-A023-4AF6-8240-A81FDE75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6F2D6-4B4E-42FB-9240-3372E5D3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E05-AB71-4CB9-B71F-0E1A1F59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B31D-6060-47C8-98B1-9709D265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EA0C-1B51-4D94-8400-E62CE93F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B03A-ED54-436D-B981-294930D0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A36F-2DEB-44AB-9826-D215A1D0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A31D0-9322-4CBD-B4CC-99EB0DEF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B9921-1B0F-465E-B513-4C1F04BE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B710-AF25-4459-A71C-810BDD19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8891-64CA-46F5-A323-E0A7697B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1767F-3602-4651-A588-8EA4E90B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B1D-3383-4926-94C7-9AE79183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D4B-3E1D-4498-ACE8-001A2DF1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675-F49B-47FF-B750-99D6E119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CFA-CB01-4CE8-AE13-748D32B8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450-C6A5-40D2-83C9-8C1C14F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207E-6910-4C7E-8377-9587B932869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8E20-5F66-4A54-BCEF-F98C85E9687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1C13-7213-4639-A5FF-D5FA492BE29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D806-A8F9-48A6-8FE8-477A0E47397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f6fc6"/>
                </a:solidFill>
                <a:latin typeface="Calibri"/>
              </a:rPr>
              <a:t>EL SISTEMA MONETARI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una institución encargada de velar supervisar el sistema bancario y de regular la cantidad de dinero que hay en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-22104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Banco Central tiene dos misiones relacionadas entre sí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primera es regular los bancos y garantizar la salud del sistema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segunda es controlar la cantidad de dinero que existe en la economía, llamada oferta monetaria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ofert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cantidad de dinero de que dispone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polític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fijación de la oferta monetaria por parte de las autoridades monetarias en el Banco Centra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Reserv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son depósitos que los bancos han recibido, pero no han prestad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Sistema bancario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el sistema bancario en el que los bancos solo tienen como reservas una fracción de los depósitos y el resto lo presta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l coeficiente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la fracción de los depósitos que tienen los bancos como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 del que tiene en servicios reservas, la oferta monetaria se increment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oferta monetaria se ve afectada por las cantidades depositadas en los bancos y por las cantidades de dinero prestadas por los mism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depósitos bancarios son considerados como un activo y un pasivo a la v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anco Central fija la cantidad mínima de reservas que deben tener los bancos, esto se llama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ancos además pueden tener reservas superiores al mínimo obligatorio, llamadas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exceso de reserv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réstamos son considerados como un activo para el ban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228960" y="1599840"/>
            <a:ext cx="3505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sta cuenta T muestra un banco qu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Acepta depósito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Separa una parte para reservas,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Y presta el resto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Tiene un encaje bancario del 10%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3907440" y="1951200"/>
            <a:ext cx="5335560" cy="4449600"/>
            <a:chOff x="3907440" y="1951200"/>
            <a:chExt cx="5335560" cy="4449600"/>
          </a:xfrm>
        </p:grpSpPr>
        <p:sp>
          <p:nvSpPr>
            <p:cNvPr id="235" name="Line 5"/>
            <p:cNvSpPr/>
            <p:nvPr/>
          </p:nvSpPr>
          <p:spPr>
            <a:xfrm>
              <a:off x="3943080" y="3200400"/>
              <a:ext cx="4722840" cy="0"/>
            </a:xfrm>
            <a:prstGeom prst="line">
              <a:avLst/>
            </a:prstGeom>
            <a:ln w="7632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6227640" y="3278160"/>
              <a:ext cx="0" cy="3122640"/>
            </a:xfrm>
            <a:prstGeom prst="line">
              <a:avLst/>
            </a:prstGeom>
            <a:ln w="507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4406400" y="2604960"/>
              <a:ext cx="1513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6470640" y="2604960"/>
              <a:ext cx="153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4303080" y="1951200"/>
              <a:ext cx="4939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3925800" y="3489480"/>
              <a:ext cx="193464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6292440" y="34894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>
              <a:off x="4552920" y="5486400"/>
              <a:ext cx="1598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390744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634572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5"/>
            <p:cNvSpPr/>
            <p:nvPr/>
          </p:nvSpPr>
          <p:spPr>
            <a:xfrm>
              <a:off x="6914880" y="5486400"/>
              <a:ext cx="1598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, ese dinero es generalmente depositado en otro banc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o anterior crea  más depósitos y más reservas para prestar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realiza un préstamo de sus reservas, se incrementa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¿Cuanto dinero puede ser creado en una economía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ultiplicador del diner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la cantidad de dinero que genera el sistema bancario con cada peso de reserv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SIGNIFICADO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dinero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 es el conjunto de activos de la economía que utilizan los individuos normalmente para comprar bienes y servicios a otras persona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2"/>
          <p:cNvSpPr/>
          <p:nvPr/>
        </p:nvSpPr>
        <p:spPr>
          <a:xfrm>
            <a:off x="4724280" y="1752480"/>
            <a:ext cx="419112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533520" y="1752480"/>
            <a:ext cx="403848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" y="1752480"/>
            <a:ext cx="4359960" cy="4191120"/>
            <a:chOff x="457200" y="1752480"/>
            <a:chExt cx="4359960" cy="4191120"/>
          </a:xfrm>
        </p:grpSpPr>
        <p:sp>
          <p:nvSpPr>
            <p:cNvPr id="254" name="Line 5"/>
            <p:cNvSpPr/>
            <p:nvPr/>
          </p:nvSpPr>
          <p:spPr>
            <a:xfrm>
              <a:off x="598680" y="2909880"/>
              <a:ext cx="3970080" cy="0"/>
            </a:xfrm>
            <a:prstGeom prst="line">
              <a:avLst/>
            </a:prstGeom>
            <a:ln w="255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>
              <a:off x="2517840" y="2982960"/>
              <a:ext cx="0" cy="2960640"/>
            </a:xfrm>
            <a:prstGeom prst="line">
              <a:avLst/>
            </a:prstGeom>
            <a:ln w="25560">
              <a:solidFill>
                <a:srgbClr val="04617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983520" y="2386080"/>
              <a:ext cx="1041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719080" y="2386080"/>
              <a:ext cx="105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476280" y="1752480"/>
              <a:ext cx="434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568080" y="3224160"/>
              <a:ext cx="202464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535840" y="3224160"/>
              <a:ext cx="2166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1111320" y="5076720"/>
              <a:ext cx="134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457200" y="5175360"/>
              <a:ext cx="2289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2514600" y="5175360"/>
              <a:ext cx="2282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3095640" y="5076720"/>
              <a:ext cx="134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Line 17"/>
          <p:cNvSpPr/>
          <p:nvPr/>
        </p:nvSpPr>
        <p:spPr>
          <a:xfrm>
            <a:off x="4745160" y="2930400"/>
            <a:ext cx="4029120" cy="0"/>
          </a:xfrm>
          <a:prstGeom prst="line">
            <a:avLst/>
          </a:prstGeom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6689520" y="3005280"/>
            <a:ext cx="4680" cy="2938320"/>
          </a:xfrm>
          <a:prstGeom prst="line">
            <a:avLst/>
          </a:prstGeom>
          <a:ln w="25560">
            <a:solidFill>
              <a:srgbClr val="04617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5141160" y="2398680"/>
            <a:ext cx="104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6903360" y="239868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4648320" y="1765440"/>
            <a:ext cx="4470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Constantia"/>
              </a:rPr>
              <a:t>Segundo Banc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693320" y="3251160"/>
            <a:ext cx="2024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Reser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8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6735600" y="325116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5264280" y="5137200"/>
            <a:ext cx="136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472104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682992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P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7281720" y="5137200"/>
            <a:ext cx="136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1523880" y="6019920"/>
            <a:ext cx="5883480" cy="106740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6fc6"/>
                </a:solidFill>
                <a:latin typeface="Constantia"/>
              </a:rPr>
              <a:t>Oferta Monetaria= $190.00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0"/>
          <p:cNvSpPr/>
          <p:nvPr/>
        </p:nvSpPr>
        <p:spPr>
          <a:xfrm flipV="1">
            <a:off x="2514600" y="3719520"/>
            <a:ext cx="5273640" cy="852480"/>
          </a:xfrm>
          <a:prstGeom prst="line">
            <a:avLst/>
          </a:prstGeom>
          <a:ln w="50760">
            <a:solidFill>
              <a:srgbClr val="b0001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multiplicador del dinero es la inversa del coeficiente de reserva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M = 1/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cantidad de dinero que crean los bancos depende del coeficiente de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on un encaje,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R = 20%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1/5,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l multiplicador del dinero es 5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Banco Central tiene tres instrumento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Operaciones de mercado abier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Reservas obligatorias o encaje bancari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tasa de descuen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708120" indent="-40068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Operaciones de mercado abier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realiza operaciones de mercado abierto cuando vende o compra bonos del Estado al públ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incrementar la oferta monetaria, el Banco Central compra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disminuir la oferta monetaria, el Banco Central vende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795240" indent="-51984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Cantidad mínima de reservas que deben tener los bancos para respaldar los depósit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ncrementar el encaje bancario hace disminui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Disminuir el encaje bancario hace aumenta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1" marL="749880" indent="-48996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Tasa de descuen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Tasa de interés de los préstamos que concede el Banco Central a los Bancos comerciant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Incrementar la tasa de descuento hace disminui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isminuir la tasa de descuento hace aumenta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Problemas que plantea el control de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no puede controlar con precisión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debe lidiar con dos problemas que surgen debido a que la oferta monetaria es creada por el sistema bancario de reservas fraccionaria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los hogares deciden tener depositado en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deciden prestar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dinero desempeña </a:t>
            </a:r>
            <a:r>
              <a:rPr b="0" lang="es-CL" sz="3600" spc="-1" strike="noStrike" u="sng">
                <a:solidFill>
                  <a:srgbClr val="000000"/>
                </a:solidFill>
                <a:uFillTx/>
                <a:latin typeface="Constantia"/>
              </a:rPr>
              <a:t>tres funciones 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n la economía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Medio de cambi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Unidad de cuent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Depósito de valo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un artículo que los compradores entregan a los vendedores cuando quieren comprar bienes y servici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medio de cambio es cualquier cosa que es generalmente aceptada como pag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Unidad de cuen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Unidad de cuenta es un patrón que utilizan los individuos para marcar los precios y registrar las deuda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 de valor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epósito de valor es un artículo que pueden utilizar los individuos para transferir poder adquisitivo del presente al futur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Liquidez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Facilidad con que puede convertirse un activo en medio de cambio en la economía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TIPOS DE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- mercancí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adopta la forma de una mercancía que tiene un valor intrínseco. Por ejemplo: Plata, oro, cigarrillo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 fiduciar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carece de valor intrínseco y que se utiliza como dinero por decreto gubernamental. Por ejemplo: Monedas, billete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EL DINERO EN LAS ECONOMÍAS MODERN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fectiv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billetes y las monedas que están en manos del público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s a la vis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saldos de las cuentas bancarias a los que los depositantes tienen acceso a la vista extendiendo un chequ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CASO PRÁCTICO: ¿DÓNDE ESTÁ TODO EL EFECTIVO DE EEUU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2001 había alrededor de 580.000 millones de dólares de efectivo en circul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e calculo implica que el adulto promedio en EEUU tenía alrededor de US 2.734 en efectiv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ién tiene todo este efectiv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adie lo sabe a ciencia cierta, pero se cree que una gran parte se encuentra en otros países y la otra parte en manos de narcotraficantes, evasores de impuestos y otros delincu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5:24:34Z</dcterms:created>
  <dc:creator>Andrea</dc:creator>
  <dc:description/>
  <dc:language>en-US</dc:language>
  <cp:lastModifiedBy> </cp:lastModifiedBy>
  <dcterms:modified xsi:type="dcterms:W3CDTF">2009-11-04T02:38:49Z</dcterms:modified>
  <cp:revision>51</cp:revision>
  <dc:subject/>
  <dc:title>Contenidos del dia</dc:title>
</cp:coreProperties>
</file>