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6A7E-3BFE-4C69-AB45-707982ABC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D7F2-1CBD-4DE0-B06A-7A9AA2FE3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4E69-C00C-4610-B2B0-8EC2D73D0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992A-C234-4D88-9C6D-C7F4CAC43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F839-E680-4F87-95F4-4906AB701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C2F0-8B81-4F3A-9FB4-110AD25B5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BF40-7AA8-4779-95B7-D47A3D71D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616E-D47E-4F3D-A6D1-A489285CD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19A1-A607-4E70-8F2F-765E52B48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6736-703B-4762-9D83-82A11429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17C4-768C-4BF7-BF9A-3AE0EA89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A899-7B8F-4EB2-8EC0-81412CCA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69521-A038-4F14-8E01-F70E9F996F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pmoraga@derecho.uchile.cl" TargetMode="External"/><Relationship Id="rId2" Type="http://schemas.openxmlformats.org/officeDocument/2006/relationships/hyperlink" Target="http://www.derecho.uchile.cl/cda/cda2006/programa_domeyko/index.html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Garamond"/>
              </a:rPr>
              <a:t>CONFLICTOS AMBIENT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26920" y="1413000"/>
            <a:ext cx="8737920" cy="51260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074080" y="0"/>
            <a:ext cx="1069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99"/>
                </a:solidFill>
                <a:latin typeface="Garamond"/>
              </a:rPr>
              <a:t>CONFLICTOS AMBIENTALES:</a:t>
            </a:r>
            <a:br>
              <a:rPr sz="2800"/>
            </a:br>
            <a:r>
              <a:rPr b="1" lang="fr-FR" sz="2800" spc="-1" strike="noStrike">
                <a:solidFill>
                  <a:srgbClr val="000099"/>
                </a:solidFill>
                <a:latin typeface="Garamond"/>
              </a:rPr>
              <a:t>PROYECTOS ENERGETICOS MAS CONFLIC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03440" y="1677960"/>
            <a:ext cx="7735680" cy="43704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8074080" y="0"/>
            <a:ext cx="1069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Garamond"/>
              </a:rPr>
              <a:t>Objetivos del Tal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333399"/>
                </a:solidFill>
                <a:uFillTx/>
                <a:latin typeface="Garamond"/>
              </a:rPr>
              <a:t>GENER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Garamond"/>
              </a:rPr>
              <a:t>	</a:t>
            </a:r>
            <a:r>
              <a:rPr b="1" i="1" lang="es-ES_tradnl" sz="3200" spc="-1" strike="noStrike">
                <a:solidFill>
                  <a:srgbClr val="333399"/>
                </a:solidFill>
                <a:latin typeface="Garamond"/>
              </a:rPr>
              <a:t>Contribuir </a:t>
            </a:r>
            <a:r>
              <a:rPr b="0" lang="es-ES_tradnl" sz="3200" spc="-1" strike="noStrike">
                <a:solidFill>
                  <a:srgbClr val="333399"/>
                </a:solidFill>
                <a:latin typeface="Garamond"/>
              </a:rPr>
              <a:t>al Proyecto Energía Medio Ambiente y Regulación con horas de investigación, en miras a </a:t>
            </a:r>
            <a:r>
              <a:rPr b="1" i="1" lang="es-ES_tradnl" sz="3200" spc="-1" strike="noStrike">
                <a:solidFill>
                  <a:srgbClr val="333399"/>
                </a:solidFill>
                <a:latin typeface="Garamond"/>
              </a:rPr>
              <a:t>determinar</a:t>
            </a:r>
            <a:r>
              <a:rPr b="0" lang="es-ES_tradnl" sz="3200" spc="-1" strike="noStrike">
                <a:solidFill>
                  <a:srgbClr val="333399"/>
                </a:solidFill>
                <a:latin typeface="Garamond"/>
              </a:rPr>
              <a:t> la compatibilidad de los proyectos energéticos desarrollados en nuestro país con la protección y respeto al medio ambi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074080" y="0"/>
            <a:ext cx="1069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Garamond"/>
              </a:rPr>
              <a:t>ESPECÍFICO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Garamond"/>
              </a:rPr>
              <a:t>Desarrollar la capacidad de investigar, analizar, opinar y elaborar una problemática de investigación, respecto de alguno de los tópicos descritos en los conteni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Garamond"/>
              </a:rPr>
              <a:t>Elaborar un proyecto de memoria que contenga una breve introducción, descripción de la problemática y bibliografía, respecto del tema de preferencia del alumno en relación al marco de contenidos del cur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Garamond"/>
              </a:rPr>
              <a:t>Redactar un artículo, con suficiente calidad para ser publicado en la temática general del curso (15 a 20 pag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Garamond"/>
              </a:rPr>
              <a:t>Redactar una nota para el blog del Centro de Derecho Ambiental en un tema de relevancia internacional que diga relación con el marco jurídico internacional de la Energ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8074080" y="0"/>
            <a:ext cx="1069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Garamond"/>
              </a:rPr>
              <a:t>Metodolog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4358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-55440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Garamond"/>
              </a:rPr>
              <a:t>Análisis de los casos de proyectos energéticos enunciados en el estudio de la Fundación Terram 200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Garamond"/>
              </a:rPr>
              <a:t>Para alcanzar los objetivos descritos el curso deberá elaborar una plantilla de análisis de los casos que hayan sido conocidos por los tribunales de justi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Garamond"/>
              </a:rPr>
              <a:t>Respecto de los casos que no fueron resueltos en tribunales, se deberá determinar cuál fue el método de resolución alternativo de conflictos empel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Garamond"/>
              </a:rPr>
              <a:t>Con dicha plantilla se analizarán los casos judicializ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Garamond"/>
              </a:rPr>
              <a:t>A partir del análisis comparados de casos que se relacionen con un mismo tipo de fuente y si fuera pertinente un análisis cruzado de diversos tipos de fuentes, se elaborarán las conclus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Garamond"/>
              </a:rPr>
              <a:t>En todos los casos las conclusiones finales deben tratar de establecer si la resolución judicial del conflicto da suficientes garantías de protección al art. 19 n° 8 de la constitu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8074080" y="0"/>
            <a:ext cx="1069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971640" y="2133720"/>
            <a:ext cx="7777080" cy="29041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¡</a:t>
            </a:r>
            <a:r>
              <a:rPr b="1" lang="fr-FR" sz="2400" spc="-1" strike="noStrike">
                <a:solidFill>
                  <a:srgbClr val="000099"/>
                </a:solidFill>
                <a:latin typeface="Arial"/>
              </a:rPr>
              <a:t>GRACIA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Pilar Moraga Sarie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moraga@derecho.uchile.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derecho.uchile.cl/cda/cda2006/programa_domeyko/index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3924360" y="0"/>
            <a:ext cx="1247760" cy="13334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7020000" y="2421000"/>
            <a:ext cx="1439640" cy="744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3203640" y="5661000"/>
            <a:ext cx="2879640" cy="8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2320920"/>
            <a:ext cx="8229600" cy="38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¡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GRACIA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99"/>
                </a:solidFill>
                <a:latin typeface="Garamond"/>
              </a:rPr>
              <a:t>CONFLICTOS AMBIENT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4360" y="1827360"/>
            <a:ext cx="79992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24880" indent="-524880" algn="ctr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99"/>
                </a:solidFill>
                <a:latin typeface="Garamond"/>
              </a:rPr>
              <a:t>ORI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4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4880" indent="-5248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99"/>
                </a:solidFill>
                <a:latin typeface="Garamond"/>
              </a:rPr>
              <a:t>Los beneficios de los proyectos energéticos son generales, pero sus impactos loc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4880" indent="-5248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99"/>
                </a:solidFill>
                <a:latin typeface="Garamond"/>
              </a:rPr>
              <a:t>Los proyectos energéticos no son intensivos en mano de ob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4880" indent="-5248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99"/>
                </a:solidFill>
                <a:latin typeface="Garamond"/>
              </a:rPr>
              <a:t>Dado el sistema impositivo, tampoco generan muchos recursos tributarios para la comu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4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4880" indent="0" algn="r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99"/>
                </a:solidFill>
                <a:latin typeface="Garamond"/>
              </a:rPr>
              <a:t>P.91. Política Energética Nuevos Lineamientos, CNE, 200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074080" y="0"/>
            <a:ext cx="1069920" cy="1143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524720" y="1557360"/>
            <a:ext cx="1093680" cy="12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806616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Garamond"/>
              </a:rPr>
              <a:t>CONFLICTOS AMBIENTALES: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Garamond"/>
              </a:rPr>
              <a:t>RESPUESTAS GUBERNAMENT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74872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38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 u="sng">
                <a:solidFill>
                  <a:srgbClr val="000099"/>
                </a:solidFill>
                <a:uFillTx/>
                <a:latin typeface="Garamond"/>
              </a:rPr>
              <a:t>A. Anuncios recientes del ejecutivo en torno a dos proyectos de ley Cena Anual de Energia, enero 2009)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38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38120" indent="-438120">
              <a:lnSpc>
                <a:spcPct val="80000"/>
              </a:lnSpc>
              <a:spcBef>
                <a:spcPts val="37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 u="sng">
                <a:solidFill>
                  <a:srgbClr val="000099"/>
                </a:solidFill>
                <a:uFillTx/>
                <a:latin typeface="Garamond"/>
              </a:rPr>
              <a:t>OBJETIVOS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38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38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99"/>
                </a:solidFill>
                <a:latin typeface="Garamond"/>
              </a:rPr>
              <a:t>1.   Reducir la oposici</a:t>
            </a:r>
            <a:r>
              <a:rPr b="0" lang="en-US" sz="1500" spc="-1" strike="noStrike">
                <a:solidFill>
                  <a:srgbClr val="000099"/>
                </a:solidFill>
                <a:latin typeface="Garamond"/>
              </a:rPr>
              <a:t>ó</a:t>
            </a:r>
            <a:r>
              <a:rPr b="0" lang="fr-FR" sz="1500" spc="-1" strike="noStrike">
                <a:solidFill>
                  <a:srgbClr val="000099"/>
                </a:solidFill>
                <a:latin typeface="Garamond"/>
              </a:rPr>
              <a:t>n local a los proyecto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38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99"/>
                </a:solidFill>
                <a:latin typeface="Garamond"/>
              </a:rPr>
              <a:t>2.   Internalizar los beneficios nacionales de los proyectos en las comuna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38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38120" indent="-438120">
              <a:lnSpc>
                <a:spcPct val="80000"/>
              </a:lnSpc>
              <a:spcBef>
                <a:spcPts val="37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 u="sng">
                <a:solidFill>
                  <a:srgbClr val="000099"/>
                </a:solidFill>
                <a:uFillTx/>
                <a:latin typeface="Garamond"/>
              </a:rPr>
              <a:t>ACCIONES</a:t>
            </a:r>
            <a:r>
              <a:rPr b="1" lang="fr-FR" sz="1500" spc="-1" strike="noStrike">
                <a:solidFill>
                  <a:srgbClr val="000099"/>
                </a:solidFill>
                <a:latin typeface="Garamond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38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38120" indent="-438120">
              <a:lnSpc>
                <a:spcPct val="80000"/>
              </a:lnSpc>
              <a:spcBef>
                <a:spcPts val="374"/>
              </a:spcBef>
              <a:buClr>
                <a:srgbClr val="0000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99"/>
                </a:solidFill>
                <a:latin typeface="Garamond"/>
              </a:rPr>
              <a:t>Modificaci</a:t>
            </a:r>
            <a:r>
              <a:rPr b="0" lang="en-US" sz="1500" spc="-1" strike="noStrike">
                <a:solidFill>
                  <a:srgbClr val="000099"/>
                </a:solidFill>
                <a:latin typeface="Garamond"/>
              </a:rPr>
              <a:t>ón reglamentaria para el </a:t>
            </a:r>
            <a:r>
              <a:rPr b="1" lang="en-US" sz="1500" spc="-1" strike="noStrike">
                <a:solidFill>
                  <a:srgbClr val="000099"/>
                </a:solidFill>
                <a:latin typeface="Garamond"/>
              </a:rPr>
              <a:t>p</a:t>
            </a:r>
            <a:r>
              <a:rPr b="1" lang="fr-FR" sz="1500" spc="-1" strike="noStrike">
                <a:solidFill>
                  <a:srgbClr val="000099"/>
                </a:solidFill>
                <a:latin typeface="Garamond"/>
              </a:rPr>
              <a:t>ago de patentes de generadoras eléctricas</a:t>
            </a:r>
            <a:r>
              <a:rPr b="0" lang="fr-FR" sz="1500" spc="-1" strike="noStrike">
                <a:solidFill>
                  <a:srgbClr val="000099"/>
                </a:solidFill>
                <a:latin typeface="Garamond"/>
              </a:rPr>
              <a:t> a partir de 2010 directa a los municipios donde se instalen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38120" indent="-438120">
              <a:lnSpc>
                <a:spcPct val="80000"/>
              </a:lnSpc>
              <a:spcBef>
                <a:spcPts val="374"/>
              </a:spcBef>
              <a:buClr>
                <a:srgbClr val="0000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99"/>
                </a:solidFill>
                <a:latin typeface="Garamond"/>
              </a:rPr>
              <a:t>Obligaci</a:t>
            </a:r>
            <a:r>
              <a:rPr b="0" lang="en-US" sz="1500" spc="-1" strike="noStrike">
                <a:solidFill>
                  <a:srgbClr val="000099"/>
                </a:solidFill>
                <a:latin typeface="Garamond"/>
              </a:rPr>
              <a:t>ó</a:t>
            </a:r>
            <a:r>
              <a:rPr b="0" lang="fr-FR" sz="1500" spc="-1" strike="noStrike">
                <a:solidFill>
                  <a:srgbClr val="000099"/>
                </a:solidFill>
                <a:latin typeface="Garamond"/>
              </a:rPr>
              <a:t>n de las empresas de contribuir al desarrollo local de las comunas, por medio del pago de cada MW instalado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38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38120" indent="-438120">
              <a:lnSpc>
                <a:spcPct val="80000"/>
              </a:lnSpc>
              <a:spcBef>
                <a:spcPts val="37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 u="sng">
                <a:solidFill>
                  <a:srgbClr val="000099"/>
                </a:solidFill>
                <a:uFillTx/>
                <a:latin typeface="Garamond"/>
              </a:rPr>
              <a:t>CR</a:t>
            </a:r>
            <a:r>
              <a:rPr b="1" lang="en-US" sz="1500" spc="-1" strike="noStrike" u="sng">
                <a:solidFill>
                  <a:srgbClr val="000099"/>
                </a:solidFill>
                <a:uFillTx/>
                <a:latin typeface="Garamond"/>
              </a:rPr>
              <a:t>Í</a:t>
            </a:r>
            <a:r>
              <a:rPr b="1" lang="fr-FR" sz="1500" spc="-1" strike="noStrike" u="sng">
                <a:solidFill>
                  <a:srgbClr val="000099"/>
                </a:solidFill>
                <a:uFillTx/>
                <a:latin typeface="Garamond"/>
              </a:rPr>
              <a:t>TICAS</a:t>
            </a:r>
            <a:r>
              <a:rPr b="1" lang="fr-FR" sz="1500" spc="-1" strike="noStrike">
                <a:solidFill>
                  <a:srgbClr val="000099"/>
                </a:solidFill>
                <a:latin typeface="Garamond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38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38120" indent="-438120">
              <a:lnSpc>
                <a:spcPct val="80000"/>
              </a:lnSpc>
              <a:spcBef>
                <a:spcPts val="374"/>
              </a:spcBef>
              <a:buClr>
                <a:srgbClr val="0000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99"/>
                </a:solidFill>
                <a:latin typeface="Garamond"/>
              </a:rPr>
              <a:t>Este pago da derecho  a la empresa que paga de obener un crédito del estado, lo que equivaldria a una forma de subsidio estatal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38120" indent="-438120">
              <a:lnSpc>
                <a:spcPct val="80000"/>
              </a:lnSpc>
              <a:spcBef>
                <a:spcPts val="374"/>
              </a:spcBef>
              <a:buClr>
                <a:srgbClr val="0000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99"/>
                </a:solidFill>
                <a:latin typeface="Garamond"/>
              </a:rPr>
              <a:t>La discusi</a:t>
            </a:r>
            <a:r>
              <a:rPr b="0" lang="en-US" sz="1500" spc="-1" strike="noStrike">
                <a:solidFill>
                  <a:srgbClr val="000099"/>
                </a:solidFill>
                <a:latin typeface="Garamond"/>
              </a:rPr>
              <a:t>ó</a:t>
            </a:r>
            <a:r>
              <a:rPr b="0" lang="fr-FR" sz="1500" spc="-1" strike="noStrike">
                <a:solidFill>
                  <a:srgbClr val="000099"/>
                </a:solidFill>
                <a:latin typeface="Garamond"/>
              </a:rPr>
              <a:t>n se reduce a la energ</a:t>
            </a:r>
            <a:r>
              <a:rPr b="0" lang="en-US" sz="1500" spc="-1" strike="noStrike">
                <a:solidFill>
                  <a:srgbClr val="000099"/>
                </a:solidFill>
                <a:latin typeface="Garamond"/>
              </a:rPr>
              <a:t>ía eléctrica, siendo que sólo el 19% de la matriz se destina a este fin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38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38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 u="sng">
                <a:solidFill>
                  <a:srgbClr val="000099"/>
                </a:solidFill>
                <a:uFillTx/>
                <a:latin typeface="Garamond"/>
              </a:rPr>
              <a:t>B. Aplicación Convenio 169 OIT sobre pueblos indígenas y tribales. Vigencia: Sept.2009 </a:t>
            </a:r>
            <a:r>
              <a:rPr b="1" lang="fr-FR" sz="1500" spc="-1" strike="noStrike">
                <a:solidFill>
                  <a:srgbClr val="000099"/>
                </a:solidFill>
                <a:latin typeface="Garamond"/>
              </a:rPr>
              <a:t>(después de 17 años de tramitación en el Congreso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074080" y="0"/>
            <a:ext cx="1069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85988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Garamond"/>
              </a:rPr>
              <a:t>CONFLICTOS AMBIENTALES EN CIFR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332000" y="2060640"/>
            <a:ext cx="7053120" cy="2700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8074080" y="0"/>
            <a:ext cx="1069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7040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Garamond"/>
              </a:rPr>
              <a:t>CONFLICTOS AMBIENTALES:</a:t>
            </a:r>
            <a:br>
              <a:rPr sz="3600"/>
            </a:br>
            <a:r>
              <a:rPr b="0" lang="fr-FR" sz="3600" spc="-1" strike="noStrike">
                <a:solidFill>
                  <a:srgbClr val="000099"/>
                </a:solidFill>
                <a:latin typeface="Garamond"/>
              </a:rPr>
              <a:t>PROYECTOS ENERGETICOS EN EL SE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Garamond"/>
              </a:rPr>
              <a:t>Aumento Progres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87280" y="2637000"/>
            <a:ext cx="7053480" cy="34876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8074080" y="0"/>
            <a:ext cx="1069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75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Garamond"/>
              </a:rPr>
              <a:t>CONFLICTOS AMBIENTALES:</a:t>
            </a:r>
            <a:br>
              <a:rPr sz="3600"/>
            </a:br>
            <a:r>
              <a:rPr b="0" lang="fr-FR" sz="3600" spc="-1" strike="noStrike">
                <a:solidFill>
                  <a:srgbClr val="000099"/>
                </a:solidFill>
                <a:latin typeface="Garamond"/>
              </a:rPr>
              <a:t>PROYECTOS ENERGETICOS EN EL SE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236600" y="2050920"/>
            <a:ext cx="6670800" cy="36244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8074080" y="0"/>
            <a:ext cx="1069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30132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Garamond"/>
              </a:rPr>
              <a:t>CONFLICTOS AMBIENTALES:</a:t>
            </a:r>
            <a:br>
              <a:rPr sz="3600"/>
            </a:br>
            <a:r>
              <a:rPr b="0" lang="fr-FR" sz="3600" spc="-1" strike="noStrike">
                <a:solidFill>
                  <a:srgbClr val="000099"/>
                </a:solidFill>
                <a:latin typeface="Garamond"/>
              </a:rPr>
              <a:t>PROYECTOS ENERGETICOS EN EL SE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Garamond"/>
              </a:rPr>
              <a:t>Distribuci</a:t>
            </a:r>
            <a:r>
              <a:rPr b="0" lang="en-US" sz="3200" spc="-1" strike="noStrike">
                <a:solidFill>
                  <a:srgbClr val="000099"/>
                </a:solidFill>
                <a:latin typeface="Garamond"/>
              </a:rPr>
              <a:t>ó</a:t>
            </a:r>
            <a:r>
              <a:rPr b="0" lang="fr-FR" sz="3200" spc="-1" strike="noStrike">
                <a:solidFill>
                  <a:srgbClr val="000099"/>
                </a:solidFill>
                <a:latin typeface="Garamond"/>
              </a:rPr>
              <a:t>n de proyectos por regi</a:t>
            </a:r>
            <a:r>
              <a:rPr b="0" lang="en-US" sz="3200" spc="-1" strike="noStrike">
                <a:solidFill>
                  <a:srgbClr val="000099"/>
                </a:solidFill>
                <a:latin typeface="Garamond"/>
              </a:rPr>
              <a:t>ó</a:t>
            </a:r>
            <a:r>
              <a:rPr b="0" lang="fr-FR" sz="3200" spc="-1" strike="noStrike">
                <a:solidFill>
                  <a:srgbClr val="000099"/>
                </a:solidFill>
                <a:latin typeface="Garamond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26920" y="2421000"/>
            <a:ext cx="7188480" cy="38354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74080" y="0"/>
            <a:ext cx="1069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99"/>
                </a:solidFill>
                <a:latin typeface="Garamond"/>
              </a:rPr>
              <a:t>CONFLICTOS AMBIENTALES:</a:t>
            </a:r>
            <a:br>
              <a:rPr sz="4000"/>
            </a:br>
            <a:r>
              <a:rPr b="0" lang="fr-FR" sz="4000" spc="-1" strike="noStrike">
                <a:solidFill>
                  <a:srgbClr val="000099"/>
                </a:solidFill>
                <a:latin typeface="Garamond"/>
              </a:rPr>
              <a:t>CONCLUS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0000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99"/>
                </a:solidFill>
                <a:latin typeface="Garamond"/>
              </a:rPr>
              <a:t>Periodo estudio:2000-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99"/>
                </a:solidFill>
                <a:latin typeface="Garamond"/>
              </a:rPr>
              <a:t>196 proyectos de generacion eléctrica ingresados al SE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99"/>
                </a:solidFill>
                <a:latin typeface="Garamond"/>
              </a:rPr>
              <a:t>149 aprobados o en estado de calificaci</a:t>
            </a:r>
            <a:r>
              <a:rPr b="0" lang="en-US" sz="2800" spc="-1" strike="noStrike">
                <a:solidFill>
                  <a:srgbClr val="000099"/>
                </a:solidFill>
                <a:latin typeface="Garamond"/>
              </a:rPr>
              <a:t>ó</a:t>
            </a:r>
            <a:r>
              <a:rPr b="0" lang="fr-FR" sz="2800" spc="-1" strike="noStrike">
                <a:solidFill>
                  <a:srgbClr val="000099"/>
                </a:solidFill>
                <a:latin typeface="Garamond"/>
              </a:rPr>
              <a:t>n ambien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99"/>
                </a:solidFill>
                <a:latin typeface="Garamond"/>
              </a:rPr>
              <a:t>37 de los 149 son la causa de conflictos ambientales = 24,8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99"/>
                </a:solidFill>
                <a:latin typeface="Garamond"/>
              </a:rPr>
              <a:t>Respecto del potencial de generaci</a:t>
            </a:r>
            <a:r>
              <a:rPr b="0" lang="en-US" sz="2800" spc="-1" strike="noStrike">
                <a:solidFill>
                  <a:srgbClr val="000099"/>
                </a:solidFill>
                <a:latin typeface="Garamond"/>
              </a:rPr>
              <a:t>ón= </a:t>
            </a:r>
            <a:r>
              <a:rPr b="0" lang="fr-FR" sz="2800" spc="-1" strike="noStrike">
                <a:solidFill>
                  <a:srgbClr val="000099"/>
                </a:solidFill>
                <a:latin typeface="Garamond"/>
              </a:rPr>
              <a:t>71% proyectos termoeléctricos y 23% proyectos hidroeléctr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074080" y="0"/>
            <a:ext cx="1069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Garamond"/>
              </a:rPr>
              <a:t>CONFLICTOS AMBIENTALES:</a:t>
            </a:r>
            <a:br>
              <a:rPr sz="3600"/>
            </a:br>
            <a:r>
              <a:rPr b="0" lang="fr-FR" sz="3600" spc="-1" strike="noStrike">
                <a:solidFill>
                  <a:srgbClr val="000099"/>
                </a:solidFill>
                <a:latin typeface="Garamond"/>
              </a:rPr>
              <a:t>CONFLICTOS POR REG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851120" y="1600200"/>
            <a:ext cx="5441760" cy="4525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8074080" y="0"/>
            <a:ext cx="1069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1T20:10:04Z</dcterms:created>
  <dc:creator>pmoraga</dc:creator>
  <dc:description/>
  <dc:language>en-US</dc:language>
  <cp:lastModifiedBy>pmoraga</cp:lastModifiedBy>
  <dcterms:modified xsi:type="dcterms:W3CDTF">2009-08-31T22:02:18Z</dcterms:modified>
  <cp:revision>3</cp:revision>
  <dc:subject/>
  <dc:title>Diapositiva 1</dc:title>
</cp:coreProperties>
</file>