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F96C-0DA9-444C-90C8-5AE8D8C4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C55E-244C-4BE2-980B-AEF7DCE750F5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3D5-F4BC-44BD-8227-69BBD667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D24-A666-4B86-8260-8FD53C0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926-BE61-492A-8918-0DEBB98B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A0E-EFA8-4132-9736-FEF299EB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642E-6D65-4D8A-A942-5171E2BA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48CF-DBC4-4C5B-9766-79467A5B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C938-FB97-4FEA-96B6-87E67BD4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73CF-F0CE-437B-BBA3-043F47BC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C4AB-D5FD-4652-BC5D-031BB0C9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FFBD-EC84-4EFD-90E8-C01C6A0A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6C4E-7F67-43CB-A0FD-67C00829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C16-A7DE-4B98-BB82-189665B4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C00E-87D6-4A3A-A16B-B1E903A4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DC06-E0EE-484D-A503-4F5FC1D3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DA62-676B-4D19-9B32-64AEA55C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B03F-1EEF-4A67-B026-EF13ED13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5C45-4A8E-44F9-8C2A-DDF89009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107-628B-4C08-B205-32DD739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4D3-4CC8-4813-8666-608DF667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8BF-F7C7-4AC3-9D9A-37C48462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1E0-BF08-4D10-839A-8BF10C60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E84-6EED-495D-9815-56AE1310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FA6-E850-4989-BAF4-D6518D1E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9D3-03B9-4CC6-BC52-EB89F96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75B0-B495-4FC9-A899-C7A0F595B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E45E-663F-4220-B379-6EAEDD0B515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7845-2F4B-4360-AD04-24CB7E74A0B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7A0D-7164-427D-BE2C-7CDD8579A1F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ECE3-8234-4A14-ABB2-530BC93C3E0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1598-2CC5-41C1-90FF-673C33D6B7C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46C9-FB1B-4634-87DE-E1B25E6036B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F6B-38C2-495C-B555-2263F5C363C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57D-5BC7-4F1D-B5D5-65C7B64B025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E8D5-1AC1-49EE-A1C1-B27754AE08F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9EFE-1550-4F4D-BD66-F217AD6464E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254F-24FB-4F5E-8A5D-FB6D8AEE998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l de lectura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bajo de investigación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en final : 4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14 recursos presentados contra Isapres durante 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pres perdieron el 96% de es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8 durante el primer semestre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 3 mil millones de pesos pagados a abogados en c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aplicabilidad perdidas en el TC relativas a la tabla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esto no obstante una gran reforma a la salud del año 2005 (GES o AU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0570-11B9-4744-B9C8-00EACBC235E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2BFD-677C-46AA-BF5B-74FE94B452C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:http://web.derecho.uchile.cl/pregrado/2010_1/pro_d.php?recordID=8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l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1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 Internacional de Derechos Económicos, Sociales y Cultur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tículo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21, 22 y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F09A-71C3-4AB1-8822-B737C6CCF7C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9211-61EF-4A36-9CE1-D0BAF013F6A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B7BB-65C8-4EBE-8D54-5DF5BF0D9DD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3084-FD0C-4B51-A4E5-357F4CB1022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43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791320" y="449568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943600" y="4572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4876920" y="312372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7FEA-738A-4ABB-BC62-C8F88D9A42E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C252-EB0B-4D00-A33A-0B7A1A1D701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FE08-5729-4CD1-8DCF-37852B4AA4B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4:35:34Z</dcterms:created>
  <dc:creator>jlcarden</dc:creator>
  <dc:description/>
  <dc:language>en-US</dc:language>
  <cp:lastModifiedBy>Santiago Montt</cp:lastModifiedBy>
  <dcterms:modified xsi:type="dcterms:W3CDTF">2010-03-23T22:27:01Z</dcterms:modified>
  <cp:revision>11</cp:revision>
  <dc:subject/>
  <dc:title>Derecho Constitucional Económico</dc:title>
</cp:coreProperties>
</file>