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72D-5CA0-4B31-A9AA-E68DD121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3970-18B2-44B8-BD10-60AC22E500B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1CF-E435-4E20-A7B0-E580ADFE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4CC-5794-4235-A16E-0664586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B17-5B68-4150-AA5C-4CF8F379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EAD-C174-4567-AA1E-235A660D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1760-C152-46F8-B12A-8EE545EB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698E-142B-464A-ABA9-DA2149A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A758-842F-42B5-A8DD-67074C56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F00C-F400-458C-8D9B-2ACBC0C7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F2FD-BED5-48CB-9AEB-FDA21627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D707-7CF5-4DC0-AA60-3830A767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7F34-B049-4ED6-9C28-04930D4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1E6-B044-472D-A10C-599B9596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94CA-0C10-431A-9E22-98796DE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2D04-9352-44D2-B6C1-1CB80E8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625-4E00-4DF8-B6A2-1BDF175A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324E-B7D9-467B-9BFE-E87A4CB6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51D3-536C-4572-8EF6-3234E71B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87A-D5AF-40D9-8467-7EE0AFF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F8A-FD2D-45E9-BE60-766E1B9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B78-E6D0-4445-AC45-510B377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6A6-6393-4898-9C02-528DC23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784-4858-422B-89EB-8F8892E8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93C-E2EE-4BC1-B5AE-2E22DC8E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CA4-59B2-40F4-94F9-D83C815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173A-1219-4B57-AB87-633A5FEC5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E3E8-56A9-4F50-8CD0-1A6C7C82459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mahealthconnector.org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rit.news.findlaw.com/dorf/20091021.html" TargetMode="External"/><Relationship Id="rId2" Type="http://schemas.openxmlformats.org/officeDocument/2006/relationships/hyperlink" Target="http://writ.news.findlaw.com/dorf/2009110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4 y 5: 1 y 6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de las pre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mediatamente para los niños y gradualmente para 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ción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-risk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ón para las compañías de seguro de renovar las pólizas, incluyendo el caso de enfermos gr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das anti-selección adversa (estabilización de pr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 del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fathering: el que le gusta su póliza se la puede que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379-5332-4115-A791-52ACFD5F4EA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e los denominados “lifetime limits” y los límites anuales sobre los beneficios (definitivamente a partir de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mites 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of-pocket expen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pagos y deducibles, entre o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car aumento de precios de los planes de salud (para evitar que se eche a los más clientes más ca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079-A3B0-4D55-9101-D1C510CA8CD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ibe la discriminación basada en género y sal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o a los seguros en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a la discriminación de precios por edad y consumo de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ad: no más de 3 veces de la prim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aco: no más de 1.5 v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óvenes de hasta 26 años podrán ser carga de sus 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5F0-7928-4BB9-A6F4-F189332DD21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id y subsid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para los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quienes ganen menos de 133% del sueldo mínimo federal tendrán acceso a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el Premium Assistance Tax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2% al 9.5% del sueldo mínimo federal para quienes ganen entre 133 y 400% el sueldo mínim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mites a los out-of-pocket expenses en esa misma categoría (entre 94% y 7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4CC5-96F1-4B0E-9555-B078ACAADE0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édito fiscal para empresas pequeñ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ción y acceso a bolsas de seguros (a nivel estatal) (empresas hasta 50 o 100 empleados, según Es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de internet: ver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www.mahealthconnector.org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ción por precio: “one stop shopping that promotes competition and choic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o dos bolsas: una para empresas (para la compra de seguro para sus empleados) y otra para empl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ndardización de cober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ularios únicas, única forma de presentar l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ige ciertas prestaciones básicas para calificar como “Qualified Health Plan” y poder ser ofertados en las bols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ita el costo out-of-pocket de los asegurados: US$7 mil por persona y US$12 mil por fami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ece cuatro niveles de cobertura: bronce (60% de la cobertura), plata (70%), oro (80%) y platino (90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ñías están obligadas a tratar a todos los empleados como un p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rar la portabilidad de las póli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 empresas entregan su aporte a la bo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 empleados deciden su seguro y pagan con plata pre-im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8D03-5556-490F-BFA0-9EE23B6F4CA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nción de cos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: “regla del 2.5%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lsa de seguro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BCD-C6E4-4F22-85D2-8FD5CBC27CE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re “Donut Hol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cription Part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absurdo: No se paga hasta US$2.830 y no se paga desde US$4.550, pero sí se paga en la mi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EDC8-96FD-48E9-9FF6-B279A4A9B63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a constitucional del “individual mandat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dos artículos interesantes de Michael Dor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liber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rit.news.findlaw.com/dorf/200910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de la falta de autoridad del Congreso y la “commerce cla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rit.news.findlaw.com/dorf/2009110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B2BE-0143-4612-9F27-134A3B02EB9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4B1-76DB-4E68-907F-24148A47348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ES" sz="4200" spc="-1" strike="noStrike">
                <a:solidFill>
                  <a:srgbClr val="000000"/>
                </a:solidFill>
                <a:latin typeface="Arial"/>
              </a:rPr>
              <a:t>he Patient Protection and Affordable Care A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forma de Salud de O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roblemas 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uestiones de 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aul Krugman, la reforma es conceptualmente senci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s compañías de seguros para que no puedan hacer “cherry-picking” de manera de quedarse solamente con los 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picking es injusto e ineficiente (grupos grandes: costo del overhead es 7%; individuos: 3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 el sistema, de manera que todos los norteamericanos pueda tener acceso a seguro de salud (objetivo: llegar al 94% de cobertura de l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 que en USA el seguro de salud hasta ahora no era obligatorio (ni para los ciudadanos ni para las empres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y cerca de 47 millones de norteamericanos sin seguro de salud (1 de cada 6 no tiene seguro) (18.000 americanos se fueren al año por no tener seg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CBDF-133C-4F7B-AE04-5CBD17760CD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americano: “employment-based” volu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insurance sticks to the job, not to the pers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gran mayoría de quienes no tienen empleo es porque están sin trabajo o cambiándose de trabajo. La mitad son menores de 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hay portabilidad del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empleadores están obligados a dar 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ando el seguro lo paga el empleador, esa parte de la remuneración es tax-free (lo que es una política tributaria regres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o es en realidad un subsidio a las empresas que dan seguro. Destruye la posibilidad de porta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recimiento de los costos de salud implica que los empleadores van progresivamente dejando de dar seguro o traspasando el costo a los empl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3E13-15C5-4DEE-9A3E-FFC98B1B05A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0CF-53BC-444F-87B3-2B6E2ACAA64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1905120"/>
          <a:ext cx="5181480" cy="396216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295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GB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 persona trabaja para una gran compañía, la situación es buena (para al menos el 75% de ese grupo hu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vez un poco caro, pero las cosas están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tiene la mejor medicin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trabaja para una gran compañía, la situación es más bien 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ay p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s quedan sometidas a los problemas de pre-exis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 una enfermedad grave, pueden ser expulsados o pueden subirles la pr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837C-17D2-4E94-9332-AD05B5A3559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s “tres patas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al mercado de la salud: precios justos sin importar la condición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 la preexis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 la discriminación: Edad conforme a un rango limitado y nada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1 sola: selección ad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n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están obligados a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tar el desc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2: muy c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ssachussets lo logró primero el año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8DAF-2719-4873-84D6-564C87016CC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no es rad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mantiene el sistema actual, que corresponde a un seguro dado voluntariamente por los emple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do p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 los pobres 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la tercera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nde que hasta 32 millones de personas que hoy no tienen seguro puedan llegar a adquiri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ualmente, USA seguirá lejos de la meta ideal de cobertura universal (ej. Inmigrantes ilegales no quedan cubier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igaciones graduales: algunas entran de inmediato en efecto otras tomarán varios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crea un sistema de incentivos (impuestos) para que las empresas de más 50 empleados otorguen seguro de salud a los empleados (menos de 50 empleados quedan exclu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idio (empresas de hasta 25 emple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ing scale tax cre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8641-6D7F-4380-8D13-B10A7D4CB4F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dividual man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ómo se hace para que todos pagu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$695 por persona, con un tope de US$2.085 por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seguro vale más del 8% de la remuneración anual, entonces no aplica el i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406C-7449-40E9-89F5-F3C1E0A78EC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Santiago Montt</cp:lastModifiedBy>
  <dcterms:modified xsi:type="dcterms:W3CDTF">2010-04-06T01:19:09Z</dcterms:modified>
  <cp:revision>36</cp:revision>
  <dc:subject/>
  <dc:title>Derecho Constitucional Económico</dc:title>
</cp:coreProperties>
</file>