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3B55-A96C-493F-8DFD-2B141C42BA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B025-3A6B-4366-879C-247602B1139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A857E-2105-43A2-85FE-E888F147D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945CE-618E-49FE-B14A-6652F41AE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2C2AD-0C70-47AF-8C6B-B5F6BB435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524BB-ED7D-409F-A422-53BDE9DB9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EECDD-92A7-44A2-8173-5A0DB0346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CFBFF-67F0-4B9D-A112-FB2EEEB79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C2105-2BE3-4FC6-943E-DC05A17ED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EFF2F-0C9A-43BD-A06F-2B85BDF3B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78318-12F0-42BD-9AFB-F2D28ADDD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4B806-8DB8-4B28-A8D1-4068BBF38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06E1-F384-4702-81DC-601EF2E5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F26CF-AB78-4918-81D8-E69D16E70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7FC44-3A8D-40AB-A2BB-F9EEE105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E759-EAC9-4AF8-8CDA-D515E8D25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D6692-303C-4991-BF45-8235E5507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575A1-35B4-4D4B-B7AD-BEC59EEE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BCDE2-765C-4509-8BF7-7B17E3615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1856-6A5E-4B11-9C2F-749B8D186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46AC-3626-4F33-87E4-1880913D0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39D46-953D-4F5C-BF04-029723E60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EE56-B96B-45FA-83E4-043FD436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FF72-3EDA-45CE-9A5B-33ADAD6D4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6C68-F5C6-43CE-904E-4B32D5C1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91B1-5116-45D4-8A68-E1ED85894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EAEC-F73B-4E7B-8459-03EC2973D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974E-A05E-42F1-A15A-51754D4D0A2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8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es posible señalar que para limitar de forma constitucionalmente admisible un derecho fundamental sin impedir su libre ejercicio, tales limitaciones deben, primeramente, encontrarse </a:t>
            </a:r>
            <a:r>
              <a:rPr b="1" lang="es-CL" sz="2000" spc="-1" strike="noStrike" u="sng">
                <a:solidFill>
                  <a:srgbClr val="000000"/>
                </a:solidFill>
                <a:uFillTx/>
                <a:latin typeface="Arial"/>
              </a:rPr>
              <a:t>señaladas de forma precisa </a:t>
            </a:r>
            <a:r>
              <a:rPr b="0" lang="es-CL" sz="2000" spc="-1" strike="noStrike">
                <a:solidFill>
                  <a:srgbClr val="000000"/>
                </a:solidFill>
                <a:latin typeface="Arial"/>
              </a:rPr>
              <a:t>por la Carta Fundamental; en seguida, debe respetarse el </a:t>
            </a:r>
            <a:r>
              <a:rPr b="1" lang="es-CL" sz="2000" spc="-1" strike="noStrike" u="sng">
                <a:solidFill>
                  <a:srgbClr val="000000"/>
                </a:solidFill>
                <a:uFillTx/>
                <a:latin typeface="Arial"/>
              </a:rPr>
              <a:t>principio de igualdad</a:t>
            </a:r>
            <a:r>
              <a:rPr b="0" lang="es-CL" sz="2000" spc="-1" strike="noStrike">
                <a:solidFill>
                  <a:srgbClr val="000000"/>
                </a:solidFill>
                <a:latin typeface="Arial"/>
              </a:rPr>
              <a:t>, esto es, deben imponerse de manera igual para todos los afectados; además, deben establecerse con </a:t>
            </a:r>
            <a:r>
              <a:rPr b="1" lang="es-CL" sz="2000" spc="-1" strike="noStrike" u="sng">
                <a:solidFill>
                  <a:srgbClr val="000000"/>
                </a:solidFill>
                <a:uFillTx/>
                <a:latin typeface="Arial"/>
              </a:rPr>
              <a:t>indudable determinación</a:t>
            </a:r>
            <a:r>
              <a:rPr b="0" lang="es-CL" sz="2000" spc="-1" strike="noStrike">
                <a:solidFill>
                  <a:srgbClr val="000000"/>
                </a:solidFill>
                <a:latin typeface="Arial"/>
              </a:rPr>
              <a:t>, tanto en el momento en que nacen, como en el que cesan y, finalmente, deben estar establecidas con parámetros incuestionables, esto es, </a:t>
            </a:r>
            <a:r>
              <a:rPr b="1" lang="es-CL" sz="2000" spc="-1" strike="noStrike" u="sng">
                <a:solidFill>
                  <a:srgbClr val="000000"/>
                </a:solidFill>
                <a:uFillTx/>
                <a:latin typeface="Arial"/>
              </a:rPr>
              <a:t>razonables y justificadas</a:t>
            </a:r>
            <a:r>
              <a:rPr b="0" lang="es-CL" sz="2000" spc="-1" strike="noStrike">
                <a:solidFill>
                  <a:srgbClr val="000000"/>
                </a:solidFill>
                <a:latin typeface="Arial"/>
              </a:rPr>
              <a:t>” </a:t>
            </a:r>
            <a:endParaRPr b="0" lang="en-US" sz="20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F20B-2398-40A0-8734-5E6141046A1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exigencia de consignar un porcentaje de la multa impuesta […] para reclamar de ella ante un órgano jurisdiccional no puede, en este caso, estimarse atentatoria de la garantía constitucional del acceso a la justicia […] por cuanto ella resulta perfectamente conciliable con la regulación de un procedimiento racional y justo para su logr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ómo se concilia …?</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3721-0924-4081-BA97-4A3447F6D9E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40" name=""/>
          <p:cNvSpPr txBox="1"/>
          <p:nvPr/>
        </p:nvSpPr>
        <p:spPr>
          <a:xfrm>
            <a:off x="1447560" y="1905120"/>
            <a:ext cx="701028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no puede calificarse como una limitación irracional o arbitraria al ejercicio del derecho del requirente a recurrir ante la justicia ordinaria para que revise el acto impugnado, </a:t>
            </a:r>
            <a:r>
              <a:rPr b="1" lang="es-CL" sz="2000" spc="-1" strike="noStrike" u="sng">
                <a:solidFill>
                  <a:srgbClr val="000000"/>
                </a:solidFill>
                <a:uFillTx/>
                <a:latin typeface="Arial"/>
              </a:rPr>
              <a:t>toda vez que el mismo tiene una justificación clara en el propósito de evitar que la determinación sancionatoria</a:t>
            </a:r>
            <a:r>
              <a:rPr b="1" lang="es-CL" sz="2000" spc="-1" strike="noStrike">
                <a:solidFill>
                  <a:srgbClr val="000000"/>
                </a:solidFill>
                <a:latin typeface="Arial"/>
              </a:rPr>
              <a:t> </a:t>
            </a:r>
            <a:r>
              <a:rPr b="0" lang="es-CL" sz="2000" spc="-1" strike="noStrike">
                <a:solidFill>
                  <a:srgbClr val="000000"/>
                </a:solidFill>
                <a:latin typeface="Arial"/>
              </a:rPr>
              <a:t>[…] sea </a:t>
            </a:r>
            <a:r>
              <a:rPr b="1" lang="es-CL" sz="2000" spc="-1" strike="noStrike" u="sng">
                <a:solidFill>
                  <a:srgbClr val="000000"/>
                </a:solidFill>
                <a:uFillTx/>
                <a:latin typeface="Arial"/>
              </a:rPr>
              <a:t>dilatada sistemáticamente en su ejecución por el expediente de recurrirla ante el tribunal competente, aun sin basamento plausible</a:t>
            </a:r>
            <a:r>
              <a:rPr b="0" lang="es-CL" sz="2000" spc="-1" strike="noStrike">
                <a:solidFill>
                  <a:srgbClr val="000000"/>
                </a:solidFill>
                <a:latin typeface="Arial"/>
              </a:rPr>
              <a:t>. Por lo demás, en el caso de prosperar la reclamación del afectado ante el órgano jurisdiccional, el monto de lo consignado se le </a:t>
            </a:r>
            <a:r>
              <a:rPr b="1" lang="es-CL" sz="2000" spc="-1" strike="noStrike" u="sng">
                <a:solidFill>
                  <a:srgbClr val="000000"/>
                </a:solidFill>
                <a:uFillTx/>
                <a:latin typeface="Arial"/>
              </a:rPr>
              <a:t>restituirá con la correspondiente actualización monetaria</a:t>
            </a:r>
            <a:endParaRPr b="0" lang="en-US" sz="2000" spc="-1" strike="noStrike">
              <a:solidFill>
                <a:srgbClr val="000000"/>
              </a:solidFill>
              <a:latin typeface="Arial"/>
            </a:endParaRPr>
          </a:p>
        </p:txBody>
      </p:sp>
      <p:sp>
        <p:nvSpPr>
          <p:cNvPr id="14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D0D8-4B0C-4C95-B479-B38B763FDDE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mp; Ventajas</a:t>
            </a:r>
            <a:endParaRPr b="0" lang="en-US" sz="4200" spc="-1" strike="noStrike">
              <a:solidFill>
                <a:srgbClr val="000000"/>
              </a:solidFill>
              <a:latin typeface="Arial"/>
            </a:endParaRPr>
          </a:p>
        </p:txBody>
      </p:sp>
      <p:sp>
        <p:nvSpPr>
          <p:cNvPr id="14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ualdad de votos = 25% consign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de consignación inconstitucional pero con pocos argu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aja: </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gnación del 100%, no es una proporción de la multa = desproporcionad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ercibimiento de arrest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as de carácter personal</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4891-72CB-4AEC-91C1-399748AE02F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rategia</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r marco teórico con los elementos considerados en cada uno de los voto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texto General  En El Que Está Inserto El Precepto Legal Impugnado Y Su Ubicación Dentro De La Sistemática Constituci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CL" sz="1400" spc="-1" strike="noStrike">
                <a:solidFill>
                  <a:srgbClr val="000000"/>
                </a:solidFill>
                <a:latin typeface="Arial"/>
              </a:rPr>
              <a:t>La Finalidad Perseguida Por El Legislador</a:t>
            </a:r>
            <a:r>
              <a:rPr b="1" lang="es-E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stitucionalidad De La Limitación</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rlo de los casos anteriore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rción</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abilidad pers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emio</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6265-8C27-4DF3-9152-A52C7FA516C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identificación entre objeto reclamado y </a:t>
            </a:r>
            <a:r>
              <a:rPr b="0" i="1" lang="es-CL" sz="2000" spc="-1" strike="noStrike">
                <a:solidFill>
                  <a:srgbClr val="000000"/>
                </a:solidFill>
                <a:latin typeface="Arial"/>
              </a:rPr>
              <a:t>condictio sine qua non</a:t>
            </a:r>
            <a:r>
              <a:rPr b="0" lang="es-CL" sz="2000" spc="-1" strike="noStrike">
                <a:solidFill>
                  <a:srgbClr val="000000"/>
                </a:solidFill>
                <a:latin typeface="Arial"/>
              </a:rPr>
              <a:t> para la admisibilidad del reclamo, lleva, en los hechos, a que el acto administrativo por el cual se cursa la multa sea inimpugnable, en términos que </a:t>
            </a:r>
            <a:r>
              <a:rPr b="1" lang="es-CL" sz="2000" spc="-1" strike="noStrike" u="sng">
                <a:solidFill>
                  <a:srgbClr val="000000"/>
                </a:solidFill>
                <a:uFillTx/>
                <a:latin typeface="Arial"/>
              </a:rPr>
              <a:t>no obstante poder formalmente reclamarse en contra del mismo, éste produce todos sus efectos</a:t>
            </a:r>
            <a:r>
              <a:rPr b="0" lang="es-CL" sz="2000" spc="-1" strike="noStrike">
                <a:solidFill>
                  <a:srgbClr val="000000"/>
                </a:solidFill>
                <a:latin typeface="Arial"/>
              </a:rPr>
              <a:t>, y aún en el caso de una ilegalidad flagrante, evidente y manifiesta, el administrado debe soportarla sin que la ley establezca mecanismo alguno que suspenda el cumplimiento de la sanción y a la vez habilite a reclamar de la misma.”</a:t>
            </a:r>
            <a:endParaRPr b="0" lang="en-US" sz="2000" spc="-1" strike="noStrike">
              <a:solidFill>
                <a:srgbClr val="000000"/>
              </a:solidFill>
              <a:latin typeface="Arial"/>
            </a:endParaRPr>
          </a:p>
        </p:txBody>
      </p:sp>
      <p:sp>
        <p:nvSpPr>
          <p:cNvPr id="1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3D1E-F5C3-41CB-9C1E-997A0BF72B5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vitar reclamos dilatorios: igual a temerarios y a no temer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ción significativa y no idóne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disuade ¿contradictori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jores mecanismos: admisibilidad y cost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F18D-A31E-433D-B5D3-FD661820F60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erogación:</a:t>
            </a:r>
            <a:br>
              <a:rPr sz="4200"/>
            </a:br>
            <a:r>
              <a:rPr b="0" lang="es-CL" sz="4200" spc="-1" strike="noStrike">
                <a:solidFill>
                  <a:srgbClr val="000000"/>
                </a:solidFill>
                <a:latin typeface="Arial"/>
              </a:rPr>
              <a:t>Sentencia Rol 1345</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6 requerimientos acogidos fue deroga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teriormente 3 requerimientos ¿…?</a:t>
            </a:r>
            <a:endParaRPr b="0" lang="en-US" sz="24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1C6F-D7E6-4431-BBA3-FF3FA3D088D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hora los arrestos …</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mparo preven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o requerimiento en contra del artículo 169 del Código Sanitario (19 N°7, libertad pers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a estrategia …</a:t>
            </a:r>
            <a:endParaRPr b="0" lang="en-US" sz="24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457F-7BBB-4253-AD00-4200F8E120A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 Constitucional Económico?</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lve et repete: ¿Vulneración del P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s de bienestar por acción desproporcionada?</a:t>
            </a:r>
            <a:endParaRPr b="0" lang="en-US" sz="24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A491-C6D8-4892-95C9-9E5E03C1862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C014-26FB-4F29-8833-6058AA16D47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Context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SP regulador de la industria farmacéutic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marios sanitarios (D.S. 1876/95 Mins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ponsabilidad objetiva, sin base normativ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previa consignación del 100% de la multa (art. 171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ultas a beneficio del ISP: hasta UTM 1000</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remio: 1 día de arresto por UTM 1/10 (art. 169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ancionados: Rep. Legal; D.T.; Jefe Control C.</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36 (agosto 2006)</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preventivo de constitucionalidad de normas de “Ley de Subcontratación” (orgánica constitucion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en contra de multas laborales “previa consignación de la </a:t>
            </a:r>
            <a:r>
              <a:rPr b="1" lang="es-CL" sz="2200" spc="-1" strike="noStrike" u="sng">
                <a:solidFill>
                  <a:srgbClr val="000000"/>
                </a:solidFill>
                <a:uFillTx/>
                <a:latin typeface="Arial"/>
              </a:rPr>
              <a:t>tercera</a:t>
            </a:r>
            <a:r>
              <a:rPr b="0" lang="es-CL" sz="2200" spc="-1" strike="noStrike">
                <a:solidFill>
                  <a:srgbClr val="000000"/>
                </a:solidFill>
                <a:latin typeface="Arial"/>
              </a:rPr>
              <a:t> parte de la multa aplicada, en caso que correspondier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declarada inconstitucional</a:t>
            </a:r>
            <a:endParaRPr b="0" lang="en-US" sz="22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DFFF-620C-4A85-8623-6CB586429D9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Que la aludida exigencia de una consignación previa resulta así de carácter indeterminado, carente de un límite, pudiendo, en consecuencia, llegar a cantidades cuya cuantía, en la práctica, </a:t>
            </a:r>
            <a:r>
              <a:rPr b="1" lang="es-CL" sz="1800" spc="-1" strike="noStrike" u="sng">
                <a:solidFill>
                  <a:srgbClr val="000000"/>
                </a:solidFill>
                <a:uFillTx/>
                <a:latin typeface="Arial"/>
              </a:rPr>
              <a:t>entraben más allá de lo razonable el derecho de acceso a la justicia, al restringir tan severamente la posibilidad de reclamar ante un tribunal de la multa impuesta por la autoridad administrativa</a:t>
            </a:r>
            <a:r>
              <a:rPr b="0" lang="es-CL" sz="1800" spc="-1" strike="noStrike">
                <a:solidFill>
                  <a:srgbClr val="000000"/>
                </a:solidFill>
                <a:latin typeface="Arial"/>
              </a:rPr>
              <a:t>. Ello resulta contrario a los derechos que asegura el artículo </a:t>
            </a:r>
            <a:r>
              <a:rPr b="1" lang="es-CL" sz="1800" spc="-1" strike="noStrike" u="sng">
                <a:solidFill>
                  <a:srgbClr val="000000"/>
                </a:solidFill>
                <a:uFillTx/>
                <a:latin typeface="Arial"/>
              </a:rPr>
              <a:t>19, Nº 3</a:t>
            </a:r>
            <a:r>
              <a:rPr b="0" lang="es-CL" sz="1800" spc="-1" strike="noStrike">
                <a:solidFill>
                  <a:srgbClr val="000000"/>
                </a:solidFill>
                <a:latin typeface="Arial"/>
              </a:rPr>
              <a:t>, de la Carta Fundamental, en sus incisos primero y segundo, a </a:t>
            </a:r>
            <a:r>
              <a:rPr b="1" lang="es-CL" sz="1800" spc="-1" strike="noStrike" u="sng">
                <a:solidFill>
                  <a:srgbClr val="000000"/>
                </a:solidFill>
                <a:uFillTx/>
                <a:latin typeface="Arial"/>
              </a:rPr>
              <a:t>“la igual protección de la ley en el ejercicio de sus derechos”</a:t>
            </a:r>
            <a:r>
              <a:rPr b="0" lang="es-CL" sz="1800" spc="-1" strike="noStrike">
                <a:solidFill>
                  <a:srgbClr val="000000"/>
                </a:solidFill>
                <a:latin typeface="Arial"/>
              </a:rPr>
              <a:t>, y a la </a:t>
            </a:r>
            <a:r>
              <a:rPr b="1" lang="es-CL" sz="1800" spc="-1" strike="noStrike" u="sng">
                <a:solidFill>
                  <a:srgbClr val="000000"/>
                </a:solidFill>
                <a:uFillTx/>
                <a:latin typeface="Arial"/>
              </a:rPr>
              <a:t>“defensa jurídica”</a:t>
            </a:r>
            <a:r>
              <a:rPr b="0" lang="es-CL" sz="1800" spc="-1" strike="noStrike">
                <a:solidFill>
                  <a:srgbClr val="000000"/>
                </a:solidFill>
                <a:latin typeface="Arial"/>
              </a:rPr>
              <a:t> pudiendo, por esta vía, sustraerse, en este caso, del control jurisdiccional actos de la Administración, dejando a las personas a merced de la discrecionalidad de la misma, razones por las cuales se declarará su inconstitucionalidad</a:t>
            </a:r>
            <a:endParaRPr b="0" lang="en-US" sz="18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4469-79D1-4455-AB05-8DF65D1E5AB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7047-E8D3-4D2F-9D85-AF04E7E9B0E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46 (noviembre 2006)</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erimiento de inaplicabilidad contra art. 30 inciso 2° DL N° 3538 (crea SV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ción de reclamación judicial previa consignación de 25% de la multa (requisito de admisibilidad).</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 millones de consignació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Solve et Repet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ate = rechazo por voto Presidente </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gualdad ante la ley “cuidadanos comunes y millonarios”: rechazada “multa a todo infractor”</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on todo, el hecho que la aplicación de una norma general de carácter sancionatorio produzca efectos distintos según la situación patrimonial del obligado, no puede considerarse que discrimine arbitrariamente entre los posibles afectados” (resultados absurdo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visa (de oficio) posible “privilegio procesal” a favor de la SVS y lo rechaza</a:t>
            </a:r>
            <a:endParaRPr b="0" lang="en-US" sz="22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C1E3-16BE-4060-BDDB-83745B517C5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iste D° acceso a la justici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í, parte de debido proceso</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ncipio de legalidad; suficiente determinación y especific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razonabilidad y proporcional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de fines perseguidos = sometimiento a la ley</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liga a infractores y a los que serán absuelt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E577-1BB7-4840-A90D-EBFF5554358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 Es excepcional, no convincente</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ratado como infractor antes de sentencia definitiv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itar reclamos dilatorios: igual a temerarios y a no temerari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significativa y no idóne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disuade ¿contradictori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es mecanismos: admisibilidad y costa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hay normas de excepción ¿muy gravoso?</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B5B2-5628-4937-B504-6A07059A866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de rechazo</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examinar tanto el contexto general en el que está inserta la norma impugnada, como su ubicación dentro de la sistemática constitucional y la finalidad perseguida por el legislador al establecerl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Contexto = Orden Público Económic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inalidad = historia de la ley: necesidades de la SV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Regulación y 19 N° 21</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Quiénes son los actore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de razonabilidad de la limitación</a:t>
            </a:r>
            <a:endParaRPr b="0" lang="en-US" sz="22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2984-511C-4F99-9052-6026C629096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lcarden</cp:lastModifiedBy>
  <dcterms:modified xsi:type="dcterms:W3CDTF">2010-04-08T14:29:05Z</dcterms:modified>
  <cp:revision>72</cp:revision>
  <dc:subject/>
  <dc:title>Derecho Constitucional Económico</dc:title>
</cp:coreProperties>
</file>