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1C3-AA24-4980-9865-8618916B01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CFEC-6681-4E33-8F00-FC1CC2DA67E3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1EC-4BEC-4D6C-A444-850DD269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877-8F15-4571-BDB3-66B0286E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84B-0450-42AF-857E-985AEDD6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4F3-F8C1-4F01-B72F-DC8EF69C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DE19-56A1-48D7-9FEA-6B8581B1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D245-11F1-438B-AA60-2394A51C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7D12-543F-4B8E-A6DC-B5BD069A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0F19-23DC-4908-A635-B2EB9EEF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F649-A522-42AF-A6DA-31ADE90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333E-B7DD-45DA-98CC-269E1EA8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3CC8-4D0A-4352-B19E-D075149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BEE-AA51-473B-9B91-257AA7EA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073-30F1-49A8-98B0-CAE39DA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3EA-570A-4E56-B91A-BAFD65F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5FA3-F35B-4434-B98F-2EFCAD45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52DA-4ACA-4C78-8F5A-9B28A6D5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A48-743A-44F4-A86D-1B80B71B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345-898D-482A-912D-CABB1472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5A4-DF4A-4742-828E-47B30C9C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83E-5BD6-4685-A151-133E7925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E9B-4FED-49E7-925B-42DF02EB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9B7-2F85-49D3-BF1E-2BAC78CD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5EC-6299-44E1-82A5-EB4C100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706-21DF-422F-9C6A-7BE80DF9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BF85-4DB8-453C-BF29-036EC053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11D2-15C9-4704-A5FD-0E2FEB05DDB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0: 27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30B4-837C-4F68-96FA-9177C6C64F0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39CB-58DE-4B9F-BFB4-781A225DA50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A1E8-F746-41BA-A09D-44B7A7C4E38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976-EF41-4C00-A2DE-B799553A58A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A7DA-FB94-436F-AB43-74947B69CE8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3BF-B19A-4776-BEF4-56C735FCC31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F009-ECB4-43D7-8585-4CBB2E7006E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A269-4E3E-46B5-969B-4D477441075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B4AA-6C50-4070-AFAE-27AF2E3872E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F5D6-16AA-4004-BC7B-49BFE72F9FC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7A38-2A2C-47C8-ACC0-B7333D59791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9C77-4A89-45D5-A3A2-27C086D0E33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07AC-7A9C-425E-87E0-C55969CFB9B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A794-C466-426D-B351-AD07C68F881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39E2-CAF8-414E-8FC9-5E0B2B7B460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6802-E95A-4490-9458-6DEB9491357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30AA-A721-493C-AE63-5B65879CD34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lcarden</cp:lastModifiedBy>
  <dcterms:modified xsi:type="dcterms:W3CDTF">2010-04-27T14:38:27Z</dcterms:modified>
  <cp:revision>114</cp:revision>
  <dc:subject/>
  <dc:title>Derecho Constitucional Económico</dc:title>
</cp:coreProperties>
</file>