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D08-D794-4B15-BE8D-E248BD85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032-6A45-4B91-BFC8-9A0A20E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999-1BDD-4688-8B26-B8528D4C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C95-AC6E-43E6-8273-BFB8C5ED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185-3492-4B16-9273-67E35504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FB4-0985-4750-9425-0E65F33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3FB-0FB0-48D9-BF08-36A953A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396-FF16-46DE-A069-9B0CE139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64F-9687-450F-9EE5-548F61CA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DC8-5B4D-4B91-982F-C51B4D6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B55-F2B5-45D5-94B2-66B83D1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FBA-4C5E-4E03-9E51-91D2A2F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04FE-89DF-44FC-829E-E1D444C7EC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981000"/>
            <a:ext cx="77724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versidad de Chile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cultad de Derecho</a:t>
            </a:r>
            <a:br>
              <a:rPr sz="24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oducción al Derecho II: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Notas introductorias a la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Mag. Der. (U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al menos una de las premisas y su conclusión son nor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sólo son jurídicos por accidente, cuando están insertos en un contexto de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l contexto del sistema jurí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Bur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Filósofos, artesanos y guerrer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(La República, Plat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Fá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Se entiende que la decisión judicial está fundada si está internamente justific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Difí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Aquí es donde cobra relevancia la teoría de la argumentación jurídica, especialmente la justificación externa de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La Teoría de la Argumentación 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uál sea la norma aplicable al caso (¿normas domésticas, normas internacionales?; ¿normas legales, normas constitucionale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ómo ha de entenderse la norma o normas aplicables al caso (¿cuál es el alcance de la garantía constitucional del artículo 19 N° 3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un determinado hecho ha tenido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determinado hecho que no se discute cae o no bajo el campo de aplicación de un determinado concepto contenido en el supuesto de hecho de la n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LEXY, Robert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eoría de la Argumentación Jurídic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EC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ras la Justici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riel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Las Razones del Derecho. Teorías de la Argumentación Jurídica.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CEC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imes New Roman"/>
              </a:rPr>
              <a:t>ATIENZA, Manuel; RUIZ MANERO, Juan. </a:t>
            </a:r>
            <a:r>
              <a:rPr b="0" i="1" lang="es-ES_tradnl" sz="3200" spc="-1" strike="noStrike">
                <a:solidFill>
                  <a:srgbClr val="0033cc"/>
                </a:solidFill>
                <a:latin typeface="Times New Roman"/>
              </a:rPr>
              <a:t>Tres Enfoques de los Principios Juríd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vención conceptu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exto autorit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Disposición o enunciado norm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Norm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rincip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Descubr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xpl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Caracterización del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a especificación del razonamiento práctico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 razonamiento práctico lim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Sus limitaciones son las reglas y principios de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Por qué justificar las decisiones judicia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osición institucional del adjudicador en el estado democrático de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Posición institucional del órgano adjudicad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en el estado democrático de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solver el asunto controvertido (inexcusa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Fundar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inculación a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Obligación de fundar las decisiones jud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Fuentes de la obl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 del fund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Valoraciones de base y apertura hacia la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ex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Qué debemos justific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norm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fácticas (teoría de la prueb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 tópica y retó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in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alidez o corrección lógica de una inferencia, a partir de las premisas d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ex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rrección de la fundamentación de las premisas seleccionadas en la 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coacción intelectual (lóg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persuasión (retór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propiamente jurídicos: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presunciones, prescripciones, ficcione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, establecidos en las l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0:22Z</dcterms:created>
  <dc:creator>Del Canto &amp; Fuentealba Limitada</dc:creator>
  <dc:description>Cajas, INP, AFP, visión histórica, proyecciones, Rol del Estado, Normas Constitucionales e Internacionales, Beneficios.</dc:description>
  <dc:language>en-US</dc:language>
  <cp:lastModifiedBy>ALVARO FUENTEALBA</cp:lastModifiedBy>
  <dcterms:modified xsi:type="dcterms:W3CDTF">2010-08-18T04:02:53Z</dcterms:modified>
  <cp:revision>164</cp:revision>
  <dc:subject/>
  <dc:title>El Sistema Previsional de Administración Pública</dc:title>
</cp:coreProperties>
</file>