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6AE7E4-8F00-4FB0-91D7-D129CDCA76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D91172-96B0-4EB3-93C1-046790D360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57F3A3-7671-4D9E-96C8-369DBBB56C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391355-59F8-41A8-ADF9-46BA18D6C1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CC4260-5910-45A1-8E8B-A84AFC79C0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ADB18A-0044-4A7E-8769-E6C4F95EAA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F89AB9-75A8-4287-81C1-F7F8CFD196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B4226D-9F44-44C1-A3C9-9E24D48888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8C7561-7DF5-490F-B22E-2128254E64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B09ADE-FB57-414C-A49D-EBB5298C96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F2FCB2-C0A2-42EC-AA87-43745EB2E5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9AE574-CD18-4AC9-B244-D0B103237F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E57192-EBE3-421E-90B2-DF050CDC5EB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CULTURA</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ANTROPOLOGIA JURIDIC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ESCTRUCTURA SOCIAL</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IGADA A LA NOCION DE FUNCION SOCIAL ESTA LA IDEA DE ESTRUCTURA SOCIAL.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A DISTINCION ENTRE FUNCION Y ESTRUCTURA  ES REALMENTE LA DISTINCIÓN ENTRE PROCESO Y FORMA.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UANDO HABLAMOS DE FUNCION NOS REFERIMOS A LAS IMPLICANCIAS CAUSALES DE CIERTA CLASE DE ACONTECIMIENTO EN OTRA CLASES DE ACONTECIMIENTOS, CONSIDERADOS COMO SISTEMA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UANDO HABLAMOS DE ESTRUCTURA ENTENDEMOS CON ESTO LOS ASPECTOS FORMALES, DURADEROS,   DE CUALQUIER COSA QUE SE DIGA QUE TIENE ESTRUCTURA. POR TANTO, EN CONCEPTO DE ESTRUCTURA ES MUCHO MAS AMPLIO QUE EL CONCEPTO DE FUNCION.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L QUE UNA DETERMINADA INSTITUCIÓN SOCIAL POSEA O NO UNA FUNCION , ES COSA SUSCEPTIBLE DE INVESTGACION;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PERO DE CUALQUIER COSA QUE PUEDA SER APREHENDIDA DE ALGUNA MANERA, YA SEA UN OBJETO CONCRETO O UN CONJUNTO DE IDEAS, PUEDE DECIRSE QUE TIENE ESTRUCTURA. LOS POEMAS TIENENESTRUCTURA, LOS ATOMOS, LAS INSTITUCIONES SOCIALES Y LOS SISTEMAS DE CREENCIA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539640" y="90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QUE ES LA ESTRUCTURA SOCIAL O QUE ELEMENTOS LA COMPONEN O DEFINEN</a:t>
            </a:r>
            <a:r>
              <a:rPr b="0" lang="es-CL" sz="4000" spc="-1" strike="noStrike">
                <a:solidFill>
                  <a:srgbClr val="000000"/>
                </a:solidFill>
                <a:latin typeface="Arial"/>
              </a:rPr>
              <a:t>.</a:t>
            </a:r>
            <a:br>
              <a:rPr sz="4000"/>
            </a:br>
            <a:endParaRPr b="0" lang="en-US" sz="4000" spc="-1" strike="noStrike">
              <a:solidFill>
                <a:srgbClr val="000000"/>
              </a:solidFill>
              <a:latin typeface="Arial"/>
            </a:endParaRPr>
          </a:p>
        </p:txBody>
      </p:sp>
      <p:sp>
        <p:nvSpPr>
          <p:cNvPr id="58" name="PlaceHolder 2"/>
          <p:cNvSpPr>
            <a:spLocks noGrp="1"/>
          </p:cNvSpPr>
          <p:nvPr>
            <p:ph/>
          </p:nvPr>
        </p:nvSpPr>
        <p:spPr>
          <a:xfrm>
            <a:off x="468360" y="213372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OS ANTROPÓLOGOS SOCIALES HAN  ENTENDIDO COSAS DIVERSAS POR ESTRUCTURA SOCIA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RADCLIFFE BROWN, QUE FUE UNO DE LOS PRIMEROS EN USAR EL CONCEPTO SISTEMÁTICAMENTE EN LA ANTROPOLOGÍA SOCIAL, LO DEFINIO COMO UNA RED COMPLEJA DE RELACIONES REALMENTE EXISTENTES EN TODA SOCIEDAD. DEFINICIÓN QUE HA SIDO CRITICADA POR SER MUY AMLIA</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VANS – PRITCHARD, EN SU INFORME SOBRE LOS NUER, PREFIRIÓ RESTRINGIR EL TERMINO A LAS RELACIONES RELATIVAMENTE PERMANENTE QUE UNEN  A GRUPOS SOCIALES ESTABLES EN UNIDADES MAS AMPLIA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PARECE SER QUE LA IDEA ESENCIAL ES QUE LAS PARTES O COMPONENTES ESTAN DISPUESTO DE MANERA ORDENADA CONSTITUYENDO ASI ALGO SUSCEPTIBLE DE APREHENDERSE CON ALGUN TIPO DE UNIDAD SISTEMATICA.</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ESTA UNIDAD NO NECESITA SER UNA UNIDAD EMIRICAMENTE DADA – RANA O CASA – IGUALMENTE PUEDE TRATARSE DE UNA SÍNTESIS ANALÍTICA, CONSTRUIDA PARA UNIFICAR LA EXPERIENCIA Y PARA QUE PROGRESE EL CONOCIMIENTO. COMO POR EJEMPLO LA ESTRUCTURA DE UN SISTEMA RITUAL O DE UN SISTEMAS POLÍTICO.</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TODO CONJUNTOS DE DATOS, SOCIALES O NO, PUEDEN REVELAR VARIAS ESTRUCTURAS DIFERENTES, DE ACUERDO CON EL INTERES QUE TENGA EL OBSERVADOR, AUNQUE CIERTAS INTERPRETACIONES O MODELOS ESTRUCTURALES SERAN MAS APROPIADOS QUE OTROS, TANTO PARA EL MATERIAL EN CUESTIN CUESTION, COMO PARA ELTIPO DE COMPRENSIÓN QUE BUSCAR EL OBSERVADOR, AUNQUE CIERTAMENTE ALGUNAS INTERPRETACIONES O MODELOS ESTARUCTURALES SERÁN MAS APROPIADOS QUE OTROS TANTO PARA EL MATERIAL EN CUESTION, TANTO COMO PARA EL TIPO DE COMPRENSIÓN QUE BUSCA EL OBSERVADO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SI POR EJEMPLO, UN COMPLEJO PARTICULAR DE RELACIONES DE PARENTESCO PUEDE ESTRUCTURARSE DEDE DIVERSOS PUNTOS DE VISTAS: JURÍDICO, ECONOMICO, POLÍTICO O SOCIAL (STATUS Y JERARQUIA).</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L ANALISTA CONSTRUYE LA ESTRUCTURA SOBRE LA BASE DE DATOS, PERO ELLA MISMA NO ES UN DATO SINO UNA CONSTRUCCIÓN.</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NO SE TRATA DE REIFICAR LA ESTRUCTURA SOCIAL COMO ALGO QUE EXISTE AL INTERIOR DEL SISTEMA Y QUE EL OBSERVADOR ACUCIOSOS PUEDE ASPIRARA A DESCUBRIR. SE TRATA DE UN “MODELO”, MODELO DE ANÁLISIS, CUYA VALIDEZ NO DENEPNDE DE SUS “VERDAD” SINO MAS BIEN DE SUS UTILIDAD O VALOR ESTRATÉGICO PARA DARLE SENTIDO A LO DADO, PARA FACILITAR LA COMPARACIÓN Y PARA CONDUCIR HACIA NUEVOS CONOCIMIENTO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JEMPLO: EN MUCHAS SOCIEDADES, LOS DERECHOS Y LOS DEBERES DE LAS PERSONAS DEPENDEN, EN GRAN MEDIDA DE LAS POSICIONES QUE OCUPAN EN GRUPOS DE PARENTESCO BASADOS EN LA DESENDENCIA A TRAVES DE UNA SOLA LINEA (PATERNA O MATERNA) A PARTIR DE UN ANTEPASADO COMUN Y DE LAS RELACIONES QUE SU GRUPO MANTIENE CON OTROS GRUPOS SIMILARE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A ESTRUCTURA DE ESTE SITEMA PUEDE EXPRESARSE FORMALMENTE EN UNA SERIE  LIMITADA DE ENUNCIADOS SOBRE LA MANERA COMO SE ESTABLECEN ESTOS GRUPOS Y ACERCA DE LAS RELACIONES ENTRE  ELLOS Y SUS MIEMBROS LO QUE, ADEMÁS ES SUSCEPTIBLE DE REPRESENTARSE EN UN DIAGRAM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NUESTRO MODELO ESTRUCTURAL ESCOGE DEL SISTEMA DE PARENTESCO CIERTOS ASPECTOS CLAVES DE DICHA SITUACIÓN SOCIAL Y LOS ORDENA SISTEMÁTICAMENTE PARA DAR RESPUESTA DE DETERMINADAS PREGUNTAS, TALES COMO:</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 SEGÚN QUE CRITERIO SE PERTENECE AL GRUPO?</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 CUALES SON LAS CATEGORÍAS DE LOS MIEMBROS?</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 CUALES SON LOS DERECHOS Y OBLIGACIONES DERIVADOS DEL STATUS DENTRO DEL SISTEMA?</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EN ESENCIA EL MODELO ESTRUCTURAL DEL INVESTIGADOR DEBE DAR SENTIDOS A LOS DATOS EN FUNCION DE SU INTERES POR ELLOS, DEBERIA SUGERIR NUEVAS PREGUNAS Y PROBLEMAS Y HACER POSIBLE LA CLASIFICACION Y COMPARACIÓN CON OTRAS ESTRUCTURAS.</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EL MODELO PUEDE RESULTAR ININTELIGIBLE PARA LOS MIEMBROS DE LA SOCIEDAD OBJETO DE ESTUDIO O PUEDE NO INTERESARLES,  EL ANTROPÓLOGO USA EL MODELO PARA FINES ANALÍTICOS O COMPARATIVOS, PERO DEBE SER POSIBLE QUE AL MENOS  IDEALMENTE EL MODELO SEA USCEPTIBLE DE SER EXPLICADO Y RECONOCIDO POR LOS ACTORES QUE SE ESTUDIAN, ESO IMPLICA TENER EN CUENTA LA CULTUR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EN RESUMEN PARA ENTENDER LA RELACION ENTRE FUNCION Y ESTRUCTURA SOCIAL CABE SEÑALAR LO SIGUIENTE:</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POR ESTUDIO DE LA FUNCION SOCIAL LOS ANTROPÓLOGOS GENERALMENTE  HAN ENTENDIDO EL ESTUDIO DE LAS IMPLICACIONES CAUSALES DE LAS INSTITUCIONES SOCIALES, PARA OTRAS INSTITUCIONES SOCIALES Y SISTEMAS DE INSTITUCIONES DE LA MISMA SOCIEDAD. POR ESTUDIO DE LA ESTRUCTURA SOCIAL GENERALMENTE HAN ENTENDIDO LA DEFINICIÓN DE AQUELLOS ASPECTOS PERMANENTES DE LAS INSTITUCIONES SOCIALES QUE HAN PARECIDO SER LOS MAS IMPORTANTES EN FUNCION DE SU INTERES POR ELLOS.</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ESTE ENFOQUE  SE HA IDENTIFICADO COMO ENFOQUE ESTRUCTURAL FUNCIONAL ----------- LAS SOCIEDAD EN CUANTO SISTEMA DE ACCION. ESTE ENFOQUE DEBE SER COMLEMENTADO CON ESTUDIOS IGUAL DE ACUCIOSOS ACERCA DE LOS SISTEMA DE CREENCIAS Y VALORES EN CUANTO LOS ESQUEMAS DE VALORES Y CREENCIAS EXPLICAN LAS CONDUCTA INSTITUCIONALIZADA DE LOS SERES HUMANOS -------------- LAS SOCIEDADES EN CUANTO SISTEMAS DE SÍMBOLOS Y SIGNIFICADOS COMPRENSIBLES EN TERMINOS NO CAUSALE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LAS INSTITUCIONES SOCIALES PARTICIPAN AL MISMO TIEMPO DE LOS SISTEMAS DE ACCION  Y DE LOS SISTEMAS DE IDEA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N TANTO  ELEMENTOS DE  SISTEMAS DE ACCION _____ACARREAN CONSECUENCIA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N TANTO ELEMENTOS DE SISTEMAS DE IDEAS _______POSEEN SIGNIFICADO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LOS ANTROPOLOGOS SOCIALES GENERALMENTE  TOMAN EN CUENTA ESTAS DOS DIMENSIONES. DEFINIR Y ANALIZAR LAS INSTITUCIONES SOCIALES RECURRIENDO PRECISAMENTE A LA INTERRELACION SISTEMATICA DE LAS RELACIONES SOCIALES EN LOS DOS NIVELES LAS ACCIONES Y LAS CREENCIAS Y LOS VALOR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 PRIMERA TAREA DEL ANTROPOLOGO ES DE CARÁCTER DESCRIPTIVA: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N TODA INVESTIGACION EMPIRICA DEBEMOS SABER CUALES SON LOS HECHOS ANTES DE QUE PODAMOS ANALIZARLOS. LA DESCRIPCION, NO OBSTANTE, VA MAS ALLA DE LA MERA DESCRIPCION IMPLICAN GENERALIZACIONES Y ABSTRACCIONES  PARA CUYA FORMULACION ES NECESARIO UNA TEORIA QUE ORIENTE UNA CONSIDERACION SISTEMATICA DE LAS PREGUNTAS QUE ES NECESARIO FORMULA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PRIMERO, PODEMOS APRENDER LO SUFICIENTE ACERCA DE LA CULTURA EN LA QUE SE ENCUENTRA COMO PARA VER LA SITUACION  DE LA MANERA EN QUE LA VEN LOS QUE PARTICIPAN EN ELL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EGUNDO, PODEMOS COLOCAR LA INVESTIGACION EN UN CONTEXTO CAUSAL, COMO EFECTO Y CAUSA.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STAS DOS CLASES DE COMPRENSION CORRESPONDEN A LOS DOS ASPECTOS PRINCIPALES DE LAS RELACIONES  SOCIALES HUMANAS QUE DISNTINGUIMOS PRECEDENTEMENTE: SU ASPECTO COMO SISTEMA DE IDEAS, CREENCIAS Y VALORES Y SU ASPECTO COMO SISTEMA DE ACC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p:nvPr>
        </p:nvSpPr>
        <p:spPr>
          <a:xfrm>
            <a:off x="539640" y="9810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HAY DISTINTAS FORMAS DE RELACIONAR UNAS COSAS CON OTRAS Y DE ESTA MANERA EXPLICARLAS. TODA EXPLICACION CONLLEVA LA ASIMILACION DE LO QUE HA DE EXPLICARSE DENTRO DE UN CONOCIMIENTO YA EXISTENTE.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SI POR EJEMEPLO EL PROCESO DE SUBSUMIR LO PARTICULAR DENTRO DE LO GENERAL AYUDA A LA COMPRENSION DE LAS INSTITUCIONES SOCIALES EN ANALISI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JEMPLO ANALISIS DE INSTITUCIONES MUY DIVERSAS QUE SE EXPLICAN BAJO EL CONCEPTO GENERAL DE PRESTACIONES O INTERCAMBIOS DE REGALOS.</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KULA: INSTITUCION POR MEDIO DE LA CUAL LOS NATIVOS DE ALGUNAS ISLAS DE LA MELANESIA INTERCAMBIAN CEREMONIALMENTE CIERTOS ADORNOS.</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POTLATCH: INSTITUCION POR MEDIO DE LA CUAL ALGUNOS INDIOS NORTEAMERICANOS DESTRUYEN CONSPICUAMENTE OBJETOS UTILES</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BIENES ANTIFERNALES: COSTUMBRES QUE IMPLICAN UN PAGO A LOS PARIENTES DE LA NOVIA AL MOMENTO DEL MATRIMONIO Y QUE ES COMUN EN AFRICA Y EN OTRAS PARTE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METODO COMPARATIVO</a:t>
            </a: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 COMPARACION BAJO UN CONCEPTO GENERAL CONSTITUYE A LA POSTRE UNA SINTESIS EXPLICATIVA QUE AYUDA A COMPRENDER LOS FENOMENOS SOCIALES MEDIANTE LA COMPARACION.</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PERO ES DE VITAL IMPORTANCIA PARA SALVAGUARDAR EL QUE LA COMPARACION SEA INDUCTIVA DE ERROR, EL COMPRENDER CABALMENTE, EN SUS PROPIOS CONTEXTO SOCIALES Y CULTURALES, LAS INSTITUCIONES SOCIALES QUE SE COMPARA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FUNCION SOCIAL Y ESTRUCTURA SOCIAL</a:t>
            </a:r>
            <a:br>
              <a:rPr sz="4000"/>
            </a:br>
            <a:endParaRPr b="0" lang="en-US" sz="40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XPLICAR ENTONCES ES PONER LAS COSAS EN SUS CONTEXTO.</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ALGUNAS REGLAS.</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1.- SUBSUMIR LAS COSAS BAJO REGLAS Y CLASIFICARLAS. EJEMPLOS </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INTERCAMBIOS DE OBSEQUIOS O REGALOS _______ RECIPROCIDAD</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2.- IDENTIFICAR LAS CAUSAS Y LOS SIGNIFICADO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ELLO SUPONE SOMETER LAS INSTITUCIONES A NUEVAS SINTESIS EXPLICATIVAS. LOS DOS NIVELES OBRAN RECIPROCAMENTE Y UNO SE REMITE A OTROS AYUDANDO A LA COMPRENSION.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Arial"/>
              </a:rPr>
              <a:t>LAS PREGUNTAS:</a:t>
            </a:r>
            <a:br>
              <a:rPr sz="4000"/>
            </a:br>
            <a:r>
              <a:rPr b="1" lang="es-CL" sz="4000" spc="-1" strike="noStrike">
                <a:solidFill>
                  <a:srgbClr val="000000"/>
                </a:solidFill>
                <a:latin typeface="Arial"/>
              </a:rPr>
              <a:t>ANALISIS HISTORICO Y FUNCIONAL</a:t>
            </a:r>
            <a:endParaRPr b="0" lang="en-US" sz="4000" spc="-1" strike="noStrike">
              <a:solidFill>
                <a:srgbClr val="000000"/>
              </a:solidFill>
              <a:latin typeface="Arial"/>
            </a:endParaRPr>
          </a:p>
        </p:txBody>
      </p:sp>
      <p:sp>
        <p:nvSpPr>
          <p:cNvPr id="53" name="PlaceHolder 2"/>
          <p:cNvSpPr>
            <a:spLocks noGrp="1"/>
          </p:cNvSpPr>
          <p:nvPr>
            <p:ph/>
          </p:nvPr>
        </p:nvSpPr>
        <p:spPr>
          <a:xfrm>
            <a:off x="457200" y="20718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COMO LAS COSAS LLEGARON A SER COMO SON: ANALISIS HISTORICO</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COMO FUNCIONAN: EL ENFOQUE FUNCIONAL SE CARACTERIZA POR SU INTERES EN BUSCAR CONEXIONES ENTRE COSAS QUE A PRIMERA VISTA PARECEN TOTALEMNTE SEPARADAS. PROPORCIONA NUEVAS HIPOTESI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 EXPLICACION FUNCIONAL ES DE TIPO TELEOLOGICA EN LA MEDIDA QUE RECAE SOBRE UN COMPLEJO SISGNITIFICATIVO QUE EL INVESTIGADOR TIENEN EN MENTE AHÍ ESTA EL QUID, YA SE PARA QUE SIRVE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06T14:18:13Z</dcterms:created>
  <dc:creator> Nancy Yáñez Fuenzalida</dc:creator>
  <dc:description/>
  <dc:language>en-US</dc:language>
  <cp:lastModifiedBy> Nancy Yáñez Fuenzalida</cp:lastModifiedBy>
  <dcterms:modified xsi:type="dcterms:W3CDTF">2009-04-06T14:33:53Z</dcterms:modified>
  <cp:revision>13</cp:revision>
  <dc:subject/>
  <dc:title>CULTURA</dc:title>
</cp:coreProperties>
</file>