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7000C-F145-4C44-8D3A-BD330949E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4D28-B00E-4F0A-B877-873D31A44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093BC-73D9-40DC-BE29-DA52042D6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923CC-759E-4179-AB92-793D946EE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37152-C755-40B0-AC6E-2790100FF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D8DBB-8F15-4E9E-9147-0D9A05716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13A9E-5536-43E7-87F3-F172D9144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D055A-6635-4E70-BE82-82AD54195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9821D-DD1C-4E45-BE28-A370F62C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2E149-052C-41E2-BEF9-0F763A48C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CE0DC-2074-4BBA-8E26-756BD6D07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16A9A-4553-4880-ADDA-26F28CD6D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E07B-E8D1-4593-9EDA-A94AB493F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48B7-FAC9-4A47-A3C6-933196758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3AACE-6DDA-4025-8B81-708AB3312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5EF72-756F-4DA9-8056-D61B3C213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1BEB1-B01F-46DE-99C4-FD7C3FEE9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D8CE9-0860-4358-A0B6-E54304438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CC34F5-F55A-43F8-BE26-1791D07CD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8430D-AC8E-4516-AACA-5B5B2E6B0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637B6-CF36-4B80-AF29-59806997E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8A594-EA5E-494F-BDBA-1C0244CB1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1BEF4-1035-4D22-A798-A7E3D519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4D026-CE8E-4D07-BCF6-23865CE25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F575D-20AB-4BF1-9FB1-AA8615713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98F2E-C93C-4CAB-B62E-EDCE0D155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ECB68-BDA1-424B-A678-6033BD8E3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A64F1-7017-4F27-B439-1E3593934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E4CB7-8589-4BB2-B12E-6D80B72F92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F716E-636F-4A37-9CF2-FD76F794F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2FFFB-A2A6-4072-8F3E-8E4BF60BFC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9F88C-E72D-48C4-AC37-9E641CE59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BB7CB-C269-4458-A4F0-E8A0C97E2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7BFD-8E0A-4621-814F-C8E00DA2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C308A-BDC5-48C7-BF5A-9210F43AD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15575-A646-480E-8969-3C11FD1B2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5E9AF-4A93-4497-B0B9-94448E48B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3D8AF-20BD-4AF0-8C02-519A905FB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DB6AA-02E9-4C18-B774-B69C939E7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B48FD-C199-4C94-8173-AA94600AA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158AB-D1C5-4A80-8F74-DD9A87839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CB5A1-EA72-452C-9819-8F9EDC372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9CB56E-7D60-499F-8EFE-C21D52E679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559F-C85E-4B1A-AF1D-11245BE05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BA922-A57B-4AAB-A193-B80982E60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7AF9-3941-49E6-8E02-A5D65C14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F497-6218-473E-BC3A-3675750B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6197-289A-42D5-8B50-E43011FC3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59CC-A3CA-47F6-8854-309715CE3246}"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133C-6C11-4734-905E-37B4EF6FFD94}"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E262-CE2C-4871-805F-A3F0255D41FA}"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4678-E6C1-4C2F-A3E5-0019A24AA36C}"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9C1C-1C6F-469B-A054-B23EF3E18C25}"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18D3-62B1-46CB-817C-48F7947A6FC0}"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9EC9-5B7D-43CE-A853-0204F0235782}"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rb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657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58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657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752480" y="3789360"/>
            <a:ext cx="685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035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609480" y="3573360"/>
            <a:ext cx="19814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1974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187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Tano</cp:lastModifiedBy>
  <dcterms:modified xsi:type="dcterms:W3CDTF">2010-08-11T16:12:32Z</dcterms:modified>
  <cp:revision>152</cp:revision>
  <dc:subject/>
  <dc:title>Diapositiva 1</dc:title>
</cp:coreProperties>
</file>