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624A1-7A82-47A1-BED2-641B847BB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8A154-33FA-4ABA-B171-3E74DA580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8E267-3E31-47AF-BE60-32B5CA9B9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1A2DE-606D-4AF6-8769-2C9A795EC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0D7F9-D147-4E30-A1EA-0FB57DF6C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1CC79-0528-4BF5-952F-3582AA180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53AF7-163D-4A83-B6CC-1CA4ABFDA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7656A-C201-4E28-8789-918EA9EB7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E2A94-EA75-41F2-B98D-1CE2DDC69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C6CDC-6BE7-4280-A4B1-7FEE66179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9F694-087E-46AF-81AC-8FD8D7395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D255-E6E3-45EB-983C-70E0A468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3F22E-166F-4530-AA8F-215988CD0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F8AE0-3EB9-4F75-8D41-160BF47E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959AD-ABDD-4C4B-B144-D6F22C147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31E208-D23F-4A8C-BDC5-9031DF006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7B8CF-38D1-4EBC-8AB8-61ABD3C09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2987E40-FE9E-4F21-B1AA-CF73A558BA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F16B335-1428-4029-9A44-9998EA3F3E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5CB316-0D2C-46FA-8D51-EA9992483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9050A5-DA3F-406C-8EC1-831CD4F8E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F044380-A26D-4423-ACED-D2920666E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9D597-B778-4C29-B28C-BCFA6FE06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D46B1D-9ADF-4DAA-BA8C-B44A8B495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970794-3B9C-4F9F-96D1-8B2561D1F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BD982D-0EA2-48ED-AE77-617B8CCD0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C049F3-0858-4EF4-A569-D787F407C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2913A5D-060F-4D7E-8532-5F76A637D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5890C91-EFB2-4101-BC16-AF4782B48C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9BB04E0-56F3-42EF-A8DD-F208AFBBBB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6843188-F265-44AB-8A79-38DA830E7B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F44EC8A-045A-4ABA-9C80-CCFC0C34C1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31361A-B09A-44DA-9D4C-C4D2CE8FB2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7D706-AFEC-4F6B-A555-E0ACB1AED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E7876BC-CE86-43B8-B09F-7E6DCFC49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709B47-90CB-4CCD-B225-C327BF504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E9149B-908B-4BC6-B006-6E2F1ABE0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0DB47A-287E-4385-A64B-5FFF1C7F3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035CA2-A459-45BB-9ADD-554A47DDA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403953-2D85-49C3-9B67-454FEF3EF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87DFC85-A493-4A25-B9C3-4113CD398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49B268D-3F70-4058-9682-1C92A6F6C3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308350E-758B-4C51-8770-79DAA7B9F9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9B0E206-B469-4C23-B99C-A5F97E470C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50944-1B02-458A-BC84-64F0208E9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D18105-9E7E-4D37-9B28-9F05B47B69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8BA923-BF15-4BC7-9F42-BA1824212D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9E4D3A7-542F-457F-890C-CA7120F04A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9AA126-367C-49A6-BCAE-ACA814440A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DA9417-3E2A-4E15-BFBF-6957DBB4BC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10F54D-4DDC-4F5D-962B-70CA348F23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BF036C-3922-4B88-9DE7-3E9CDA2DA0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ABCACA-23FC-4A09-AA64-78CE1FB6F6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E9D868-DB1D-4767-AB74-347FBEB12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2B053C2-FCCF-409F-955C-6168A2692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67A11-D19C-4AF2-9C4C-B1E774978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1581A2E-8F6D-4ED6-8BAD-66D5C84424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0AB306-A77B-4047-B6E2-2C5ED01D98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78967A-6FDD-4E83-924A-F5EBFE7383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7CB46E-6772-4E09-9C50-E9DE94DBC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A328C-8B68-4A92-BFF8-A041A9171C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573E01-EE37-49DF-83BC-E1AD05B6E0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ECE81F-4003-4A2F-BADB-1D3D3CF3C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588C6-E2EE-457E-BC0A-4F4EE852C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C1B69-3D2C-4AE4-9181-511B4E746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5EE3F4-217F-4EB5-9561-995783B504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22B8-493B-4180-8DD0-97C78367B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3155C5-33A6-481E-AC42-3060D60708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2BF03C-04D5-4CD8-93A3-FC165B8095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CED0F3-74CE-436E-B6DB-1F508306D3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E68FFDA-CAD8-4A04-93B7-CDEAB19C63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A721B2C-BF66-472F-BBAB-B0FD1CDA54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29D5F66-BB58-41A7-A94C-A2444646ED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E03C1A-DF29-4B6E-AA07-3FF36481ED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5CF0F3C-03D3-4A36-8C9A-A67400C29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E421DCB-D3FC-446D-BAF9-87B49468D0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57305F-DDF4-4C40-9E1A-6BBE66800A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3E2AD-C988-4A6D-87B8-D6F1B8753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EACBFCF-3923-4A28-896B-C9BCB51F48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888207C-11D1-4D4B-8650-2CD1AFFDCD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4E3461-9CC2-466C-A1DC-09CE10C839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0BB89A0-B6D3-4F7A-9B19-45E026CF56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E9B243F-B3BF-4DDC-B6B5-B24815D7BD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E8F23F-852D-4589-95C7-1DA917EB51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691F38-115E-4069-BFA0-3E33101433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AFECC3-94B3-4A8C-96BF-86C0BC4DAF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11E5E9-4EF7-49A0-8BDF-C8A1A94839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C6C29-B61B-4FA0-8CFB-E6508D2D4A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261EF-0242-4DC0-8D06-FE40075AD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4467F6-7E47-46E4-8891-2322AE74E2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931933-2F32-43DA-8FA5-C2653BC9BF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72011-D9F6-44F0-83C7-999CC02E5A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81A1A9-F9BC-469C-8215-2BADDE262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F77422-C0C8-4CC9-865A-6C27ACD476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0F81EF-2ED5-4C6B-9025-64B2E72F4A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E1E5B2-714D-4A99-8783-B166AA07F1E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4DB7-0058-4FA7-A9F1-CEB15EB4076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6942-B60B-4579-9374-A9C1842EE6D3}" type="slidenum">
              <a:rPr b="1" lang="es-CL"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8267-A58B-4394-88C2-E73FB7F8B78D}" type="slidenum">
              <a:rPr b="1"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413F-37C5-40C5-AD47-65424264FC2D}"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B4EC-D4B2-4217-9E86-30D73E066EEF}"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7D91-BB4C-449A-9480-792259612B24}" type="slidenum">
              <a:rPr b="1" lang="es-CL"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4BBF-33DA-40DC-989B-2F43A88F1B11}" type="slidenum">
              <a:rPr b="1" lang="es-CL"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361E-9096-4C89-9D02-17017903C5D8}" type="slidenum">
              <a:rPr b="1" lang="es-C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ebddc3"/>
                </a:solidFill>
                <a:latin typeface="Tw Cen MT"/>
              </a:rPr>
              <a:t>MINISTERIO DE EDUCACIÓN</a:t>
            </a:r>
            <a:r>
              <a:rPr b="0" lang="es-CL" sz="4400" spc="-1" strike="noStrike">
                <a:solidFill>
                  <a:srgbClr val="ebddc3"/>
                </a:solidFill>
                <a:latin typeface="Tw Cen MT"/>
              </a:rPr>
              <a:t>	</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898989"/>
                </a:solidFill>
                <a:latin typeface="Tw Cen MT"/>
              </a:rPr>
              <a:t>Políticas Publicas 1980-2010 </a:t>
            </a: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ño 2000 a la fecha</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fontScale="94000"/>
          </a:bodyPr>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Becas Chile: en 2010 un presupuesto de 59.164 millones, creciendo en un 129,7% respecto a 2009.</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l número de nuevas becas al exterior pasó de 200 promedio en el periodo 2000-2006 a 2500 becas promedio en el periodo 2009-2010. Ésta es una clara muestra de la necesidad perfeccionar el capital humano de nuestro país.</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Política de universalización de la educación parvularia.</a:t>
            </a:r>
            <a:endParaRPr b="0" lang="en-US" sz="2600" spc="-1" strike="noStrike">
              <a:solidFill>
                <a:srgbClr val="000000"/>
              </a:solidFill>
              <a:latin typeface="Tw Cen MT"/>
            </a:endParaRPr>
          </a:p>
          <a:p>
            <a:pPr marL="299520" indent="-2995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2009: Aprobación Ley General de Educación (Ley Nº 20.370)</a:t>
            </a:r>
            <a:endParaRPr b="0" lang="en-US" sz="26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28760" y="213840"/>
            <a:ext cx="8229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Presupuesto de Educación 2010</a:t>
            </a:r>
            <a:br>
              <a:rPr sz="4000"/>
            </a:br>
            <a:endParaRPr b="0" lang="en-US" sz="4000" spc="-1" strike="noStrike">
              <a:solidFill>
                <a:srgbClr val="775f55"/>
              </a:solidFill>
              <a:latin typeface="Tw Cen MT"/>
            </a:endParaRPr>
          </a:p>
        </p:txBody>
      </p:sp>
      <p:sp>
        <p:nvSpPr>
          <p:cNvPr id="371" name=""/>
          <p:cNvSpPr txBox="1"/>
          <p:nvPr/>
        </p:nvSpPr>
        <p:spPr>
          <a:xfrm>
            <a:off x="642960" y="1714680"/>
            <a:ext cx="8229600" cy="4525920"/>
          </a:xfrm>
          <a:prstGeom prst="rect">
            <a:avLst/>
          </a:prstGeom>
          <a:noFill/>
          <a:ln w="0">
            <a:noFill/>
          </a:ln>
        </p:spPr>
        <p:txBody>
          <a:bodyPr anchor="t">
            <a:normAutofit fontScale="97000"/>
          </a:bodyPr>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w Cen MT"/>
              </a:rPr>
              <a:t>-</a:t>
            </a:r>
            <a:r>
              <a:rPr b="0" lang="es-CL" sz="2600" spc="-1" strike="noStrike">
                <a:solidFill>
                  <a:srgbClr val="000000"/>
                </a:solidFill>
                <a:latin typeface="Tw Cen MT"/>
              </a:rPr>
              <a:t>Para el año 2010 el presupuesto de Educación es de $4.483.512 (5.358.345 para 2011) millones de pesos (USA 8000 Millones),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La cifra anterior equivale al 20% del presupuesto del sector público, convirtiendo al </a:t>
            </a:r>
            <a:r>
              <a:rPr b="1" lang="es-CL" sz="2600" spc="-1" strike="noStrike">
                <a:solidFill>
                  <a:srgbClr val="000000"/>
                </a:solidFill>
                <a:latin typeface="Tw Cen MT"/>
              </a:rPr>
              <a:t>Ministerio de Educación en el Ministerio con mayor presupuesto. </a:t>
            </a:r>
            <a:endParaRPr b="0" lang="en-US" sz="26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w Cen MT"/>
              </a:rPr>
              <a:t>Es relevante destacar que del total de los recursos, $2.556.693 millones (2.879.181 para 2011), que corresponden al 57% de los recursos del </a:t>
            </a:r>
            <a:r>
              <a:rPr b="0" i="1" lang="es-CL" sz="2600" spc="-1" strike="noStrike">
                <a:solidFill>
                  <a:srgbClr val="000000"/>
                </a:solidFill>
                <a:latin typeface="Tw Cen MT"/>
              </a:rPr>
              <a:t>Ministerio</a:t>
            </a:r>
            <a:r>
              <a:rPr b="0" lang="es-CL" sz="2600" spc="-1" strike="noStrike">
                <a:solidFill>
                  <a:srgbClr val="000000"/>
                </a:solidFill>
                <a:latin typeface="Tw Cen MT"/>
              </a:rPr>
              <a:t>, se asignan a la subvención de establecimientos municipales y particulares subvencionados</a:t>
            </a:r>
            <a:r>
              <a:rPr b="0" lang="es-CL" sz="2700" spc="-1" strike="noStrike">
                <a:solidFill>
                  <a:srgbClr val="000000"/>
                </a:solidFill>
                <a:latin typeface="Tw Cen MT"/>
              </a:rPr>
              <a:t>.</a:t>
            </a:r>
            <a:endParaRPr b="0" lang="en-US" sz="27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36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CL" sz="4000" spc="-1" strike="noStrike">
                <a:solidFill>
                  <a:srgbClr val="775f55"/>
                </a:solidFill>
                <a:latin typeface="Tw Cen MT"/>
              </a:rPr>
              <a:t>Evolución 1990-2010</a:t>
            </a:r>
            <a:endParaRPr b="0" lang="en-US" sz="4000" spc="-1" strike="noStrike">
              <a:solidFill>
                <a:srgbClr val="775f55"/>
              </a:solidFill>
              <a:latin typeface="Tw Cen MT"/>
            </a:endParaRPr>
          </a:p>
        </p:txBody>
      </p:sp>
      <p:sp>
        <p:nvSpPr>
          <p:cNvPr id="373" name=""/>
          <p:cNvSpPr txBox="1"/>
          <p:nvPr/>
        </p:nvSpPr>
        <p:spPr>
          <a:xfrm>
            <a:off x="457200" y="785880"/>
            <a:ext cx="8229600" cy="534024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Desde 1990 a la fecha, </a:t>
            </a:r>
            <a:r>
              <a:rPr b="1" lang="es-CL" sz="2000" spc="-1" strike="noStrike">
                <a:solidFill>
                  <a:srgbClr val="000000"/>
                </a:solidFill>
                <a:latin typeface="Tw Cen MT"/>
              </a:rPr>
              <a:t>el presupuesto de educación ha aumentado en 7 veces, que corresponde a un aumento de US$7.567 Millones.</a:t>
            </a:r>
            <a:endParaRPr b="0" lang="en-US" sz="2000" spc="-1" strike="noStrike">
              <a:solidFill>
                <a:srgbClr val="000000"/>
              </a:solidFill>
              <a:latin typeface="Tw Cen MT"/>
            </a:endParaRPr>
          </a:p>
        </p:txBody>
      </p:sp>
      <p:pic>
        <p:nvPicPr>
          <p:cNvPr id="374" name="Picture 2" descr=""/>
          <p:cNvPicPr/>
          <p:nvPr/>
        </p:nvPicPr>
        <p:blipFill>
          <a:blip r:embed="rId1"/>
          <a:stretch/>
        </p:blipFill>
        <p:spPr>
          <a:xfrm>
            <a:off x="2071800" y="2214720"/>
            <a:ext cx="6286320" cy="43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4000"/>
            </a:br>
            <a:endParaRPr b="0" lang="en-US" sz="1600" spc="-1" strike="noStrike">
              <a:solidFill>
                <a:srgbClr val="775f55"/>
              </a:solidFill>
              <a:latin typeface="Tw Cen MT"/>
            </a:endParaRPr>
          </a:p>
        </p:txBody>
      </p:sp>
      <p:pic>
        <p:nvPicPr>
          <p:cNvPr id="376" name="Picture 3" descr=""/>
          <p:cNvPicPr/>
          <p:nvPr/>
        </p:nvPicPr>
        <p:blipFill>
          <a:blip r:embed="rId1"/>
          <a:stretch/>
        </p:blipFill>
        <p:spPr>
          <a:xfrm>
            <a:off x="785880" y="2143080"/>
            <a:ext cx="8020080" cy="4372200"/>
          </a:xfrm>
          <a:prstGeom prst="rect">
            <a:avLst/>
          </a:prstGeom>
          <a:ln w="0">
            <a:noFill/>
          </a:ln>
        </p:spPr>
      </p:pic>
      <p:sp>
        <p:nvSpPr>
          <p:cNvPr id="377" name="Rectangle 6"/>
          <p:cNvSpPr/>
          <p:nvPr/>
        </p:nvSpPr>
        <p:spPr>
          <a:xfrm>
            <a:off x="642960" y="285840"/>
            <a:ext cx="79297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gasto por alumno (municipal y particular subvencionado) ha aumentado en un 45% entre los años 1990 y 2008. Pero los avances en la prueba PISA han sido nulos. El año 2000 estábamos en el lugar 27 de un total de 28 países. El año 2006 quedamos en el lugar 34 de 36, con un resultado inferior al de otros países con similar gas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 </a:t>
            </a:r>
            <a:r>
              <a:rPr b="0" lang="es-CL" sz="2900" spc="-1" strike="noStrike">
                <a:solidFill>
                  <a:srgbClr val="000000"/>
                </a:solidFill>
                <a:latin typeface="Tw Cen MT"/>
              </a:rPr>
              <a:t>La relación entre PIB y el gasto en educación, se observa un aumento desde un gasto de un 5% en 1995 a uno de 6.4% al año 2008, cifra que supera el promedio de los países de la OECD, que es de un 6.2 %.</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Chile gastó un 17% de su presupuesto en educación el año 2008, cifra que superó el promedio de la OCDE, que es de un 13.3%.</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Respecto a la OCDE...</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n el gasto total (público y privado) en educación primaria, Chile gasta poco más de USD 2000, cuando la OCDE en promedio gasta USD 6756. En educación secundaria Chile también gasta cerca de USD 2000 y la OCDE tiene un promedio por sobre los USD 8000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Más dinero, supone mejoras en la  educación?</a:t>
            </a:r>
            <a:endParaRPr b="0" lang="en-US" sz="3200" spc="-1" strike="noStrike">
              <a:solidFill>
                <a:srgbClr val="775f55"/>
              </a:solidFill>
              <a:latin typeface="Tw Cen MT"/>
            </a:endParaRPr>
          </a:p>
        </p:txBody>
      </p:sp>
      <p:sp>
        <p:nvSpPr>
          <p:cNvPr id="383" name=""/>
          <p:cNvSpPr txBox="1"/>
          <p:nvPr/>
        </p:nvSpPr>
        <p:spPr>
          <a:xfrm>
            <a:off x="428760" y="1357200"/>
            <a:ext cx="8229600" cy="4525920"/>
          </a:xfrm>
          <a:prstGeom prst="rect">
            <a:avLst/>
          </a:prstGeom>
          <a:noFill/>
          <a:ln w="0">
            <a:noFill/>
          </a:ln>
        </p:spPr>
        <p:txBody>
          <a:bodyPr anchor="t">
            <a:normAutofit fontScale="93000"/>
          </a:bodyPr>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a:t>
            </a:r>
            <a:r>
              <a:rPr b="0" lang="es-ES" sz="2000" spc="-1" strike="noStrike">
                <a:solidFill>
                  <a:srgbClr val="000000"/>
                </a:solidFill>
                <a:latin typeface="Tw Cen MT"/>
              </a:rPr>
              <a:t>En muchas, si no en la mayoría, de las escuelas que visitó, la visión y metas de los planificadores y expertos del Ministerio no se reflejaban en los niveles de práctica relativamente altos requeridos por las reformas. </a:t>
            </a:r>
            <a:r>
              <a:rPr b="1" lang="es-ES" sz="2000" spc="-1" strike="noStrike">
                <a:solidFill>
                  <a:srgbClr val="000000"/>
                </a:solidFill>
                <a:latin typeface="Tw Cen MT"/>
              </a:rPr>
              <a:t>El débil nexo entre las reformas y la formación inicial de profesores ayuda a crear una “brecha de capacidad” mayor en la fuerza docente</a:t>
            </a:r>
            <a:r>
              <a:rPr b="0" lang="es-ES" sz="2000" spc="-1" strike="noStrike">
                <a:solidFill>
                  <a:srgbClr val="000000"/>
                </a:solidFill>
                <a:latin typeface="Tw Cen MT"/>
              </a:rPr>
              <a:t>. Esto pone a la mayoría de los estudiantes del país en clases con profesores que, no por culpa propia, han sido preparados inadecuadamente para enseñar matemáticas, lenguaje y otras materias, al nivel requerido por el nuevo currículo chileno.</a:t>
            </a:r>
            <a:endParaRPr b="0" lang="en-US" sz="2000" spc="-1" strike="noStrike">
              <a:solidFill>
                <a:srgbClr val="000000"/>
              </a:solidFill>
              <a:latin typeface="Tw Cen MT"/>
            </a:endParaRPr>
          </a:p>
          <a:p>
            <a:pPr marL="296280" indent="-2962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	</a:t>
            </a:r>
            <a:r>
              <a:rPr b="0" lang="es-ES" sz="2000" spc="-1" strike="noStrike">
                <a:solidFill>
                  <a:srgbClr val="000000"/>
                </a:solidFill>
                <a:latin typeface="Tw Cen MT"/>
              </a:rPr>
              <a:t>-OCDE 2004.</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La Educación no consiste en llenar un cántaro sino en encender un fuego“ </a:t>
            </a:r>
            <a:endParaRPr b="0" lang="en-US" sz="20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n-US" sz="2000" spc="-1" strike="noStrike">
                <a:solidFill>
                  <a:srgbClr val="000000"/>
                </a:solidFill>
                <a:latin typeface="Tw Cen MT"/>
              </a:rPr>
              <a:t>William B. Yeats, 1865- 1939</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Antecedente Constitucional.</a:t>
            </a:r>
            <a:endParaRPr b="0" lang="en-US" sz="4400" spc="-1" strike="noStrike">
              <a:solidFill>
                <a:srgbClr val="775f55"/>
              </a:solidFill>
              <a:latin typeface="Tw Cen MT"/>
            </a:endParaRPr>
          </a:p>
        </p:txBody>
      </p:sp>
      <p:sp>
        <p:nvSpPr>
          <p:cNvPr id="353" name=""/>
          <p:cNvSpPr txBox="1"/>
          <p:nvPr/>
        </p:nvSpPr>
        <p:spPr>
          <a:xfrm>
            <a:off x="571680" y="1571760"/>
            <a:ext cx="8400960" cy="452592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Art. 19 Nº 10 de la Constitu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El derecho a la Educación.</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La Educación tiene por objeto el </a:t>
            </a:r>
            <a:r>
              <a:rPr b="1" lang="es-CL" sz="2900" spc="-1" strike="noStrike">
                <a:solidFill>
                  <a:srgbClr val="000000"/>
                </a:solidFill>
                <a:latin typeface="Tw Cen MT"/>
              </a:rPr>
              <a:t>pleno desarrollo</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Tw Cen MT"/>
              </a:rPr>
              <a:t>de la persona en las distintas etapas de su vida.</a:t>
            </a: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Evolución del sistema educativo</a:t>
            </a:r>
            <a:br>
              <a:rPr sz="4000"/>
            </a:br>
            <a:r>
              <a:rPr b="0" lang="es-CL" sz="4000" spc="-1" strike="noStrike">
                <a:solidFill>
                  <a:srgbClr val="775f55"/>
                </a:solidFill>
                <a:latin typeface="Tw Cen MT"/>
              </a:rPr>
              <a:t>Periodo 1981-1986.</a:t>
            </a:r>
            <a:endParaRPr b="0" lang="en-US" sz="40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Reforma de 1981-1986: Establecimientos educacionales pasan a manos de los municipios y surgen las escuelas privadas financiadas con fondos públicos, denominadas particulares subvencionadas.</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En este nuevo esquema, el financiamiento “sigue al niño”, pero los recursos los percibe el establecimiento educacional (subsidio a la Oferta y no a la demanda como en sistema de Voucher típico)</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Se busca la competencia entre las escuelas. </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Los profesores dejan de ser empleados públicos. Sueldos de mercado, necesarios para competenci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Gran auge de las escuelas particulares subvencionadas. Crecimiento de un 15 % en la matrí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Escuelas públicas pierden un 15% de matricula.</a:t>
            </a:r>
            <a:endParaRPr b="0" lang="en-US" sz="19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w Cen MT"/>
              </a:rPr>
              <a:t>	</a:t>
            </a:r>
            <a:r>
              <a:rPr b="0" lang="es-CL" sz="1900" spc="-1" strike="noStrike">
                <a:solidFill>
                  <a:srgbClr val="000000"/>
                </a:solidFill>
                <a:latin typeface="Tw Cen MT"/>
              </a:rPr>
              <a:t>	</a:t>
            </a:r>
            <a:r>
              <a:rPr b="0" lang="es-CL" sz="1900" spc="-1" strike="noStrike">
                <a:solidFill>
                  <a:srgbClr val="000000"/>
                </a:solidFill>
                <a:latin typeface="Tw Cen MT"/>
              </a:rPr>
              <a:t>-Se logra competencia entre las escuelas públicas y particulares subvencionadas.</a:t>
            </a:r>
            <a:endParaRPr b="0" lang="en-US" sz="19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775f55"/>
                </a:solidFill>
                <a:latin typeface="Tw Cen MT"/>
              </a:rPr>
              <a:t>Elementos y problemas de la competencia entre Escuelas.</a:t>
            </a:r>
            <a:endParaRPr b="0" lang="en-US" sz="3200" spc="-1" strike="noStrike">
              <a:solidFill>
                <a:srgbClr val="775f55"/>
              </a:solidFill>
              <a:latin typeface="Tw Cen MT"/>
            </a:endParaRPr>
          </a:p>
        </p:txBody>
      </p:sp>
      <p:sp>
        <p:nvSpPr>
          <p:cNvPr id="357" name=""/>
          <p:cNvSpPr txBox="1"/>
          <p:nvPr/>
        </p:nvSpPr>
        <p:spPr>
          <a:xfrm>
            <a:off x="500040" y="1357200"/>
            <a:ext cx="8229600" cy="491184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1.-Múltiples oferentes que compitan por la elección de las familia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2.-Los presupuestos de los colegios dependan efectivamente de la elección de los padre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3.-Que los establecimientos puedan realizar una gestión autónoma.</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4.-Los padres de familia tomen decisiones  racionales e informadas respecto a la educación de sus hijos.</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problema:</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A nivel geográfico, no todas las comunas presentan un tamaño adecuado para que opere la competencia.  Por ejemplo, en 115 comunas, hubo menos de 200 estudiantes rindiendo el SIMCE el año 1999. </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l efecto Composición: Los colegios consiguen mejores resultados si tiene mejores alumnos y a su vez los padres eligen los colegios teniendo en cuenta las características de los estudiantes. Esto produce que en los lugares con mayor presencia de escuelas particulares subvencionadas, las escuelas públicas tengan peores resultados, sin perjuicio de una mejora en el resultado promedio.</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Competencia efectiva y beneficiosa entre particular subvencionados, pero débil competencia a nivel municipal, debido a restricciones presupuestarias blandas y rigidez en dotación y remuneración de docentes</a:t>
            </a:r>
            <a:endParaRPr b="0" lang="en-US" sz="1500" spc="-1" strike="noStrike">
              <a:solidFill>
                <a:srgbClr val="000000"/>
              </a:solidFill>
              <a:latin typeface="Tw Cen MT"/>
            </a:endParaRPr>
          </a:p>
          <a:p>
            <a:pPr marL="306000" indent="-306000" algn="just">
              <a:lnSpc>
                <a:spcPct val="90000"/>
              </a:lnSpc>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Tw Cen MT"/>
              </a:rPr>
              <a:t>En resumen: Competencia mejora resultados, pero de forma relativa y marginal.</a:t>
            </a:r>
            <a:endParaRPr b="0" lang="en-US" sz="15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87-1994</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	</a:t>
            </a:r>
            <a:r>
              <a:rPr b="0" lang="es-CL" sz="2200" spc="-1" strike="noStrike">
                <a:solidFill>
                  <a:srgbClr val="000000"/>
                </a:solidFill>
                <a:latin typeface="Tw Cen MT"/>
              </a:rPr>
              <a:t>-Crisis económica de los 80 reduce el gasto en educación.</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frena el auge inicial de los colegios particulares subvencionados.</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Tw Cen MT"/>
              </a:rPr>
              <a:t>Retorno a la democracia  </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Cambio de paradigma en la política educativa: Estado responsable y promotor. En esta nueva política educativa </a:t>
            </a:r>
            <a:r>
              <a:rPr b="0" lang="es-ES_tradnl" sz="2200" spc="-1" strike="noStrike">
                <a:solidFill>
                  <a:srgbClr val="000000"/>
                </a:solidFill>
                <a:latin typeface="Tw Cen MT"/>
              </a:rPr>
              <a:t>“</a:t>
            </a:r>
            <a:r>
              <a:rPr b="1" lang="es-ES_tradnl" sz="2200" spc="-1" strike="noStrike">
                <a:solidFill>
                  <a:srgbClr val="000000"/>
                </a:solidFill>
                <a:latin typeface="Tw Cen MT"/>
              </a:rPr>
              <a:t>se combinan criterios de descentralización y competencia por recursos, con criterios de discriminación positiva y de acción proactiva del Estado a nivel central</a:t>
            </a:r>
            <a:r>
              <a:rPr b="0" lang="es-ES_tradnl" sz="2200" spc="-1" strike="noStrike">
                <a:solidFill>
                  <a:srgbClr val="000000"/>
                </a:solidFill>
                <a:latin typeface="Tw Cen MT"/>
              </a:rPr>
              <a:t>” (García-Huidobro, 1999)</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Se busca la calidad y equidad.</a:t>
            </a:r>
            <a:endParaRPr b="0" lang="en-US" sz="22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	</a:t>
            </a:r>
            <a:r>
              <a:rPr b="0" lang="es-CL" sz="2200" spc="-1" strike="noStrike">
                <a:solidFill>
                  <a:srgbClr val="000000"/>
                </a:solidFill>
                <a:latin typeface="Tw Cen MT"/>
              </a:rPr>
              <a:t>-El presupuesto en educación comienza a crecer, rompiendo la tendencia a la baja de los años 80.</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lanes y programas del periodo.</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fontScale="96000"/>
          </a:bodyPr>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0:</a:t>
            </a:r>
            <a:r>
              <a:rPr b="0" lang="es-CL" sz="2200" spc="-1" strike="noStrike">
                <a:solidFill>
                  <a:srgbClr val="000000"/>
                </a:solidFill>
                <a:latin typeface="Tw Cen MT"/>
              </a:rPr>
              <a:t>	</a:t>
            </a:r>
            <a:r>
              <a:rPr b="0" lang="es-ES_tradnl" sz="2200" spc="-1" strike="noStrike">
                <a:solidFill>
                  <a:srgbClr val="000000"/>
                </a:solidFill>
                <a:latin typeface="Tw Cen MT"/>
              </a:rPr>
              <a:t>Programa localizado de las 900 escuelas (P-900). Busca mejorar las condiciones, resultados y quehacer educativo de las peores 900 escuelas del paí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1991:</a:t>
            </a:r>
            <a:r>
              <a:rPr b="0" lang="es-CL" sz="2200" spc="-1" strike="noStrike">
                <a:solidFill>
                  <a:srgbClr val="000000"/>
                </a:solidFill>
                <a:latin typeface="Tw Cen MT"/>
              </a:rPr>
              <a:t>	</a:t>
            </a:r>
            <a:r>
              <a:rPr b="0" lang="es-CL" sz="2200" spc="-1" strike="noStrike">
                <a:solidFill>
                  <a:srgbClr val="000000"/>
                </a:solidFill>
                <a:latin typeface="Tw Cen MT"/>
              </a:rPr>
              <a:t>Estatuto Docente se dicta en el contexto de negociaciones políticas entre gobierno y profesores. Profesores logran un Estatuto que les da mayor inamovilidad y sueldos alejados de las condiciones de mercado. </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w Cen MT"/>
              </a:rPr>
              <a:t>-Se mantiene sistema de subvención.</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1992-1997:Programa universal de mejoramiento de calidad y equidad a escuelas básicas (MECE BASICA). Se aplica mejorando infraestructura, informática, bibliotecas, textos.</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w Cen MT"/>
              </a:rPr>
              <a:t>- Consensos políticos respecto a la necesidad y características de los cambios necesarios en educación (Informe Brunner)</a:t>
            </a:r>
            <a:endParaRPr b="0" lang="en-US" sz="2200" spc="-1" strike="noStrike">
              <a:solidFill>
                <a:srgbClr val="000000"/>
              </a:solidFill>
              <a:latin typeface="Tw Cen MT"/>
            </a:endParaRPr>
          </a:p>
          <a:p>
            <a:pPr marL="306000" indent="-3060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Periodo 1995-2000.</a:t>
            </a:r>
            <a:endParaRPr b="0" lang="en-US" sz="4000" spc="-1" strike="noStrike">
              <a:solidFill>
                <a:srgbClr val="775f55"/>
              </a:solidFill>
              <a:latin typeface="Tw Cen MT"/>
            </a:endParaRPr>
          </a:p>
        </p:txBody>
      </p:sp>
      <p:sp>
        <p:nvSpPr>
          <p:cNvPr id="363" name=""/>
          <p:cNvSpPr txBox="1"/>
          <p:nvPr/>
        </p:nvSpPr>
        <p:spPr>
          <a:xfrm>
            <a:off x="213840" y="999720"/>
            <a:ext cx="8472600" cy="5054760"/>
          </a:xfrm>
          <a:prstGeom prst="rect">
            <a:avLst/>
          </a:prstGeom>
          <a:noFill/>
          <a:ln w="0">
            <a:noFill/>
          </a:ln>
        </p:spPr>
        <p:txBody>
          <a:bodyPr anchor="t">
            <a:normAutofit fontScale="90000"/>
          </a:bodyPr>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a Reforma Educativa toma un impulso más sistemático que incluye:</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1.-Reforma curricular:</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6: Nuevo curriculum educación básic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1998: Nuevo curriculum educación media</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	</a:t>
            </a:r>
            <a:r>
              <a:rPr b="0" lang="es-CL" sz="1600" spc="-1" strike="noStrike">
                <a:solidFill>
                  <a:srgbClr val="000000"/>
                </a:solidFill>
                <a:latin typeface="Tw Cen MT"/>
              </a:rPr>
              <a:t>2000: Nuevo curriculum educación parvulari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e busca pasar de los contenidos a las competencia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Además de conocimientos, se busca  fomentar las habilidades y actitudes.</a:t>
            </a:r>
            <a:endParaRPr b="0" lang="en-US" sz="1600" spc="-1" strike="noStrike">
              <a:solidFill>
                <a:srgbClr val="000000"/>
              </a:solidFill>
              <a:latin typeface="Tw Cen MT"/>
            </a:endParaRPr>
          </a:p>
          <a:p>
            <a:pPr lvl="1" marL="575640" indent="-2455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	</a:t>
            </a:r>
            <a:r>
              <a:rPr b="0" lang="es-CL" sz="1600" spc="-1" strike="noStrike">
                <a:solidFill>
                  <a:srgbClr val="000000"/>
                </a:solidFill>
                <a:latin typeface="Tw Cen MT"/>
              </a:rPr>
              <a:t>2.- Reforma Jornada escolar completa (JEC):</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Enorme inversión en infraestructura escolar. (USM 1200)</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Los alumnos con jornada completa asistirán el tiempo equivalente a dos años más que con el antiguo sistema.</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Permite la implementación de currículos más amplios, complejos y diversos.</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Función social: expande la alimentación y reduce tiempo ocioso.</a:t>
            </a:r>
            <a:endParaRPr b="0" lang="en-US" sz="1600" spc="-1" strike="noStrike">
              <a:solidFill>
                <a:srgbClr val="000000"/>
              </a:solidFill>
              <a:latin typeface="Tw Cen MT"/>
            </a:endParaRPr>
          </a:p>
          <a:p>
            <a:pPr lvl="1" marL="575640" indent="-245520" algn="just">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w Cen MT"/>
              </a:rPr>
              <a:t>Sin embargo, jornada completa no implicó en sí misma un cambio en las prácticas de aula de los docente ni mejora en los aprendizajes de los alumnos.</a:t>
            </a:r>
            <a:endParaRPr b="0" lang="en-US" sz="1600" spc="-1" strike="noStrike">
              <a:solidFill>
                <a:srgbClr val="000000"/>
              </a:solidFill>
              <a:latin typeface="Tw Cen MT"/>
            </a:endParaRPr>
          </a:p>
          <a:p>
            <a:pPr lvl="1" marL="575640" indent="-245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w Cen MT"/>
              </a:rPr>
              <a:t>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775f55"/>
                </a:solidFill>
                <a:latin typeface="Tw Cen MT"/>
              </a:rPr>
              <a:t>Periodo 1995-2000</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3.- Desarrollo profesional de docente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Nuevo Estatuto docente: Mayor flexibilidad  en la contratación de los municipios.</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Mejoras salariales. </a:t>
            </a:r>
            <a:endParaRPr b="0" lang="en-US" sz="2000" spc="-1" strike="noStrike">
              <a:solidFill>
                <a:srgbClr val="000000"/>
              </a:solidFill>
              <a:latin typeface="Tw Cen MT"/>
            </a:endParaRPr>
          </a:p>
          <a:p>
            <a:pPr lvl="1" marL="639720" indent="-272880">
              <a:spcBef>
                <a:spcPts val="550"/>
              </a:spcBef>
              <a:buClr>
                <a:srgbClr val="94b6d2"/>
              </a:buClr>
              <a:buSzPct val="7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Programas de capacitación en nuevos currículos, pasantías en el extranjero y mayores recursos para formación inicial docent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w Cen MT"/>
              </a:rPr>
              <a:t>4.- Programa universal de mejoramiento de calidad y equidad de escuelas de enseñanza media (MECE – MEDIA) y MECESUP, para educación superior.</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775f55"/>
                </a:solidFill>
                <a:latin typeface="Tw Cen MT"/>
              </a:rPr>
              <a:t>Año 2000 a la fecha</a:t>
            </a:r>
            <a:endParaRPr b="0" lang="en-US" sz="4000" spc="-1" strike="noStrike">
              <a:solidFill>
                <a:srgbClr val="775f55"/>
              </a:solidFill>
              <a:latin typeface="Tw Cen MT"/>
            </a:endParaRPr>
          </a:p>
        </p:txBody>
      </p:sp>
      <p:sp>
        <p:nvSpPr>
          <p:cNvPr id="367" name=""/>
          <p:cNvSpPr txBox="1"/>
          <p:nvPr/>
        </p:nvSpPr>
        <p:spPr>
          <a:xfrm>
            <a:off x="428760" y="999720"/>
            <a:ext cx="8229600" cy="505476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forma al aula y aseguramiento a la calidad.</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e busca apuntar a aspectos más específicos, se busca  calidad y equidad, el horizonte de calidad ha cambiad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1.- Mejoras calidad docente:</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valuación docente obligatoria.</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Red maestros de maestr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Incentivos al desempeño individual, asignación de excelencia docente ( Ley 19.715 de 2001).</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2.- Reforma constitucional: Extensión de la educación obligatoria a 12 añ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3.- Desempeño y currículo:</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Actualización de los currículo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	</a:t>
            </a:r>
            <a:r>
              <a:rPr b="0" lang="es-ES" sz="1700" spc="-1" strike="noStrike">
                <a:solidFill>
                  <a:srgbClr val="000000"/>
                </a:solidFill>
                <a:latin typeface="Tw Cen MT"/>
              </a:rPr>
              <a:t>-Estándares de desempeño SIMCE y mayor aplicación.</a:t>
            </a:r>
            <a:endParaRPr b="0" lang="en-US" sz="1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4.- </a:t>
            </a:r>
            <a:r>
              <a:rPr b="0" lang="es-CL" sz="1700" spc="-1" strike="noStrike">
                <a:solidFill>
                  <a:srgbClr val="000000"/>
                </a:solidFill>
                <a:latin typeface="Tw Cen MT"/>
              </a:rPr>
              <a:t>Ley Nº 20.248 de 2008,  estableció la subvención especial preferente (Ley SEP),  busca mejorar la equidad en la educación, otorgando mayor subvención a los establecimientos con más alumnos socialmente vulnerables.</a:t>
            </a: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21:28:47Z</dcterms:created>
  <dc:creator>Virtual PC</dc:creator>
  <dc:description/>
  <dc:language>en-US</dc:language>
  <cp:lastModifiedBy>jgallegos</cp:lastModifiedBy>
  <dcterms:modified xsi:type="dcterms:W3CDTF">2010-10-25T22:26:39Z</dcterms:modified>
  <cp:revision>105</cp:revision>
  <dc:subject/>
  <dc:title>Ministerio de Educación </dc:title>
</cp:coreProperties>
</file>