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2D1-830F-4096-8A01-F3A1A333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3FF-E8D3-4E82-86C3-5806A3A6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316-771C-43EA-8209-248C357A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E96-EA49-4068-9973-4F66C651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42D3-B0CA-4C91-919D-0328035B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6223-9D8A-4B90-A430-FCCDA24B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3E3F-4288-4FC5-AC80-DD2B09D2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54C6-4D2A-41E3-ACA1-F3D9589F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E9AD-14FD-4636-BCC6-9C6ACB9D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C173-F601-46CC-BC13-4B11B733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F1BD-8008-404E-A1DE-ADF74DB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CE00-4025-4F9A-9D44-DEBD5D7A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1A4D-0D6E-420D-AA68-D8F6A29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CDB9-F734-42C8-A99A-CE4109B8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0A44-4F6E-4FB5-9F43-86B979ED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039D-6953-4CBD-A312-0CD03B2D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B48F-A995-453A-A8C6-FE56193D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4DD-6949-4B32-9611-6E9B6B56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923-2948-4DC6-8966-A84819DD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09E-1E51-4A9C-80DF-2159563F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9E7-2779-4847-B63A-8896515B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098-05FF-48EA-A8FB-A6CFC32F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BCF-DA37-4764-BEF4-6A0170C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525-88B0-4F0E-B139-A54E6A2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4E4DE-2D02-4DAD-9F59-189CE59A8873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1D7C2-CE51-4080-A694-55A7A0C6DD20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790E2F-E533-406B-8042-559D69DC46FC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8BE97-D487-4385-98F4-DA90DF1EC57B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34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4" name="Marcador de contenido 3" descr=""/>
          <p:cNvPicPr/>
          <p:nvPr/>
        </p:nvPicPr>
        <p:blipFill>
          <a:blip r:embed="rId1"/>
          <a:srcRect l="-79785" t="0" r="-7978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Generar respuestas nuevas a problemas nuevos”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La creación de innovación genera valor económico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Unión entre ciencia y empresa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 los clúster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Regionalización de procesos innovadore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l Patentamiento de innovaciones (INAPI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blemas que presenta la innovació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Escaso capital humano especializ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El poco apoyo financiero al emprendimiento innovado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Poca inversión a la innovación y desarrollo de nuevos productos y servic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Mentalidad de desarrollo (procedimientos jurídicos y administrativos más eficientes y eficaces, desde la creación a la quiebr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OLÍTICA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ROYALTY MINERO (grava con 5% la renta imponible de las compañías mineras, proyecto de ley, aprobó en Senado  aumento 5-14% y la invariabilidad por 6 años y período de ajuste 2010-12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FIC (Fondo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NIC (Consejo Nacional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ONICYT, FONDECYT, FONDEF, FIA, GORES, SERCOTEC, INNOVA CHILE, INAPI (Ley Nº 20.254 de 2008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Ley de Incentivo Tributario I+D. Ley Nº 20.241 de 2008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istema nacional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8" name="6 Marcador de contenido" descr="Dibujo.JPG"/>
          <p:cNvPicPr/>
          <p:nvPr/>
        </p:nvPicPr>
        <p:blipFill>
          <a:blip r:embed="rId1"/>
          <a:stretch/>
        </p:blipFill>
        <p:spPr>
          <a:xfrm>
            <a:off x="682560" y="1285920"/>
            <a:ext cx="7845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ROL DEL MINISTERIO DE ECONOMÍA</a:t>
            </a: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ol de coordinador del sistem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onitorea la aplicación de los recurs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troduce mejoras pertinentes en el marco de la política y el plan de acció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Y LOS ABOGADO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novación plantea desafíos multidisciplinar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decuación de la profesión a la “Sociedad del Conocimiento”. (No estamos ajenos…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a Innovación (Marcas y Patente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os fondos públic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tividad legal, frente a nuevos problem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velocidad en los procesos de innovación (eficacia y eficiencia de la intervención estatal)</a:t>
            </a: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. 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(Elemento esencial)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Qué hemos visto hoy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sarrollo de CORFO en la historia del país y como influye en su devenir económ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spectos fundamentales de la 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olítica Pública Pro Innovación a partir de las FALLAS DE MERC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elación del Abogado con la I+D.  ¿Derecho a la Innovación?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95959"/>
                </a:solidFill>
                <a:latin typeface="News Gothic MT"/>
              </a:rPr>
              <a:t>¡¡¡MUCHAS GRACIAS!!!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55560" y="1676520"/>
            <a:ext cx="6421320" cy="16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CORFO, INNOVACIÓN Y EMPRENDIMIENTO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98989"/>
                </a:solidFill>
                <a:latin typeface="News Gothic MT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UMARI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Historia de CORFO (período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lgo de Derecho Administrativo…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debe existir una Política Pública? (fallas de mercado y la función del Estado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jercicio de la Profesión (actividad multidisciplinaria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HISTO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UNDAMENTOS: Consejo Económico y Terremoto del año 1939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urante el Gobierno de Pedro Aguirre Cerda., </a:t>
            </a:r>
            <a:r>
              <a:rPr b="0" lang="es-ES_tradnl" sz="2800" spc="-1" strike="noStrike">
                <a:solidFill>
                  <a:srgbClr val="595959"/>
                </a:solidFill>
                <a:latin typeface="News Gothic MT"/>
              </a:rPr>
              <a:t>Ley de Ley N° 6.334 de Reconstrucción y Auxilio y Fomento de la Producció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erío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lanes de Reconstrucción del paí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e ENAP, ENDESA, CAP, IANSA. (apoyo a la creación de empresa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de Allende (Estatización + 500 emp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Militar, modificó completamente la Política de CORFO (Privatización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Vuelta a la Democracia: (fin de los créditos y administración de empresa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 EL DÍA DE HO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poyo a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Investigación y desarrollo tecnológ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Asociatividad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Gestión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Acceso a financia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Algo de Derecho Administrativo…..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do por Ley Nº 6.640 de 1941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ersona Jurídica de Derecho público con patrimonio propi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Pluripersonal (Consejo CORF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Unipersonal (Vicepresident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cisiones que toma el Consejo (voluntad única)  y que pone en ejecución el Vicepresidente (Jefe del Servicio). Principio de Juridicid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Por qué financiar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Asistencialismo productiv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el Estado debe intervenir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una política pública de desarroll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Es legítimo apoyar a empresari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allas de Mercado”. (deficiencias en la asignación de recurso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posi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nega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tervención de CORFO en el mercado (Principio de Subsidiariedad y promoción del bien común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vita que se pierdan las posibilidades de innovación y de emprendimiento con un alto potencial en términos de beneficios para la economía como un todo”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34:41Z</dcterms:created>
  <dc:creator>Matías  Kühn</dc:creator>
  <dc:description/>
  <dc:language>en-US</dc:language>
  <cp:lastModifiedBy>jgallegos</cp:lastModifiedBy>
  <dcterms:modified xsi:type="dcterms:W3CDTF">2010-10-25T21:48:59Z</dcterms:modified>
  <cp:revision>9</cp:revision>
  <dc:subject/>
  <dc:title>CORFO Y LA INNOVACIÓN</dc:title>
</cp:coreProperties>
</file>