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8FA6C-3F77-49CB-9E87-BA27835D0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7A45F-70D0-428C-9F99-440F83CB9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0A932-279C-4EBE-A59B-67812538C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9713F-5C1E-45A9-9312-EFE009F32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CA2A6-88F1-478B-907F-CE954252D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47300-E5B0-4336-93C9-EED932679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235E5-22DB-4C2E-917D-DD6FBED87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1E634-CA06-456D-8AB5-4163E1C5F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F59FB-D152-458D-81C3-24441E06B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3F314-C6AD-4083-A9C2-D7FF7543E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B4C44-079F-4FAC-B385-73D570316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1BFA9-4C9D-48AF-BE58-E890329D3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0A0FB-3ECA-428A-B818-7BEEEACC3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F4457-DB0D-4E3C-9202-42B4D8135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8CE8D-746B-4857-B45E-457C35751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C2905-1849-4961-B06B-AD76B0113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A0B43-76A9-4E27-AA63-9960B87E1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05D6166-AA5B-46AC-8EE6-C34F5AE05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1AA32D-4A5F-444F-ADD5-A0DA8AABC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EB54BF6-E758-4679-A54E-645314F31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66DE957-C7F7-46E1-9757-2FCDFE01F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63E459-5911-42BB-9D19-D812F6919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FFFB2-8CF4-4E8A-B9DF-B20E8A773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2E8699D-EA5D-4C79-BAAA-EE47B83608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61837F-44BB-4BA7-812E-714EC34C1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F23BE9-97B0-43F3-83CD-D84E49017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31D238-2112-4645-B87F-B64BCAB0F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CB368A-E59B-4B3E-908F-726B13B1D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03EC76B-4FCB-4932-8177-3FCB01BC14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AB244B-785A-48CB-AFF9-EF347174AE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AAB8069-A514-4BDB-B864-5CD3DBDC26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E19072-F569-4196-84A4-10D130456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F198603-943B-4872-A72C-C87DD15F2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16BB1-F570-4DAD-BB2A-D14A94B03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36C357-817C-42AD-B81B-E7BBD4C09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01DB733-0E98-44E7-979B-F051711F7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3AE3436-E998-4086-B9B7-41CB57FD4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773F64-A814-4367-9211-236785B85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F2B02C-EA05-4368-B1F1-DE7E47352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ACC916-3FD0-4BBE-ABC9-85F211FBA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B08964-06F4-4DCC-8258-D1D2C4E9C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820C69-2E29-405B-BA74-9CC74F1A55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4DC1171-ED85-45E3-AC5C-E5EC918A72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0AEFEF0-E38C-4F2A-8E0B-5D9F9ECFA4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A2D14-8B70-4EB9-9BC0-7719741AB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702066-DF9F-488F-BC39-EB07BFBB7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9FEB7C-2BC4-4451-BF89-B3F0B1BB61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B418F5-CA9D-4992-BC61-591FD549CD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781BB1-47AF-4F96-862F-8967D0C1B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D2350C-0CB3-4228-8269-D6DFCD11F9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BBDB65-A159-4DB5-B59E-2D569D815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4086BF-78A5-489C-9811-173F78E44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630DA7-FAB7-429C-A8E6-D8E32EDE8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05FA51-2444-45E8-B8F5-5F68A4CFF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18ADF4A-39B4-4931-A050-3D20B135B3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C1243-41BB-46E3-8D9A-E0C9B0E8C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22C4BC7-7BD2-486E-A4E3-F6E29549C7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F9EB10-D0C1-4B48-92D8-3B42DF05E8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232869-8A6D-4B1C-A430-7FB61B213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D7A5B2-7AD5-4720-A316-5B951B9BD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756B25-3170-4CD1-B0EB-CBD8B6CD76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BBE511-D5C6-46BB-9D06-6A38237AA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1BDAC7-E83E-4BE1-A993-0F09C368A4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FE086-C472-4FF6-8B5D-A03D74BED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973C1-352A-484D-B9B4-C1446CC77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A3EF4-25A9-4DEE-A31A-AB583742E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0DC2-500A-4ABB-92B5-30FF9DAC6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1A9C1B-E1F0-4672-B2F6-80CF08F472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A3780E-08D7-4F7A-8861-EAEAC2090A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6BE336-71E8-4168-957E-1DA0E83E5A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E94C26A-E967-4C4C-B837-21B87D0A7A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B102927-362F-4461-B6AD-561EF90DD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CAEFAF0-F6A3-4685-8DE5-E06AB6988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0D5F89-A968-4619-B42A-08FE55588E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47E7D8-D87A-46CF-BC3A-FF2F5CD39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B34B24-CAF2-4FD1-AA5C-65440CE23A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60D0FA-E53F-493D-82E1-763FE3573A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DFE08-8F95-45FB-8F0B-EA5FBC03B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CA8EFA7-BB18-4B35-A95E-63F58E446B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6AC071-053B-43DB-BB90-AA0DEA500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E53492-59CC-45F3-BAF5-7572075153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34CD1FB-3E05-420F-BF20-3CD60A79D8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CE7C93E-EAA6-47DF-B8A3-AF3858E861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B03B66-FEFA-4854-AE1C-0AC68BB9FD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9605D0-FD13-4254-8825-9536A6FE20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94ADF-42BF-4F72-BFEC-81D5625525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A28A1B-13B5-4395-B466-B22D71FA5A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ED1AE-0E3C-448D-B24F-ED3CDA3245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E8A3-4E8B-4144-A536-171294EFB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E8877C-AD2F-4FFE-8820-856B7642D5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C60E16-B62A-46E7-B612-571C6BF17F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F035C-1EBC-48E1-9768-B78739ABE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73C6A9-381E-4A87-B4C3-5E78BBD25F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5EBAA3-EDC7-4C11-B3FE-39A2DC00F1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F188D7-7649-472D-9C61-6742F660ED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4C2C3A-CBC6-412C-8928-C93E86AF1A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11D5-B2FE-46A6-918E-B39122EC42A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D800-3F60-4EE0-954B-6CAAF15D15A7}" type="slidenum">
              <a:rPr b="1" lang="es-CL"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F485-D0C8-4A2D-856F-706366261769}" type="slidenum">
              <a:rPr b="1"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AF6B-1C45-4CB5-8201-ABF08734FF86}"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3CAD-F918-4861-8486-3661ECCA2AE6}"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9E5A-5AD8-45C5-A91A-AB16500B62C4}" type="slidenum">
              <a:rPr b="1" lang="es-CL"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480C-7266-4646-BD1E-C01B04CC2D42}" type="slidenum">
              <a:rPr b="1" lang="es-CL"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555C-4CDE-4E02-9BED-AC9D9FACB26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ebddc3"/>
                </a:solidFill>
                <a:latin typeface="Trebuchet MS"/>
              </a:rPr>
              <a:t>FINANCIANDO A LA MIPY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FOGAP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El Fondo de Garantía para Pequeños Empresarios (FOGAPE), es un Fondo estatal destinado a </a:t>
            </a:r>
            <a:r>
              <a:rPr b="1" lang="es-ES" sz="2700" spc="-1" strike="noStrike">
                <a:solidFill>
                  <a:srgbClr val="000000"/>
                </a:solidFill>
                <a:latin typeface="Tw Cen MT"/>
              </a:rPr>
              <a:t>garantizar un determinado porcentaje del capital </a:t>
            </a:r>
            <a:r>
              <a:rPr b="0" lang="es-ES" sz="2700" spc="-1" strike="noStrike">
                <a:solidFill>
                  <a:srgbClr val="000000"/>
                </a:solidFill>
                <a:latin typeface="Tw Cen MT"/>
              </a:rPr>
              <a:t>que las instituciones financieras otorgan a las MIPYME, para ser presentadas ante las instituciones financieras en sus solicitudes.</a:t>
            </a:r>
            <a:endParaRPr b="0" lang="en-US" sz="27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	</a:t>
            </a:r>
            <a:r>
              <a:rPr b="0" lang="es-ES" sz="2700" spc="-1" strike="noStrike">
                <a:solidFill>
                  <a:srgbClr val="000000"/>
                </a:solidFill>
                <a:latin typeface="Tw Cen MT"/>
              </a:rPr>
              <a:t>*La </a:t>
            </a:r>
            <a:r>
              <a:rPr b="1" lang="es-ES" sz="2700" spc="-1" strike="noStrike">
                <a:solidFill>
                  <a:srgbClr val="000000"/>
                </a:solidFill>
                <a:latin typeface="Tw Cen MT"/>
              </a:rPr>
              <a:t>administración</a:t>
            </a:r>
            <a:r>
              <a:rPr b="0" lang="es-ES" sz="2700" spc="-1" strike="noStrike">
                <a:solidFill>
                  <a:srgbClr val="000000"/>
                </a:solidFill>
                <a:latin typeface="Tw Cen MT"/>
              </a:rPr>
              <a:t> del FOGAPE le corresponde a </a:t>
            </a:r>
            <a:r>
              <a:rPr b="1" lang="es-ES" sz="2700" spc="-1" strike="noStrike">
                <a:solidFill>
                  <a:srgbClr val="000000"/>
                </a:solidFill>
                <a:latin typeface="Tw Cen MT"/>
              </a:rPr>
              <a:t>BancoEstado</a:t>
            </a:r>
            <a:r>
              <a:rPr b="0" lang="es-ES" sz="2700" spc="-1" strike="noStrike">
                <a:solidFill>
                  <a:srgbClr val="000000"/>
                </a:solidFill>
                <a:latin typeface="Tw Cen MT"/>
              </a:rPr>
              <a:t>, siendo supervisado por la Superintendencia de Bancos e Instituciones Financieras (SBIF). </a:t>
            </a:r>
            <a:endParaRPr b="0" lang="en-US" sz="27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w Cen MT"/>
              </a:rPr>
              <a:t>REQUISITOS Y BENEFICIOS</a:t>
            </a:r>
            <a:endParaRPr b="0" lang="en-US" sz="4400" spc="-1" strike="noStrike">
              <a:solidFill>
                <a:srgbClr val="775f55"/>
              </a:solidFill>
              <a:latin typeface="Tw Cen MT"/>
            </a:endParaRPr>
          </a:p>
        </p:txBody>
      </p:sp>
      <p:sp>
        <p:nvSpPr>
          <p:cNvPr id="371" name=""/>
          <p:cNvSpPr txBox="1"/>
          <p:nvPr/>
        </p:nvSpPr>
        <p:spPr>
          <a:xfrm>
            <a:off x="642960" y="1714680"/>
            <a:ext cx="8229600" cy="4525920"/>
          </a:xfrm>
          <a:prstGeom prst="rect">
            <a:avLst/>
          </a:prstGeom>
          <a:noFill/>
          <a:ln w="0">
            <a:noFill/>
          </a:ln>
        </p:spPr>
        <p:txBody>
          <a:bodyPr anchor="t">
            <a:normAutofit fontScale="93000"/>
          </a:bodyPr>
          <a:p>
            <a:pPr marL="296280" indent="-2962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Requisitos para obtenerlo:</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be estar clasificado en las </a:t>
            </a:r>
            <a:r>
              <a:rPr b="1" lang="es-ES" sz="2000" spc="-1" strike="noStrike">
                <a:solidFill>
                  <a:srgbClr val="000000"/>
                </a:solidFill>
                <a:latin typeface="Tw Cen MT"/>
              </a:rPr>
              <a:t>categorías de riesgo A o B</a:t>
            </a:r>
            <a:r>
              <a:rPr b="0" lang="es-ES" sz="2000" spc="-1" strike="noStrike">
                <a:solidFill>
                  <a:srgbClr val="000000"/>
                </a:solidFill>
                <a:latin typeface="Tw Cen MT"/>
              </a:rPr>
              <a:t>, según las normas de la Superintendencia de Bancos e Instituciones Financieras.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ntar con </a:t>
            </a:r>
            <a:r>
              <a:rPr b="1" lang="es-ES" sz="2000" spc="-1" strike="noStrike">
                <a:solidFill>
                  <a:srgbClr val="000000"/>
                </a:solidFill>
                <a:latin typeface="Tw Cen MT"/>
              </a:rPr>
              <a:t>Informes Comerciales favorables</a:t>
            </a:r>
            <a:r>
              <a:rPr b="0" lang="es-ES" sz="2000" spc="-1" strike="noStrike">
                <a:solidFill>
                  <a:srgbClr val="000000"/>
                </a:solidFill>
                <a:latin typeface="Tw Cen MT"/>
              </a:rPr>
              <a:t>. </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Beneficios:</a:t>
            </a:r>
            <a:endParaRPr b="0" lang="en-US" sz="20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Acceso al Fondo Estatal que </a:t>
            </a:r>
            <a:r>
              <a:rPr b="1" lang="es-ES" sz="2000" spc="-1" strike="noStrike">
                <a:solidFill>
                  <a:srgbClr val="000000"/>
                </a:solidFill>
                <a:latin typeface="Tw Cen MT"/>
              </a:rPr>
              <a:t>garantiza un porcentaje del capital </a:t>
            </a:r>
            <a:r>
              <a:rPr b="0" lang="es-ES" sz="2000" spc="-1" strike="noStrike">
                <a:solidFill>
                  <a:srgbClr val="000000"/>
                </a:solidFill>
                <a:latin typeface="Tw Cen MT"/>
              </a:rPr>
              <a:t>que la Empresa requiere para financiar y expandir sus operaciones.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Montos máximos </a:t>
            </a:r>
            <a:r>
              <a:rPr b="0" lang="es-ES" sz="2000" spc="-1" strike="noStrike">
                <a:solidFill>
                  <a:srgbClr val="000000"/>
                </a:solidFill>
                <a:latin typeface="Tw Cen MT"/>
              </a:rPr>
              <a:t>de financiamiento: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Pequeños Empresarios hasta 5.000 UF.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Organizaciones de Pequeños Empresarios hasta 24.000 UF. </a:t>
            </a:r>
            <a:endParaRPr b="0" lang="en-US" sz="2000" spc="-1" strike="noStrike">
              <a:solidFill>
                <a:srgbClr val="000000"/>
              </a:solidFill>
              <a:latin typeface="Tw Cen MT"/>
            </a:endParaRPr>
          </a:p>
          <a:p>
            <a:pPr marL="296280" indent="-296280">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Exportadores hasta 5.000 UF, expresadas en pesos o dólares. </a:t>
            </a:r>
            <a:endParaRPr b="0" lang="en-US" sz="2000" spc="-1" strike="noStrike">
              <a:solidFill>
                <a:srgbClr val="000000"/>
              </a:solidFill>
              <a:latin typeface="Tw Cen MT"/>
            </a:endParaRPr>
          </a:p>
          <a:p>
            <a:pPr marL="296280" indent="-2962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95280" y="404640"/>
            <a:ext cx="8229600" cy="50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7f7f7f"/>
                </a:solidFill>
                <a:latin typeface="Trebuchet MS"/>
              </a:rPr>
              <a:t>NOVEDAD: NUEVA FICHA ESTANDARIZADA DE INFORMACIÓN FINANCIERA PARA LAS PYMES (DEL TIPO FECU EN S.A.)</a:t>
            </a:r>
            <a:endParaRPr b="0" lang="en-US" sz="2400" spc="-1" strike="noStrike">
              <a:solidFill>
                <a:srgbClr val="775f55"/>
              </a:solidFill>
              <a:latin typeface="Tw Cen MT"/>
            </a:endParaRPr>
          </a:p>
        </p:txBody>
      </p:sp>
      <p:sp>
        <p:nvSpPr>
          <p:cNvPr id="373" name=""/>
          <p:cNvSpPr txBox="1"/>
          <p:nvPr/>
        </p:nvSpPr>
        <p:spPr>
          <a:xfrm>
            <a:off x="457200" y="1844280"/>
            <a:ext cx="8229600" cy="4281480"/>
          </a:xfrm>
          <a:prstGeom prst="rect">
            <a:avLst/>
          </a:prstGeom>
          <a:noFill/>
          <a:ln w="0">
            <a:noFill/>
          </a:ln>
        </p:spPr>
        <p:txBody>
          <a:bodyPr anchor="t">
            <a:normAutofit fontScale="97000"/>
          </a:bodyPr>
          <a:p>
            <a:pPr marL="309240" indent="-309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Iniciativa conjunta entre la SBIF y ABIF apunta a simplificar y estandarizar información financiera existente hoy en el mercado. La ficha busca reducir la incertidumbre de la información y facilitar la relación Pymes-Sistema Financiero. </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w Cen MT"/>
              </a:rPr>
              <a:t>2. BOLSA EMERGENTE</a:t>
            </a:r>
            <a:endParaRPr b="0" lang="en-US" sz="36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ntro de la Bolsa de Comercio de Santiago, existe un segmento bursátil denominado "El Mercado de Empresas Emergentes“.</a:t>
            </a: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El mercado de empresas emergentes está orientado a empresas:</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Nuevas o constituidas hace pocos años, y que buscan financiamiento para un plan de negocios innovador.</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Que participan en sectores que deben desarrollar alta tecnología.</a:t>
            </a:r>
            <a:endParaRPr b="0" lang="en-US" sz="2000" spc="-1" strike="noStrike">
              <a:solidFill>
                <a:srgbClr val="000000"/>
              </a:solidFill>
              <a:latin typeface="Tw Cen MT"/>
            </a:endParaRPr>
          </a:p>
          <a:p>
            <a:pPr marL="318960" indent="-31896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 rápida expansión o con proyectos con fuerte potencial de crecimiento, para cuyo financiamiento requieren necesariamente de un aumento de capital.</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w Cen MT"/>
              </a:rPr>
              <a:t>NORMATIVA</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La Norma que regula los requisitos de inscripción en el Registro de Valores para una Sociedad, y sus acciones, y que tengan interés en transar sus acciones en los mercados emergentes, corresponde a la </a:t>
            </a:r>
            <a:r>
              <a:rPr b="1" lang="es-ES" sz="2900" spc="-1" strike="noStrike">
                <a:solidFill>
                  <a:srgbClr val="000000"/>
                </a:solidFill>
                <a:latin typeface="Tw Cen MT"/>
              </a:rPr>
              <a:t>NCG N°118 de la SVS</a:t>
            </a:r>
            <a:r>
              <a:rPr b="0" lang="es-E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3. CAPITAL DE RIESGO</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fontScale="93000"/>
          </a:bodyPr>
          <a:p>
            <a:pPr marL="296280" indent="-296280" algn="just">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w Cen MT"/>
              </a:rPr>
              <a:t>¿Qué es el Capital de Riesgo? </a:t>
            </a:r>
            <a:endParaRPr b="0" lang="en-US" sz="2000" spc="-1" strike="noStrike">
              <a:solidFill>
                <a:srgbClr val="000000"/>
              </a:solidFill>
              <a:latin typeface="Tw Cen MT"/>
            </a:endParaRPr>
          </a:p>
          <a:p>
            <a:pPr marL="296280" indent="-296280" algn="just">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Es aquélla actividad financiera consistente en el aporte de capital que realiza un fondo de inversión o inversionista, de forma temporal, a empresas emergentes de alto riesgo, como las </a:t>
            </a:r>
            <a:r>
              <a:rPr b="1" lang="es-ES" sz="2000" spc="-1" strike="noStrike">
                <a:solidFill>
                  <a:srgbClr val="000000"/>
                </a:solidFill>
                <a:latin typeface="Tw Cen MT"/>
              </a:rPr>
              <a:t>MIPYME</a:t>
            </a:r>
            <a:r>
              <a:rPr b="0" lang="es-ES" sz="2000" spc="-1" strike="noStrike">
                <a:solidFill>
                  <a:srgbClr val="000000"/>
                </a:solidFill>
                <a:latin typeface="Tw Cen MT"/>
              </a:rPr>
              <a:t>, que quieran y no puedan obtener recursos de otra fuente, para así comenzar con su negocio, ponerlo en marcha, expandirlo o consolidarlo, no siendo dicha inversión una herramienta para controlar la sociedad, sino simplemente una modalidad destinada a tener un rol activo en ella.</a:t>
            </a:r>
            <a:endParaRPr b="0" lang="en-US" sz="2000" spc="-1" strike="noStrike">
              <a:solidFill>
                <a:srgbClr val="000000"/>
              </a:solidFill>
              <a:latin typeface="Tw Cen MT"/>
            </a:endParaRPr>
          </a:p>
          <a:p>
            <a:pPr marL="296280" indent="-2962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w Cen MT"/>
              </a:rPr>
              <a:t>NORMATIVA</a:t>
            </a:r>
            <a:endParaRPr b="0" lang="en-US" sz="3600" spc="-1" strike="noStrike">
              <a:solidFill>
                <a:srgbClr val="775f55"/>
              </a:solidFill>
              <a:latin typeface="Tw Cen MT"/>
            </a:endParaRPr>
          </a:p>
        </p:txBody>
      </p:sp>
      <p:sp>
        <p:nvSpPr>
          <p:cNvPr id="381" name=""/>
          <p:cNvSpPr txBox="1"/>
          <p:nvPr/>
        </p:nvSpPr>
        <p:spPr>
          <a:xfrm>
            <a:off x="428760" y="1357200"/>
            <a:ext cx="8229600" cy="4525920"/>
          </a:xfrm>
          <a:prstGeom prst="rect">
            <a:avLst/>
          </a:prstGeom>
          <a:noFill/>
          <a:ln w="0">
            <a:noFill/>
          </a:ln>
        </p:spPr>
        <p:txBody>
          <a:bodyPr anchor="t">
            <a:normAutofit fontScale="96000"/>
          </a:bodyPr>
          <a:p>
            <a:pPr marL="306000" indent="-30600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denominada </a:t>
            </a:r>
            <a:r>
              <a:rPr b="0" i="1" lang="es-ES" sz="2600" spc="-1" strike="noStrike">
                <a:solidFill>
                  <a:srgbClr val="000000"/>
                </a:solidFill>
                <a:latin typeface="Tw Cen MT"/>
              </a:rPr>
              <a:t>“Ley de Mercados de Capitales II”, </a:t>
            </a:r>
            <a:r>
              <a:rPr b="0" lang="es-ES" sz="2600" spc="-1" strike="noStrike">
                <a:solidFill>
                  <a:srgbClr val="000000"/>
                </a:solidFill>
                <a:latin typeface="Tw Cen MT"/>
              </a:rPr>
              <a:t>da un salto importante en la materia (complementada con la MK3).</a:t>
            </a:r>
            <a:endParaRPr b="0" lang="en-US" sz="26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La Ley Nº 20.190 introduce Adecuaciones Tributarias e Institucionales para el Fomento de la Industria de Capital de Riesgo y continua el proceso de modernización del Mercado de Capitales.</a:t>
            </a:r>
            <a:endParaRPr b="0" lang="en-US" sz="2600" spc="-1" strike="noStrike">
              <a:solidFill>
                <a:srgbClr val="000000"/>
              </a:solidFill>
              <a:latin typeface="Tw Cen MT"/>
            </a:endParaRPr>
          </a:p>
          <a:p>
            <a:pPr marL="306000" indent="-3060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Su gran aporte es el otorgamiento de </a:t>
            </a:r>
            <a:r>
              <a:rPr b="1" lang="es-ES" sz="2600" spc="-1" strike="noStrike">
                <a:solidFill>
                  <a:srgbClr val="000000"/>
                </a:solidFill>
                <a:latin typeface="Tw Cen MT"/>
              </a:rPr>
              <a:t>beneficios tributarios</a:t>
            </a:r>
            <a:r>
              <a:rPr b="0" lang="es-ES" sz="2600" spc="-1" strike="noStrike">
                <a:solidFill>
                  <a:srgbClr val="000000"/>
                </a:solidFill>
                <a:latin typeface="Tw Cen MT"/>
              </a:rPr>
              <a:t> tanto a los Fondos de Inversión como a los Inversionistas (Inversionistas Ángeles), ante ganancias de capital.</a:t>
            </a:r>
            <a:endParaRPr b="0" lang="en-US" sz="2600" spc="-1" strike="noStrike">
              <a:solidFill>
                <a:srgbClr val="000000"/>
              </a:solidFill>
              <a:latin typeface="Tw Cen MT"/>
            </a:endParaRPr>
          </a:p>
          <a:p>
            <a:pPr marL="306000" indent="-30600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CARACTERÍSTICAS DEL CAPITAL DE RIESGO</a:t>
            </a:r>
            <a:endParaRPr b="0" lang="en-US" sz="3600" spc="-1" strike="noStrike">
              <a:solidFill>
                <a:srgbClr val="775f55"/>
              </a:solidFill>
              <a:latin typeface="Tw Cen MT"/>
            </a:endParaRPr>
          </a:p>
        </p:txBody>
      </p:sp>
      <p:sp>
        <p:nvSpPr>
          <p:cNvPr id="383" name="2 Rectángulo"/>
          <p:cNvSpPr/>
          <p:nvPr/>
        </p:nvSpPr>
        <p:spPr>
          <a:xfrm>
            <a:off x="539640" y="1700280"/>
            <a:ext cx="806472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MPORALIDAD</a:t>
            </a:r>
            <a:r>
              <a:rPr b="0" lang="es-ES" sz="1600" spc="-1" strike="noStrike">
                <a:solidFill>
                  <a:srgbClr val="000000"/>
                </a:solidFill>
                <a:latin typeface="Trebuchet MS"/>
              </a:rPr>
              <a:t>: La inversión es temporal. Los retornos de la inversión son obtenidos a través de ganancias de capit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AUSENCIA DE GARANTÍAS</a:t>
            </a:r>
            <a:r>
              <a:rPr b="0" lang="es-ES" sz="1600" spc="-1" strike="noStrike">
                <a:solidFill>
                  <a:srgbClr val="000000"/>
                </a:solidFill>
                <a:latin typeface="Trebuchet MS"/>
              </a:rPr>
              <a:t>: Los recursos son aportados sin exigencia de colateral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PARTICIPACIÓN MINORITARIA</a:t>
            </a:r>
            <a:r>
              <a:rPr b="0" lang="es-ES" sz="1600" spc="-1" strike="noStrike">
                <a:solidFill>
                  <a:srgbClr val="000000"/>
                </a:solidFill>
                <a:latin typeface="Trebuchet MS"/>
              </a:rPr>
              <a:t>: Los capitalistas de riesgo no buscan controlar el negocio en que invierte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SOCIOS ACTIVOS</a:t>
            </a:r>
            <a:r>
              <a:rPr b="0" lang="es-ES" sz="1600" spc="-1" strike="noStrike">
                <a:solidFill>
                  <a:srgbClr val="000000"/>
                </a:solidFill>
                <a:latin typeface="Trebuchet MS"/>
              </a:rPr>
              <a:t>: Su participación en la empresa no se limita a proveer recursos, ya que también apoyan su gestión, particularmente financiera y comercial y ponen a disposición sus redes de contac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REGULACIÓN CONTRACTUAL DE SU PARTICIPACIÓN</a:t>
            </a:r>
            <a:r>
              <a:rPr b="0" lang="es-ES" sz="1600" spc="-1" strike="noStrike">
                <a:solidFill>
                  <a:srgbClr val="000000"/>
                </a:solidFill>
                <a:latin typeface="Trebuchet MS"/>
              </a:rPr>
              <a:t>: Los aportes van acompañados de contratos complej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XISTENCIA DE INVERSIONISTAS ÁNGELES </a:t>
            </a:r>
            <a:r>
              <a:rPr b="0" lang="es-ES" sz="1600" spc="-1" strike="noStrike">
                <a:solidFill>
                  <a:srgbClr val="000000"/>
                </a:solidFill>
                <a:latin typeface="Trebuchet MS"/>
              </a:rPr>
              <a:t>: Son aquellos individuos que disponen de recursos abundantes y buscan invertir en firmas emergentes a cambio de participación accionaria en la compañía. Sus aportes a los negocios incluyen financiamiento, traspaso de experiencia empresarial y contactos. </a:t>
            </a:r>
            <a:r>
              <a:rPr b="1" lang="es-ES" sz="1600" spc="-1" strike="noStrike">
                <a:solidFill>
                  <a:srgbClr val="000000"/>
                </a:solidFill>
                <a:latin typeface="Trebuchet MS"/>
              </a:rPr>
              <a:t>En Chile </a:t>
            </a:r>
            <a:r>
              <a:rPr b="0" lang="es-ES" sz="1600" spc="-1" strike="noStrike">
                <a:solidFill>
                  <a:srgbClr val="000000"/>
                </a:solidFill>
                <a:latin typeface="Trebuchet MS"/>
              </a:rPr>
              <a:t>existen redes de Inversionistas Ánge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620640"/>
            <a:ext cx="815328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ETAPAS</a:t>
            </a:r>
            <a:br>
              <a:rPr sz="3600"/>
            </a:br>
            <a:endParaRPr b="0" lang="en-US" sz="3600" spc="-1" strike="noStrike">
              <a:solidFill>
                <a:srgbClr val="775f55"/>
              </a:solidFill>
              <a:latin typeface="Tw Cen MT"/>
            </a:endParaRPr>
          </a:p>
        </p:txBody>
      </p:sp>
      <p:sp>
        <p:nvSpPr>
          <p:cNvPr id="385" name="2 Rectángulo"/>
          <p:cNvSpPr/>
          <p:nvPr/>
        </p:nvSpPr>
        <p:spPr>
          <a:xfrm>
            <a:off x="324000" y="1557360"/>
            <a:ext cx="806436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1. FASE DE INCUB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n esta etapa se elabora el concepto del negocio y existe un proceso se estudio de merc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2. FASE DE PUESTA EN MARCHA Y DESARROLLO INICI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n esta etapa se contrata al personal y se compran activos. También se inicia la venta y producción. En estas rondas se comprueba el éxito del producto. El capital es aportado por inversionistas ángeles y fondos de capital de riesgo especializados en etapas tempran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3. FASE DE EXPANS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Se requieren de activos adicionales en esta fase de expansión. Se abren nuevos mercados, además de su ampli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1" lang="es-ES" sz="1600" spc="-1" strike="noStrike">
                <a:solidFill>
                  <a:srgbClr val="000000"/>
                </a:solidFill>
                <a:latin typeface="Trebuchet MS"/>
              </a:rPr>
              <a:t>4. FASE DE MADUREZ: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	</a:t>
            </a:r>
            <a:r>
              <a:rPr b="0" lang="es-ES" sz="1600" spc="-1" strike="noStrike">
                <a:solidFill>
                  <a:srgbClr val="000000"/>
                </a:solidFill>
                <a:latin typeface="Trebuchet MS"/>
              </a:rPr>
              <a:t>	</a:t>
            </a:r>
            <a:r>
              <a:rPr b="0" lang="es-ES" sz="1600" spc="-1" strike="noStrike">
                <a:solidFill>
                  <a:srgbClr val="000000"/>
                </a:solidFill>
                <a:latin typeface="Trebuchet MS"/>
              </a:rPr>
              <a:t>Esta es la última etapa. En ella, puede haber apertura en bolsa, adquisición o fusión de la empresa. La Bolsa de Valores toma un rol fundamental. Como forma de obtener una ganancia de capital definitiva, puede la empresa ser adquirida por otra empresa, basándose en sus potencialidades de crec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CONCLUSIONES</a:t>
            </a:r>
            <a:endParaRPr b="0" lang="en-US" sz="4400" spc="-1" strike="noStrike">
              <a:solidFill>
                <a:srgbClr val="775f55"/>
              </a:solidFill>
              <a:latin typeface="Tw Cen MT"/>
            </a:endParaRPr>
          </a:p>
        </p:txBody>
      </p:sp>
      <p:sp>
        <p:nvSpPr>
          <p:cNvPr id="387" name="2 Rectángulo"/>
          <p:cNvSpPr/>
          <p:nvPr/>
        </p:nvSpPr>
        <p:spPr>
          <a:xfrm>
            <a:off x="755640" y="1557360"/>
            <a:ext cx="7920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El </a:t>
            </a:r>
            <a:r>
              <a:rPr b="1" lang="es-ES" sz="1800" spc="-1" strike="noStrike">
                <a:solidFill>
                  <a:srgbClr val="000000"/>
                </a:solidFill>
                <a:latin typeface="Trebuchet MS"/>
              </a:rPr>
              <a:t>Capital de Riesgo </a:t>
            </a:r>
            <a:r>
              <a:rPr b="0" lang="es-ES" sz="1800" spc="-1" strike="noStrike">
                <a:solidFill>
                  <a:srgbClr val="000000"/>
                </a:solidFill>
                <a:latin typeface="Trebuchet MS"/>
              </a:rPr>
              <a:t>debiera ser la herramienta de financiación alternativa más adecuada para empresas que se encuentren en momentos de iniciación y expansión, y que afronten necesidades importantes de financiación, a través de Fondos de Inversión o Inversionistas Ángel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Los </a:t>
            </a:r>
            <a:r>
              <a:rPr b="1" lang="es-ES" sz="1800" spc="-1" strike="noStrike">
                <a:solidFill>
                  <a:srgbClr val="000000"/>
                </a:solidFill>
                <a:latin typeface="Trebuchet MS"/>
              </a:rPr>
              <a:t>Créditos Bancarios</a:t>
            </a:r>
            <a:r>
              <a:rPr b="0" lang="es-ES" sz="1800" spc="-1" strike="noStrike">
                <a:solidFill>
                  <a:srgbClr val="000000"/>
                </a:solidFill>
                <a:latin typeface="Trebuchet MS"/>
              </a:rPr>
              <a:t>, con ayuda de los fondos de garantía estatales, deberían seguir al alza en los próximos añ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En último término, la </a:t>
            </a:r>
            <a:r>
              <a:rPr b="1" lang="es-ES" sz="1800" spc="-1" strike="noStrike">
                <a:solidFill>
                  <a:srgbClr val="000000"/>
                </a:solidFill>
                <a:latin typeface="Trebuchet MS"/>
              </a:rPr>
              <a:t>Bolsa Emergente </a:t>
            </a:r>
            <a:r>
              <a:rPr b="0" lang="es-ES" sz="1800" spc="-1" strike="noStrike">
                <a:solidFill>
                  <a:srgbClr val="000000"/>
                </a:solidFill>
                <a:latin typeface="Trebuchet MS"/>
              </a:rPr>
              <a:t>genera la obtención de capital por medio de la emisión de acciones, lo que en definitiva permite financiar proyectos emerge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r>
              <a:rPr b="0" lang="es-ES" sz="1800" spc="-1" strike="noStrike">
                <a:solidFill>
                  <a:srgbClr val="000000"/>
                </a:solidFill>
                <a:latin typeface="Trebuchet MS"/>
              </a:rPr>
              <a:t>En último término y como señalábamos anteriormente, la Reforma al Mercado de Capitales II (complementada con la MK3) permite que ciertas inversiones que se realicen estén exentas de impuesto a la renta, lo que sin duda se transforma en un fuerte incentivo al desarrollo económico de estos mercados y es un claro ejemplo de la Política Fiscal que en esta materia se tiene en la actu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75f55"/>
                </a:solidFill>
                <a:latin typeface="Tw Cen MT"/>
              </a:rPr>
              <a:t>TIPOS DE EMPRESAS  (DEFINIDAS POR EL ART. 2º LEY Nº 20.416, QUE FIJA NORMAS ESPECIALES PARA LAS EMPRESAS DE MENOR TAMAÑO)</a:t>
            </a:r>
            <a:endParaRPr b="0" lang="en-US" sz="2400" spc="-1" strike="noStrike">
              <a:solidFill>
                <a:srgbClr val="775f55"/>
              </a:solidFill>
              <a:latin typeface="Tw Cen MT"/>
            </a:endParaRPr>
          </a:p>
        </p:txBody>
      </p:sp>
      <p:sp>
        <p:nvSpPr>
          <p:cNvPr id="353" name=""/>
          <p:cNvSpPr txBox="1"/>
          <p:nvPr/>
        </p:nvSpPr>
        <p:spPr>
          <a:xfrm>
            <a:off x="571680" y="1571760"/>
            <a:ext cx="8400960" cy="452592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MICRO EMPRESA: Hasta 2.400 UF y hasta 4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PEQUEÑA EMPRESA: Entre 2.401 y 25.000 UF</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MEDIANA EMPRESA: Entre 25.001 y 100.000 UF</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lang="es-ES" sz="2400" spc="-1" strike="noStrike">
                <a:solidFill>
                  <a:srgbClr val="000000"/>
                </a:solidFill>
                <a:latin typeface="Tw Cen MT"/>
              </a:rPr>
              <a:t>	</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lang="es-ES" sz="2400" spc="-1" strike="noStrike">
                <a:solidFill>
                  <a:srgbClr val="000000"/>
                </a:solidFill>
                <a:latin typeface="Tw Cen MT"/>
              </a:rPr>
              <a:t>*PYME, entre 5 y 199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GRAN EMPRESA: Más de 100.000 UF y más de 200 trabajadore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NUEVA POLÍTICA FISCAL</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egún el artículo 3 de la Ley Nº 20.416, que fija normas especiales para las empresas de menor tamaño, (de 13 de Enero de 2010):</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400" spc="-1" strike="noStrike">
                <a:solidFill>
                  <a:srgbClr val="000000"/>
                </a:solidFill>
                <a:latin typeface="Tw Cen MT"/>
              </a:rPr>
              <a:t>	</a:t>
            </a:r>
            <a:r>
              <a:rPr b="0" i="1" lang="es-ES" sz="2400" spc="-1" strike="noStrike">
                <a:solidFill>
                  <a:srgbClr val="000000"/>
                </a:solidFill>
                <a:latin typeface="Tw Cen MT"/>
              </a:rPr>
              <a:t>“</a:t>
            </a:r>
            <a:r>
              <a:rPr b="0" i="1" lang="es-ES" sz="2400" spc="-1" strike="noStrike">
                <a:solidFill>
                  <a:srgbClr val="000000"/>
                </a:solidFill>
                <a:latin typeface="Tw Cen MT"/>
              </a:rPr>
              <a:t>El Ministerio de Economía, Fomento y Reconstrucción deberá impulsar el desarrollo de las empresas de menor tamaño y facilitarles la utilización de los instrumentos de fomento dispuestos por los órganos del Estado.”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7f7f7f"/>
                </a:solidFill>
                <a:latin typeface="Trebuchet MS"/>
              </a:rPr>
              <a:t>PROBLEMA!</a:t>
            </a:r>
            <a:endParaRPr b="0" lang="en-US" sz="3600" spc="-1" strike="noStrike">
              <a:solidFill>
                <a:srgbClr val="775f55"/>
              </a:solidFill>
              <a:latin typeface="Tw Cen MT"/>
            </a:endParaRPr>
          </a:p>
        </p:txBody>
      </p:sp>
      <p:sp>
        <p:nvSpPr>
          <p:cNvPr id="357" name=""/>
          <p:cNvSpPr txBox="1"/>
          <p:nvPr/>
        </p:nvSpPr>
        <p:spPr>
          <a:xfrm>
            <a:off x="500040" y="1357200"/>
            <a:ext cx="8229600" cy="491184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En Latinoamérica y en la mayor parte de los países del mundo, las MIPYME, tienen una participación relevante en la economía del país. Sin embargo, </a:t>
            </a:r>
            <a:r>
              <a:rPr b="1" i="1" lang="es-ES" sz="3200" spc="-1" strike="noStrike">
                <a:solidFill>
                  <a:srgbClr val="000000"/>
                </a:solidFill>
                <a:latin typeface="Tw Cen MT"/>
              </a:rPr>
              <a:t>enfrentan grandes problemas al momento de acceder a las fuentes de financiamiento tradicionales </a:t>
            </a:r>
            <a:r>
              <a:rPr b="0" lang="es-ES" sz="3200" spc="-1" strike="noStrike">
                <a:solidFill>
                  <a:srgbClr val="000000"/>
                </a:solidFill>
                <a:latin typeface="Tw Cen MT"/>
              </a:rPr>
              <a:t>para financiar sus proyectos de desarrollo. </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RAZONES…</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fontScale="94000"/>
          </a:bodyPr>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ES" sz="2400" spc="-1" strike="noStrike">
                <a:solidFill>
                  <a:srgbClr val="000000"/>
                </a:solidFill>
                <a:latin typeface="Tw Cen MT"/>
              </a:rPr>
              <a:t>Existen 3 elementos relacionados al riesgo de las MIPYMES que determinan que el acceso a cualquier tipo de financiamiento pueda ser </a:t>
            </a:r>
            <a:r>
              <a:rPr b="1" lang="es-ES" sz="2400" spc="-1" strike="noStrike">
                <a:solidFill>
                  <a:srgbClr val="000000"/>
                </a:solidFill>
                <a:latin typeface="Tw Cen MT"/>
              </a:rPr>
              <a:t>más caro y complejo </a:t>
            </a:r>
            <a:r>
              <a:rPr b="0" lang="es-ES" sz="2400" spc="-1" strike="noStrike">
                <a:solidFill>
                  <a:srgbClr val="000000"/>
                </a:solidFill>
                <a:latin typeface="Tw Cen MT"/>
              </a:rPr>
              <a:t>para ellas en términos comparativo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n general existe </a:t>
            </a:r>
            <a:r>
              <a:rPr b="1" lang="es-ES" sz="2400" spc="-1" strike="noStrike">
                <a:solidFill>
                  <a:srgbClr val="000000"/>
                </a:solidFill>
                <a:latin typeface="Tw Cen MT"/>
              </a:rPr>
              <a:t>menos información histórica </a:t>
            </a:r>
            <a:r>
              <a:rPr b="0" lang="es-ES" sz="2400" spc="-1" strike="noStrike">
                <a:solidFill>
                  <a:srgbClr val="000000"/>
                </a:solidFill>
                <a:latin typeface="Tw Cen MT"/>
              </a:rPr>
              <a:t>del negocio que en grandes empresas y </a:t>
            </a:r>
            <a:r>
              <a:rPr b="1" lang="es-ES" sz="2400" spc="-1" strike="noStrike">
                <a:solidFill>
                  <a:srgbClr val="000000"/>
                </a:solidFill>
                <a:latin typeface="Tw Cen MT"/>
              </a:rPr>
              <a:t>menos información de gestión financiera</a:t>
            </a:r>
            <a:r>
              <a:rPr b="0" lang="es-ES" sz="2400" spc="-1" strike="noStrike">
                <a:solidFill>
                  <a:srgbClr val="000000"/>
                </a:solidFill>
                <a:latin typeface="Tw Cen MT"/>
              </a:rPr>
              <a:t> - contable que las grandes empresa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n general tienen </a:t>
            </a:r>
            <a:r>
              <a:rPr b="1" lang="es-ES" sz="2400" spc="-1" strike="noStrike">
                <a:solidFill>
                  <a:srgbClr val="000000"/>
                </a:solidFill>
                <a:latin typeface="Tw Cen MT"/>
              </a:rPr>
              <a:t>menos garantías reales </a:t>
            </a:r>
            <a:r>
              <a:rPr b="0" lang="es-ES" sz="2400" spc="-1" strike="noStrike">
                <a:solidFill>
                  <a:srgbClr val="000000"/>
                </a:solidFill>
                <a:latin typeface="Tw Cen MT"/>
              </a:rPr>
              <a:t>que las grandes empresas.</a:t>
            </a: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us </a:t>
            </a:r>
            <a:r>
              <a:rPr b="1" lang="es-ES" sz="2400" spc="-1" strike="noStrike">
                <a:solidFill>
                  <a:srgbClr val="000000"/>
                </a:solidFill>
                <a:latin typeface="Tw Cen MT"/>
              </a:rPr>
              <a:t>flujos de caja</a:t>
            </a:r>
            <a:r>
              <a:rPr b="0" lang="es-ES" sz="2400" spc="-1" strike="noStrike">
                <a:solidFill>
                  <a:srgbClr val="000000"/>
                </a:solidFill>
                <a:latin typeface="Tw Cen MT"/>
              </a:rPr>
              <a:t> por lo general son menos predecibles.</a:t>
            </a:r>
            <a:endParaRPr b="0" lang="en-US" sz="2400" spc="-1" strike="noStrike">
              <a:solidFill>
                <a:srgbClr val="000000"/>
              </a:solidFill>
              <a:latin typeface="Tw Cen MT"/>
            </a:endParaRPr>
          </a:p>
          <a:p>
            <a:pPr marL="299520" indent="-299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7f7f7f"/>
                </a:solidFill>
                <a:latin typeface="Trebuchet MS"/>
              </a:rPr>
              <a:t>ALTERNATIVAS DE FINANCIAMIENTO</a:t>
            </a:r>
            <a:endParaRPr b="0" lang="en-US" sz="40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PROPIA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umento de capital, mediante aporte de los socios.</a:t>
            </a:r>
            <a:endParaRPr b="0" lang="en-US" sz="20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Retención de utilidades.</a:t>
            </a:r>
            <a:endParaRPr b="0" lang="en-US" sz="20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Problema</a:t>
            </a:r>
            <a:r>
              <a:rPr b="0" lang="es-ES" sz="1800" spc="-1" strike="noStrike">
                <a:solidFill>
                  <a:srgbClr val="000000"/>
                </a:solidFill>
                <a:latin typeface="Trebuchet MS"/>
              </a:rPr>
              <a:t>: En los inicios se carece de capital y de utilidade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rPr>
              <a:t>EXTERNA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réditos Bancario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Bolsa Emergent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apital de Riesg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Corf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7f7f7f"/>
                </a:solidFill>
                <a:latin typeface="Tw Cen MT"/>
              </a:rPr>
              <a:t>RIESGO DESDE LA PERSPECTIVA DEL FINANCIAMIENTO Y PYMES</a:t>
            </a:r>
            <a:endParaRPr b="0" lang="en-US" sz="2800" spc="-1" strike="noStrike">
              <a:solidFill>
                <a:srgbClr val="775f55"/>
              </a:solidFill>
              <a:latin typeface="Tw Cen MT"/>
            </a:endParaRPr>
          </a:p>
        </p:txBody>
      </p:sp>
      <p:sp>
        <p:nvSpPr>
          <p:cNvPr id="363" name=""/>
          <p:cNvSpPr txBox="1"/>
          <p:nvPr/>
        </p:nvSpPr>
        <p:spPr>
          <a:xfrm>
            <a:off x="213840" y="999720"/>
            <a:ext cx="8472600" cy="5054760"/>
          </a:xfrm>
          <a:prstGeom prst="rect">
            <a:avLst/>
          </a:prstGeom>
          <a:noFill/>
          <a:ln w="0">
            <a:noFill/>
          </a:ln>
        </p:spPr>
        <p:txBody>
          <a:bodyPr anchor="t">
            <a:normAutofit fontScale="98000"/>
          </a:bodyPr>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26760" indent="-267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Dadas las características de las PYMES, su </a:t>
            </a:r>
            <a:r>
              <a:rPr b="1" lang="es-ES" sz="2900" spc="-1" strike="noStrike">
                <a:solidFill>
                  <a:srgbClr val="000000"/>
                </a:solidFill>
                <a:latin typeface="Tw Cen MT"/>
              </a:rPr>
              <a:t>nivel de riesgo es más alto </a:t>
            </a:r>
            <a:r>
              <a:rPr b="0" lang="es-ES" sz="2900" spc="-1" strike="noStrike">
                <a:solidFill>
                  <a:srgbClr val="000000"/>
                </a:solidFill>
                <a:latin typeface="Tw Cen MT"/>
              </a:rPr>
              <a:t>que el de las grandes empresas.</a:t>
            </a:r>
            <a:endParaRPr b="0" lang="en-US" sz="29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 mercado financiero </a:t>
            </a:r>
            <a:r>
              <a:rPr b="1" lang="es-ES" sz="2900" spc="-1" strike="noStrike">
                <a:solidFill>
                  <a:srgbClr val="000000"/>
                </a:solidFill>
                <a:latin typeface="Tw Cen MT"/>
              </a:rPr>
              <a:t>asigna las tasas de interés en base al riesgo </a:t>
            </a:r>
            <a:r>
              <a:rPr b="0" lang="es-ES" sz="2900" spc="-1" strike="noStrike">
                <a:solidFill>
                  <a:srgbClr val="000000"/>
                </a:solidFill>
                <a:latin typeface="Tw Cen MT"/>
              </a:rPr>
              <a:t>de las empresas.</a:t>
            </a:r>
            <a:endParaRPr b="0" lang="en-US" sz="2900" spc="-1" strike="noStrike">
              <a:solidFill>
                <a:srgbClr val="000000"/>
              </a:solidFill>
              <a:latin typeface="Tw Cen MT"/>
            </a:endParaRPr>
          </a:p>
          <a:p>
            <a:pPr marL="312480" indent="-312480"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 lo tanto las PYMES acceden a tasas de interés más altas, lo que implica que </a:t>
            </a:r>
            <a:r>
              <a:rPr b="1" lang="es-ES" sz="2900" spc="-1" strike="noStrike">
                <a:solidFill>
                  <a:srgbClr val="000000"/>
                </a:solidFill>
                <a:latin typeface="Tw Cen MT"/>
              </a:rPr>
              <a:t>deben tener proyectos de inversión más rentables </a:t>
            </a:r>
            <a:r>
              <a:rPr b="0" lang="es-ES" sz="2900" spc="-1" strike="noStrike">
                <a:solidFill>
                  <a:srgbClr val="000000"/>
                </a:solidFill>
                <a:latin typeface="Tw Cen MT"/>
              </a:rPr>
              <a:t>para soportar dichas tasas de endeudamiento.</a:t>
            </a:r>
            <a:endParaRPr b="0" lang="en-US" sz="2900" spc="-1" strike="noStrike">
              <a:solidFill>
                <a:srgbClr val="000000"/>
              </a:solidFill>
              <a:latin typeface="Tw Cen MT"/>
            </a:endParaRPr>
          </a:p>
          <a:p>
            <a:pPr lvl="1" marL="626760" indent="-267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f7f7f"/>
                </a:solidFill>
                <a:latin typeface="Trebuchet MS"/>
              </a:rPr>
              <a:t>1. CREDITOS BANCARIO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rebuchet MS"/>
              </a:rPr>
              <a:t>Son montos de dinero en moneda chilena o extranjera que otorga el banco a empresas de diverso tamaño, para satisfacer necesidades de capital y que normalmente son pactados para ser pagados al corto o mediano plazo.</a:t>
            </a:r>
            <a:br>
              <a:rPr sz="2900"/>
            </a:br>
            <a:r>
              <a:rPr b="0" lang="es-ES" sz="2900" spc="-1" strike="noStrike">
                <a:solidFill>
                  <a:srgbClr val="000000"/>
                </a:solidFill>
                <a:latin typeface="Trebuchet MS"/>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7f7f7f"/>
                </a:solidFill>
                <a:latin typeface="Trebuchet MS"/>
              </a:rPr>
              <a:t>SISTEMA DE GARANTIA ESTATALES</a:t>
            </a:r>
            <a:endParaRPr b="0" lang="en-US" sz="4000" spc="-1" strike="noStrike">
              <a:solidFill>
                <a:srgbClr val="775f55"/>
              </a:solidFill>
              <a:latin typeface="Tw Cen MT"/>
            </a:endParaRPr>
          </a:p>
        </p:txBody>
      </p:sp>
      <p:sp>
        <p:nvSpPr>
          <p:cNvPr id="367" name=""/>
          <p:cNvSpPr txBox="1"/>
          <p:nvPr/>
        </p:nvSpPr>
        <p:spPr>
          <a:xfrm>
            <a:off x="428760" y="999720"/>
            <a:ext cx="8229600" cy="505476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rPr>
              <a:t>El Estado ha creado distintos fondos para ayudar a las empresas a acceder a estos créditos bancarios:</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FOGAPE (Fondo de Garantía para el Pequeño Empresario):  </a:t>
            </a:r>
            <a:r>
              <a:rPr b="0" lang="es-ES" sz="2700" spc="-1" strike="noStrike">
                <a:solidFill>
                  <a:srgbClr val="000000"/>
                </a:solidFill>
                <a:latin typeface="Tw Cen MT"/>
              </a:rPr>
              <a:t>Del BancoEstado.</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COBEX (Cobertura para Exportadores</a:t>
            </a:r>
            <a:r>
              <a:rPr b="0" lang="es-ES" sz="2700" spc="-1" strike="noStrike">
                <a:solidFill>
                  <a:srgbClr val="000000"/>
                </a:solidFill>
                <a:latin typeface="Tw Cen MT"/>
              </a:rPr>
              <a:t>) y </a:t>
            </a:r>
            <a:r>
              <a:rPr b="1" lang="es-ES" sz="2700" spc="-1" strike="noStrike">
                <a:solidFill>
                  <a:srgbClr val="000000"/>
                </a:solidFill>
                <a:latin typeface="Tw Cen MT"/>
              </a:rPr>
              <a:t>FOGAIN (Fondo de Garantía para Inversiones):</a:t>
            </a:r>
            <a:r>
              <a:rPr b="0" lang="es-ES" sz="2700" spc="-1" strike="noStrike">
                <a:solidFill>
                  <a:srgbClr val="000000"/>
                </a:solidFill>
                <a:latin typeface="Tw Cen MT"/>
              </a:rPr>
              <a:t> Ambos de CORFO.</a:t>
            </a: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w Cen MT"/>
              </a:rPr>
              <a:t>SERCOTEC (Servicio de Cooperación Técnica): </a:t>
            </a:r>
            <a:r>
              <a:rPr b="0" lang="es-ES" sz="2700" spc="-1" strike="noStrike">
                <a:solidFill>
                  <a:srgbClr val="000000"/>
                </a:solidFill>
                <a:latin typeface="Tw Cen MT"/>
              </a:rPr>
              <a:t>Filial de CORFO.</a:t>
            </a: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21:28:47Z</dcterms:created>
  <dc:creator>Virtual PC</dc:creator>
  <dc:description/>
  <dc:language>en-US</dc:language>
  <cp:lastModifiedBy>jgallegos</cp:lastModifiedBy>
  <dcterms:modified xsi:type="dcterms:W3CDTF">2010-10-26T15:54:07Z</dcterms:modified>
  <cp:revision>108</cp:revision>
  <dc:subject/>
  <dc:title>Ministerio de Educación </dc:title>
</cp:coreProperties>
</file>