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E5F-39AD-4B0C-911E-AD59CB30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696-CA18-460F-BCF3-F7BBAA6B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AF3-3E08-4858-99A1-B3AA4842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E36-9C38-4EB3-9FD8-C8A6BA58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DF6E-2A9D-4EB5-A21A-BA7B86D8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377C-C7C8-4E46-A81F-7D9E9F8D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976B-27F6-4048-9C64-20654DB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7429-FECD-4414-9E70-8E637EEF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D8DF-9741-40D2-A898-2056E7F9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8C09-88A3-43AE-AB7E-0B2F6576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5014-8FD5-4D7C-B9C5-32A39DD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BEC-97D3-42F0-8BE5-00807053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A9A-952C-42C0-BC97-39F8C07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1054-8856-489C-B9DA-117CAF3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30E5-0070-4171-B722-D2F0BA44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D46F-96F9-4D68-928B-6E40EA01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9C61-9AC9-4C73-B115-5E04073F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F07-9224-4998-88B6-80651781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2FA-1B73-4D27-9BD5-5CC602E4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F20-7AF8-4DB8-8750-AB1E4D52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66E-3D04-41A1-B7FB-1597F167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B8C-1EF5-403B-A1EA-C5B2C818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B9C-FF47-47A7-A7E0-E9417ED0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3DA-567C-4F44-890A-E3E617C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F1D7-76E2-4632-BC24-712FE3BD2090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6D98-DF6A-43FE-802E-A2FF5197401E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undamen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ór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usticiabilidad de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mecanismos de protec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obligaciones del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s estrategi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tículo 26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onsagra derechos exigib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Cómo se determinan estos derecho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emisión a Carta O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 de “normas” en “derechos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La DADH y el PSS como limitaciones a la justiciabilida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¿Qué tipo de obligaciones tiene el Estado respecto de los DESC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alibri"/>
              </a:rPr>
              <a:t>Obg. De progresividad (O.G. Nº 3 Comité DESC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Calibri"/>
              </a:rPr>
              <a:t>Lex specialis</a:t>
            </a: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 respecto de  “Adoptar disposiciones de derecho interno”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Obg. Positiva de adoptar medi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s obg. inmediata y de medi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o progresivo es alcanzar el pleno goce del derecho (obg. De resultado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Medidas apropiad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legislativas, administrativ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Protección judicia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alibri"/>
              </a:rPr>
              <a:t>No regresividad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Obg. Negativa. Regresividad normativa y regresividad fáctic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alibri"/>
              </a:rPr>
              <a:t>Excepcion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as obligaciones del Estado respecto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Respe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Garantía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Protección de priv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Regulación que busque mejor redistribu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Garantía de un contenido mínim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Obg. De no discriminac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que acceso a los DESC no debe excluir a un grup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Implica adoptar medidas a favor de grupos vulnerab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Exigible de forma inmediat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alibri"/>
              </a:rPr>
              <a:t>Derecho de Acceso a la información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aso 1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unidad indígena no puede vivir en sus tierras ancestrales, por presencia de empresas privadas que explotan los recursos natur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eniendo otro lugar donde vivir, están instaladas al borde de una carretera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tienen condiciones sanitarias, ni medios de trabajo o alimenta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iembros de la comunidad mueren de enfermedades infeccios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rte IDH. Casos Yakye Axa y Sawhoyamaxa vs. Paragu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aso 2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a ley establece el derecho a contar con un subsidio en caso de desempl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ara acceder a este beneficio, las mujeres casadas deben demostrar que son “sostén de familia”. No así los hombres, casados o soltero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Comité DDHH. Broeks y Zwann de Vries vs. Países Baj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3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 grupo de 200 funcionarios públicos pertenecientes a un sindicato realizan un paro por condiciones laborales. Existe amenaza de golpe de estado en ese moment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 expide una ley por la cuál se permite el despido de funcionarios involucrados en “atentados a la democracia”, con efecto retroactivo. Se concretan los despidos, sin considerar fuero sindical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a ley limita los recursos ante tribunales laborales, solamente recurso ante CS, sin apelació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urante los procedimientos, no hay prueba que demuestre participación de los trabajadores en amenazas de golpe de estado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Baena Ricardo vs. Panamá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Trabajadores Cesados del Congreso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o 4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na ley establece derecho a pensiones reajustables para funcionarios público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rupo de funcionarios jubilados se acogen a dicha ley y reciben durante 10 años el pago su pensión reajustada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 contexto de crisis política, se comienza a pagar una pensión sin reajustabilidad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teriormente se emite un DL que confirma la no reajustabilidad de las pensione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ibunales internos confirman la existencia de un derecho adquirido sobre pensiones reajustables, pero estas resoluciones no se cumple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Cinco pensionistas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Corte IDH. Acevedo Buendía vs. Per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s estrategias de justiciabilida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raducción” de un DESC en un DC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tilización de obligaciones derivadas de los DCP en los DES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iscriminació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Debido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rotección Jud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Justiciabilidad directa a través de prohibición de regresivi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Obg. de garantía respecto del contenido mínimo o esencial del derech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79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620640"/>
          <a:ext cx="8229600" cy="6100920"/>
        </p:xfrm>
        <a:graphic>
          <a:graphicData uri="http://schemas.openxmlformats.org/drawingml/2006/table">
            <a:tbl>
              <a:tblPr/>
              <a:tblGrid>
                <a:gridCol w="2533680"/>
                <a:gridCol w="2824200"/>
                <a:gridCol w="2871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ADH (194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IDESC (1966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SS (1988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de investigación </a:t>
                      </a: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 libertad de expres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l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(constitución y protección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Condiciones equitativas y satisfactorias de trabaj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1224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e infanc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s Sindical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224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rimonio – maternidad –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vel vida adecuad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 – vivienda – vestido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a un medioambiente san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Justa retribución del trabaj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alud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edioambiente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iment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scans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ertad de enseñanz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eguridad social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vida cultura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–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eneficios de la cultur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lib. Investigación - prop. Intelectual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recho de asociación (sindica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ternidad - infanc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eber de trabajo – de asistencia social – con la famili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iñez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ncian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1224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inusválido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rechos Económicos, Sociales y Cultura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¿Cuáles son los DES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ros derechos: al agua, al desarrollo, derechos del consumid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 hay un catálogo universalmente aceptad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iversas clasificac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uperposición entre algunos DESC y DCP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undamento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stó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órico o filosóf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erradicación de la pobr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o Iguald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ante la le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juríd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en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oportunida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gualdad de hecho 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¿igualdad en qué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2360" y="5157720"/>
            <a:ext cx="1008000" cy="719280"/>
          </a:xfrm>
          <a:prstGeom prst="rect">
            <a:avLst/>
          </a:prstGeom>
          <a:solidFill>
            <a:srgbClr val="cc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2276640"/>
            <a:ext cx="1440000" cy="29527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476280"/>
            <a:ext cx="1511280" cy="3889440"/>
          </a:xfrm>
          <a:prstGeom prst="rect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440" y="595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780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6144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685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944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1800" y="227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804000" y="188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3800" y="54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eaeaea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objecio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C como prestaciones positivas vs. DCP como obligaciones de abstención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enido programático” vs. “garantía justiciable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Objeción contramayorita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ímites técnicos de los jueces en el diseño de una política públic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Falta de determinación contenido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sigual acceso a la justic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usticiabilidad de los DES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 respuest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os DESC como obligaciones negativas, los DCP como obligaciones positiv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divisibilidad e interdependencia de los derech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colaboración de los jueces en el equilibrio de poderes – el litigio como forma de comunicación entre SC y Estad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terminación del contenido a través de legislación y jurisprudenci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posibilidad de nuevos diseños procesa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 idea de litigio estratég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canismos de protección de los DESC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Univers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ité DESC: rol inicial de monitoreo de inform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adicional al PIDESC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casos individua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istema Interamerican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tocolo San Salvador (PSS)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Sistema de Monitore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Peticiones individuales: solo art. 8 y 13 (derechos sindicales / educación)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ADH: Estados parte y no parte de la CAD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ADH: art. 26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la ambigüedad en la protección de los DES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os DESC en la CAD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CAPITULO III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DERECHOS ECONOMICOS, SOCIALES Y CULTURAL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Times New Roman"/>
              </a:rPr>
              <a:t>Artículo 26.  Desarrollo Progresiv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Los Estados Partes se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comprometen a adoptar providencia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tanto a nivel interno como mediante la cooperación internacional, especialmente económica y técnica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para lograr progresivamente la plena efectividad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de los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derechos que se derivan de las normas 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económicas, sociales y sobre educación, ciencia y cultura, contenidas en la Carta de la Organización de los Estados Americanos, reformada por el Protocolo de Buenos Aires, </a:t>
            </a:r>
            <a:r>
              <a:rPr b="0" lang="es-CL" sz="2400" spc="-1" strike="noStrike" u="sng">
                <a:solidFill>
                  <a:srgbClr val="eaeaea"/>
                </a:solidFill>
                <a:uFillTx/>
                <a:latin typeface="Times New Roman"/>
              </a:rPr>
              <a:t>en la medida de los recursos disponibles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, por vía legislativa u otros medios apropiados.</a:t>
            </a: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7:47:11Z</dcterms:created>
  <dc:creator>Colossus User</dc:creator>
  <dc:description/>
  <dc:language>en-US</dc:language>
  <cp:lastModifiedBy>marianne</cp:lastModifiedBy>
  <dcterms:modified xsi:type="dcterms:W3CDTF">2010-11-15T21:18:58Z</dcterms:modified>
  <cp:revision>6</cp:revision>
  <dc:subject/>
  <dc:title>Derechos Económicos, Sociales y Culturales</dc:title>
</cp:coreProperties>
</file>