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211-C874-4404-A6EA-A76C8DB1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C1E-85FC-468F-81DD-3DB0414A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ABF2-B454-4E93-958B-5551629E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4BF3-0EF2-494F-9FFD-65B9BF26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947E-37FB-4491-A5FD-E3860466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1C6C-B420-4919-80BE-87B6432B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AF38-67C3-450C-A3DF-1A1C4797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9EA0-E5C2-493D-BBA8-404BB779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6113-B0F2-4B0A-A6A1-9BC1DA64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108F-35FD-498F-893D-A6519579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A0E5-1222-4767-81CC-E04B75CA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FA46-D889-43F3-9D42-E8DA48C2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FDC5-9794-475C-8CE3-2E828F08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E846-49EA-44FA-B36B-E5AB51D9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350C-DFA9-4B15-BB08-062B46A5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DC25-95A1-42FC-B603-CAFE0E4A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9BE1-EBE9-4DDD-A76E-5459ECA5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276-0409-408A-92DF-1D24F479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561C-970E-4CDB-B761-4383D1F1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E9F-A24A-42A9-8AE4-F148AEE5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021E-0AE1-421A-A0C8-DDF89BCC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B22-5C0E-4B7D-A6C6-89CEFE6E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B46-6AF6-4081-9397-914B39E2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BA0-AEC3-4620-92DA-BD6BEE80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3337-E765-4FF0-BC9F-F8AE5DDA3519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D5AE-4975-40CD-AAE9-E541BC797F7D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rechos Económicos, Sociales y Cultural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¿Cuáles son los DESC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undamen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istóric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óric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usticiabilidad de los DES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s objecion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s respuest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os mecanismos de protec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s obligaciones del Estad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s estrategi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rtículo 26 CAD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Consagra derechos exigibl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Cómo se determinan estos derecho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Remisión a Carta OE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raducción de “normas” en “derechos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La DADH y el PSS como limitaciones a la justiciabilidad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Qué tipo de obligaciones tiene el Estado respecto de los DESC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Las obligaciones del Estado respecto de los DESC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alibri"/>
              </a:rPr>
              <a:t>Obg. De progresividad (O.G. Nº 3 Comité DESC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Calibri"/>
              </a:rPr>
              <a:t>Lex specialis</a:t>
            </a:r>
            <a:r>
              <a:rPr b="0" lang="es-ES" sz="2400" spc="-1" strike="noStrike">
                <a:solidFill>
                  <a:srgbClr val="eaeaea"/>
                </a:solidFill>
                <a:latin typeface="Calibri"/>
              </a:rPr>
              <a:t> respecto de  “Adoptar disposiciones de derecho interno”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alibri"/>
              </a:rPr>
              <a:t>Obg. Positiva de adoptar medida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Es obg. inmediata y de medio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Lo progresivo es alcanzar el pleno goce del derecho (obg. De resultado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alibri"/>
              </a:rPr>
              <a:t>Medidas apropiada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legislativas, administrativ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Protección judicial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alibri"/>
              </a:rPr>
              <a:t>No regresividad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Obg. Negativa. Regresividad normativa y regresividad fáctic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Excepcion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Las obligaciones del Estado respecto de los DESC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Obg. de Respe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Obg. de Garantía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Protección de priv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Regulación que busque mejor redistribu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Garantía de un contenido mínim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Obg. De no discrimin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Implica que acceso a los DESC no debe excluir a un grup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Implica adoptar medidas a favor de grupos vulnerab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Exigible de forma inmediat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Derecho de Acceso a la información en los DES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aso 1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unidad indígena no puede vivir en sus tierras ancestrales, por presencia de empresas privadas que explotan los recursos natura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teniendo otro lugar donde vivir, están instaladas al borde de una carretera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tienen condiciones sanitarias, ni medios de trabajo o alimentación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iembros de la comunidad mueren de enfermedades infeccios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Corte IDH. Casos Yakye Axa y Sawhoyamaxa vs. Paraguay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aso 2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na ley establece el derecho a contar con un subsidio en caso de desempl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Para acceder a este beneficio, las mujeres casadas deben demostrar que son “sostén de familia”. No así los hombres, casados o soltero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Comité DDHH. Broeks y Zwann de Vries vs. Países Bajo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so 3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 grupo de 200 funcionarios públicos pertenecientes a un sindicato realizan un paro por condiciones laborales. Existe amenaza de golpe de estado en ese momento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 expide una ley por la cuál se permite el despido de funcionarios involucrados en “atentados a la democracia”, con efecto retroactivo. Se concretan los despidos, sin considerar fuero sindical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a ley limita los recursos ante tribunales laborales, solamente recurso ante CS, sin apelación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urante los procedimientos, no hay prueba que demuestre participación de los trabajadores en amenazas de golpe de estado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orte IDH. Baena Ricardo vs. Panamá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orte IDH. Trabajadores Cesados del Congreso vs. Per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so 4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a ley establece derecho a pensiones reajustables para funcionarios públicos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rupo de funcionarios jubilados se acogen a dicha ley y reciben durante 10 años el pago su pensión reajustada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 contexto de crisis política, se comienza a pagar una pensión sin reajustabilidad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steriormente se emite un DL que confirma la no reajustabilidad de las pensiones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ibunales internos confirman la existencia de un derecho adquirido sobre pensiones reajustables, pero estas resoluciones no se cumplen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orte IDH. Cinco pensionistas vs. Per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orte IDH. Acevedo Buendía vs. Per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raducción” de un DESC en un DC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tilización de obligaciones derivadas de los DCP en los DES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Discriminación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Debido Proces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Protección Judici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Justiciabilidad directa a través de prohibición de regresivida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Obg. de garantía respecto del contenido mínimo o esencial del derech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79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620640"/>
          <a:ext cx="8229600" cy="6100920"/>
        </p:xfrm>
        <a:graphic>
          <a:graphicData uri="http://schemas.openxmlformats.org/drawingml/2006/table">
            <a:tbl>
              <a:tblPr/>
              <a:tblGrid>
                <a:gridCol w="2533680"/>
                <a:gridCol w="2824200"/>
                <a:gridCol w="2871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ADH (1948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IDESC (1966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SS (1988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b.de investigación </a:t>
                      </a:r>
                      <a:r>
                        <a:rPr b="0" lang="es-E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(con libertad de expresión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 al trabaj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 al trabaj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amilia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(constitución y protección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ndiciones equitativas y satisfactorias de trabaj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ndiciones equitativas y satisfactorias de trabaj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ernidad e infanci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s Sindical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s Sindical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alud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imentación – vivienda – vestido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guridad socia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guridad socia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amili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rimonio – maternidad – infanci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neficios de la cultur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rop. Intelectua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ivel vida adecuad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imentación – vivienda – vestido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 a un medioambiente san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Justa retribución del trabaj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alud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edioambient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imenta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scans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bertad de enseñanz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guridad social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neficios vida cultura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b. Investigación – prop. intelectua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neficios de la cultur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b. Investigación - prop. Intelectua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 de asociación (sindica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amili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ernidad - infanci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ber de trabajo – de asistencia social – con la famili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iñez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nciano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inusválido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rechos Económicos, Sociales y Cultural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¿Cuáles son los DESC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tros derechos: al agua, al desarrollo, derechos del consumido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o hay un catálogo universalmente aceptad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iversas clasificacion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uperposición entre algunos DESC y DCP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undamento de los DES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stór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órico o filosóf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o erradicación de la pobrez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o Igualda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ante la le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jurídic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en derech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de oportunidad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de hecho </a:t>
            </a:r>
            <a:r>
              <a:rPr b="0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¿igualdad en qué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92360" y="5157720"/>
            <a:ext cx="1008000" cy="719280"/>
          </a:xfrm>
          <a:prstGeom prst="rect">
            <a:avLst/>
          </a:prstGeom>
          <a:solidFill>
            <a:srgbClr val="cc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2276640"/>
            <a:ext cx="1440000" cy="29527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476280"/>
            <a:ext cx="1511280" cy="3889440"/>
          </a:xfrm>
          <a:prstGeom prst="rect">
            <a:avLst/>
          </a:prstGeom>
          <a:solidFill>
            <a:srgbClr val="eec85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440" y="595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7800" y="530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61440" y="450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6856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944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144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2360" y="321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1800" y="227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7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804000" y="188640"/>
            <a:ext cx="0" cy="215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53800" y="54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usticiabilidad de los DES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Las objecion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SC como prestaciones positivas vs. DCP como obligaciones de abstención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tenido programático” vs. “garantía justiciable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Objeción contramayoritar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ímites técnicos de los jueces en el diseño de una política públic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Falta de determinación contenido de los derech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sigual acceso a la justic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usticiabilidad de los DES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as respuest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os DESC como obligaciones negativas, los DCP como obligaciones positiv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divisibilidad e interdependencia de los derech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 colaboración de los jueces en el equilibrio de poderes – el litigio como forma de comunicación entre SC y Estad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terminación del contenido a través de legislación y jurisprudencia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 posibilidad de nuevos diseños procesal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 idea de litigio estratégic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ecanismos de protección de los DESC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istema Univers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ité DESC: rol inicial de monitoreo de inform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tocolo adicional al PIDESC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casos individua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istema Interamerican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tocolo San Salvador (PSS)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Sistema de Monitore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Peticiones individuales: solo art. 8 y 13 (derechos sindicales / educación)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ADH: Estados parte y no parte de la CAD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ADH: art. 26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la ambigüedad en la protección de los DES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os DESC en la CAD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Times New Roman"/>
              </a:rPr>
              <a:t>CAPITULO III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Times New Roman"/>
              </a:rPr>
              <a:t>DERECHOS ECONOMICOS, SOCIALES Y CULTURAL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Times New Roman"/>
              </a:rPr>
              <a:t>Artículo 26.  Desarrollo Progresiv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Los Estados Partes se </a:t>
            </a:r>
            <a:r>
              <a:rPr b="0" lang="es-CL" sz="2400" spc="-1" strike="noStrike" u="sng">
                <a:solidFill>
                  <a:srgbClr val="eaeaea"/>
                </a:solidFill>
                <a:uFillTx/>
                <a:latin typeface="Times New Roman"/>
              </a:rPr>
              <a:t>comprometen a adoptar providencias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, tanto a nivel interno como mediante la cooperación internacional, especialmente económica y técnica, </a:t>
            </a:r>
            <a:r>
              <a:rPr b="0" lang="es-CL" sz="2400" spc="-1" strike="noStrike" u="sng">
                <a:solidFill>
                  <a:srgbClr val="eaeaea"/>
                </a:solidFill>
                <a:uFillTx/>
                <a:latin typeface="Times New Roman"/>
              </a:rPr>
              <a:t>para lograr progresivamente la plena efectividad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 de los </a:t>
            </a:r>
            <a:r>
              <a:rPr b="0" lang="es-CL" sz="2400" spc="-1" strike="noStrike" u="sng">
                <a:solidFill>
                  <a:srgbClr val="eaeaea"/>
                </a:solidFill>
                <a:uFillTx/>
                <a:latin typeface="Times New Roman"/>
              </a:rPr>
              <a:t>derechos que se derivan de las normas 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económicas, sociales y sobre educación, ciencia y cultura, contenidas en la Carta de la Organización de los Estados Americanos, reformada por el Protocolo de Buenos Aires, </a:t>
            </a:r>
            <a:r>
              <a:rPr b="0" lang="es-CL" sz="2400" spc="-1" strike="noStrike" u="sng">
                <a:solidFill>
                  <a:srgbClr val="eaeaea"/>
                </a:solidFill>
                <a:uFillTx/>
                <a:latin typeface="Times New Roman"/>
              </a:rPr>
              <a:t>en la medida de los recursos disponibles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, por vía legislativa u otros medios apropiados.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7:47:11Z</dcterms:created>
  <dc:creator>Colossus User</dc:creator>
  <dc:description/>
  <dc:language>en-US</dc:language>
  <cp:lastModifiedBy>marianne</cp:lastModifiedBy>
  <dcterms:modified xsi:type="dcterms:W3CDTF">2010-11-15T21:18:58Z</dcterms:modified>
  <cp:revision>6</cp:revision>
  <dc:subject/>
  <dc:title>Derechos Económicos, Sociales y Culturales</dc:title>
</cp:coreProperties>
</file>