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A918-7B12-4D41-9DE1-D68DF04D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C78-1A38-4B44-B72F-0DBE600F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621-04C0-481F-8ECE-CDCB6797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C57-BE3D-4F10-96E6-80003612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D76-4252-4630-9D00-37EA351A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858-7DC0-43A8-9750-F821E4E8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3D9-4676-47CC-8EEC-76CA7A83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9F7-4194-4162-8704-B2367699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FDEB-57CD-46E1-A36A-49EC4F24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F6E-F6D3-474D-B19D-25588E6B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E02-45CF-4C7D-82B8-2D686DA0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96B-B512-44EC-A913-383D2FA7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FE21-F87C-4A30-80D9-CB233160D2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EY DE ACCESO A LA INFORMACIÓN PÚBLICA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LEY Nº 20.285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INCIPIO DE TRANSPA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rtículo 8º Constit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rtículo 5º Ley 20.2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QUE ES PUBLIC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tos y resoluciones de los órganos de la Adminis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damentos de esos actos o resol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cumentos que los sustenten o complemen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dimientos para su dic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USALES DE SECRETO O RESERV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rtículo 21º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ublicidad afecta el cumplimiento de las funciones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ublicidad afecta el derecho de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ublicidad afecta la seguridad de la Nación, el orden o la seguridad pública, el interés nacional, salud pública, relaciones internacionales o intereses económicos o comerciale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y de quórum calificado ha declarado la reserva o el secreto (el carácter reservado se mantiene por 5 años) Artículo 22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EJO PARA LA TRANSPARENCI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art. 32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NDATO (Art. 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m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scaliz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arant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ONES (ART. 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olver los recla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ctar instrucciones genera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ormular recomend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pacitación a funcionar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fusión 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ísticas e inform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8:57:07Z</dcterms:created>
  <dc:creator>lpino</dc:creator>
  <dc:description/>
  <dc:language>en-US</dc:language>
  <cp:lastModifiedBy>mvaldebe</cp:lastModifiedBy>
  <dcterms:modified xsi:type="dcterms:W3CDTF">2010-11-22T17:59:56Z</dcterms:modified>
  <cp:revision>71</cp:revision>
  <dc:subject/>
  <dc:title>Derecho Internacional de los Derechos Humanos</dc:title>
</cp:coreProperties>
</file>