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921D8-CD58-4FBF-91E7-07FD9EBF4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D2B95-9B39-4632-9885-37505F596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2C55F-10D5-4A6F-9E93-28053DE70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F5F80-9314-4928-8857-460CEA8F6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3C1D4-12AD-4FA1-94AB-DC172F17F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B63B5-1325-4064-B69A-8ACBFD236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597DB-7DC2-4B33-8030-3E93F5BE0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22FE7-35E0-4318-8C54-7308EFD30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DC596-8A54-4149-A55A-393CE17A8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8DB1F-E4CE-46AD-9D78-71D5D9177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DF492-8A30-49D0-96D1-19B0FD6C3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CFD4D-1D93-46EC-876C-A4AA09E41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53C73-1682-4851-B75A-3ABBB5509186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LEY DE ACCESO A LA INFORMACIÓN PÚBLICA </a:t>
            </a:r>
            <a:br>
              <a:rPr sz="2400"/>
            </a:b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(LEY Nº 20.285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PRINCIPIO DE TRANSPAREN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Artículo 8º Constitu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Artículo 5º Ley 20.28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QUE ES PUBLICO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Actos y resoluciones de los órganos de la Administració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Fundamentos de esos actos o resolu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Documentos que los sustenten o complement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Procedimientos para su dictación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" dur="500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" dur="500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" dur="500"/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" dur="500"/>
                                        <p:tgtEl>
                                          <p:spTgt spid="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" dur="500"/>
                                        <p:tgtEl>
                                          <p:spTgt spid="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AUSALES DE SECRETO O RESERVA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(Artículo 21º)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La publicidad afecta el cumplimiento de las funciones 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La publicidad afecta el derecho de person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La publicidad afecta la seguridad de la Nación, el orden o la seguridad pública, el interés nacional, salud pública, relaciones internacionales o intereses económicos o comerciales del paí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Ley de quórum calificado ha declarado la reserva o el secreto (el carácter reservado se mantiene por 5 años) Artículo 22º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" dur="5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" dur="500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4" dur="500"/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CONSEJO PARA LA TRANSPARENCIA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(art. 32º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MANDATO (Art. 3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Promov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Fiscaliza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Garantiz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FUNCIONES (ART. 3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resolver los reclam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dictar instrucciones generales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formular recomendacion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apacitación a funcionarios públi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difusión e inform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estadísticas e informe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1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6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1" dur="5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6" dur="5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1" dur="500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6" dur="500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1" dur="500"/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6" dur="500"/>
                                        <p:tgtEl>
                                          <p:spTgt spid="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1" dur="500"/>
                                        <p:tgtEl>
                                          <p:spTgt spid="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6" dur="500"/>
                                        <p:tgtEl>
                                          <p:spTgt spid="4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1" dur="500"/>
                                        <p:tgtEl>
                                          <p:spTgt spid="4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9T18:57:07Z</dcterms:created>
  <dc:creator>lpino</dc:creator>
  <dc:description/>
  <dc:language>en-US</dc:language>
  <cp:lastModifiedBy>mvaldebe</cp:lastModifiedBy>
  <dcterms:modified xsi:type="dcterms:W3CDTF">2010-11-22T17:59:56Z</dcterms:modified>
  <cp:revision>71</cp:revision>
  <dc:subject/>
  <dc:title>Derecho Internacional de los Derechos Humanos</dc:title>
</cp:coreProperties>
</file>