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840-B2DA-4D05-843F-00C55779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FF1-0312-4CD1-9101-B89803A0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657-9B2E-4C88-ACD3-9F8FE6E6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CCD-EE26-4E6E-83FE-FB853D3D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12EF-6693-46D8-90EE-2418865E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6818-F444-432C-B903-197F4177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55BD-896D-498C-B78C-604E4C34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C738-EE99-40AC-BA24-A53F8E7C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DBB5-6FD8-4482-B81F-7D378F14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2509-02DE-43D3-8C24-103225E2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7919-8FEA-41FC-AD96-06F9C9A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298-F966-45F0-9752-0515DDD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EF30-F10B-4A2E-B50A-A9A60A5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05FA-17BA-42D6-9F57-DD3E2400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8B67-340C-4A82-B7D4-75C77130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2162-59F0-4033-B015-92B28D45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BD49-C7B3-4FBF-B698-B0EA59CF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0BC-D145-4B58-8BA3-6C8AE97A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A42-0347-46B6-9CCE-A32CF271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EE3-974B-450A-89C2-72083CEA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427-7E9E-425F-9450-C757F9E0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E0D-0A9E-41CC-9949-975EEF5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FAD-B9B4-47B1-868F-9FFFFB79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56A-7BA9-4FAA-A824-C1CD2194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D0BE-1281-4CC4-9F1C-288080AA101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887C-4587-48F2-89F5-C2093F700E4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1° Seminario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Derecho del Trabaj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00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yudante: Jorge Ramón Martínez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jorge.martinez@derecho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9FC-1893-4785-80F8-68937A54B9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DE JOUVENEL, Bertrand, “La etica de la redistribución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HAYEK, Friedrich, “El espejismo de la justicia social”, en Derecho, Legislación y Libert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BAA-76CF-4644-971B-1FF08D43A9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lanteamiento.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Ser humano, necesidade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ivación o trabajo, dos m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rabajo ajeno: esclavitud, servidumbre, expoliación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presión para apropiarse del trabajo ajen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l “Estado”, Estado Providencia o de Bienestar, cuyo instrumento es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¿Qué es el Estado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l estado es la gran ficción por la cual todo el mundo pretende vivir del trabajo ajeno” (Fréderic Bastia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110-E8D0-4E63-B298-C67C5E551A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MX" sz="3000" spc="-1" strike="noStrike">
                <a:solidFill>
                  <a:srgbClr val="000000"/>
                </a:solidFill>
                <a:latin typeface="Verdana"/>
              </a:rPr>
              <a:t>En Inglaterra todos los ingresos se elevan de esta manera al tiempo que la mayoría de los ingresos sufren una reducción para financiar la elevación”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(De Jouvenel, p.47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piso y el tech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oblemas con el piso: riesgo moral, su financiación = ¿impuesto a las rentas alt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2D7-431D-4A35-8852-AB771D8E6F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 que falta uno y sobra a otro se pierde dos veces”: estilo de vida inmor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Despilfarro, casino, ferrari, etc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Quién define lo que es despilfarro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Pueblo = artistas de cine, deportistas, farándula = </a:t>
            </a:r>
            <a:r>
              <a:rPr b="1" lang="es-MX" sz="2300" spc="-1" strike="noStrike">
                <a:solidFill>
                  <a:srgbClr val="000000"/>
                </a:solidFill>
                <a:latin typeface="Verdana"/>
              </a:rPr>
              <a:t>“Los ricos son una creación de los pobres”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Falacia: los impuestos los pagan los ricos, ¿verticalidad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47E-C07B-4886-96BF-D18CABCB98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esquema impositivo es un last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Los más ricos sentirán menos la pérdida de lo que los pobres apreciarán la ganancia” = ¿comparación de satisfacciones y estilos de vid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Todo el capital financia un estilo de vida “reprochable”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Quién se beneficia de la acumulación de capital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Qué ocurre cuándo se expolia el capital para redistribuirlo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4A1-1E8F-4194-A50C-093EB6C402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l advenimiento del capitalismo industrial y los trabajado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Empeoró la revolución industrial la situación de los trabajad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Hacía dónde se dirigió la producc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e apropia el empresario de un excedente o “plusvalía” del trabajado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cómo se fija la retribución del trabajo en una economía libr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F93-E917-46F7-AE95-3848448AB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y las conquistas social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búsqueda de precios y salarios justos se abandonó definitivamente cuando se reconoció que sólo podía considerarse justo aquel precio “natural” que se alcanzara en un mercado competitivo sin ser determinado por ninguna ley o decreto humano…” (Hayek, p. 276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923-A9FF-477E-98D6-863B457E3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¡Gracias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C6F-E333-4813-BC55-D7C79081B3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2:41:25Z</dcterms:created>
  <dc:creator>*/</dc:creator>
  <dc:description/>
  <dc:language>en-US</dc:language>
  <cp:lastModifiedBy>Trieste</cp:lastModifiedBy>
  <dcterms:modified xsi:type="dcterms:W3CDTF">2011-04-01T17:25:49Z</dcterms:modified>
  <cp:revision>11</cp:revision>
  <dc:subject/>
  <dc:title>Modelo </dc:title>
</cp:coreProperties>
</file>