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72A-6C8F-4B41-A677-62160F6F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9DD-51AD-4FDB-8724-B224B77A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98B-864B-410A-B144-870B9897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7DA-FB66-4058-96E5-508AD260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A900-14CD-470C-9887-349C58A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92EA-82AE-4EDA-9386-B055BE64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85DC-F448-49BF-84C5-BF2B3418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023A-B4C8-4C52-90E0-7F58B22F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E9C9-5545-4BD2-8A26-1DD58995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502F-8464-4439-A3C0-D12C2CB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4B57-62B6-4F27-8FEE-27A5D4A5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659-C333-405B-9E74-55DAEBE6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7D7C-4C1B-4CB4-BDE0-E859EF69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E1BF-4745-4922-9EC4-C4968451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4FD4-474B-48A6-A901-3633E21F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9825-8D9A-4151-B21A-124D85A6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071D-5353-4677-A8D9-408CC97A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C54-C3A1-4A87-A805-77D5D18D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3F0-4F14-47E4-9BAB-9930BD35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C9D-D7F0-4BA5-BD0A-2DE8BFE9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D6A-B9CB-46C1-8629-BB1F70B1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942-B9C5-42D0-8105-8BD3AB38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28D-F29F-4A6C-96CA-EC8F620F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887-89CD-4D3C-BE25-B9BCD66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BC48-89AF-41DC-BDB2-749AC086F0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94C6-C7C9-429D-9EDA-C5395CA052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mer semest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8"/>
          <p:cNvGraphicFramePr/>
          <p:nvPr/>
        </p:nvGraphicFramePr>
        <p:xfrm>
          <a:off x="1908000" y="404640"/>
          <a:ext cx="74304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74304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Departamento de Enseñanza Clínicas del Derech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es administ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ordinación Visita a Tribuna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los Gonza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070A-5B07-4B0B-848A-54E5D7F54A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Tarea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560" y="1828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r todos los casos “in situ” y tra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CTUALIZ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iguient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atroc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a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e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it / 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tapa 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1998-59DB-4F4F-AAF4-99223B3C5F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stad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Máximo 50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1 (28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diencia de Juicio fijada el 20/8/2010. Medios de Prueba en la carpeta. Están fijados alimentos provisorios por $150.000 en favor de los hijos, los que se cumplen sin inconven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2 (35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ntencia definitiva apelada por la contraria, quien solicita se enmiende el monto de indemnización por daño moral. Causa para su vista el 25/8/2010 en 15º lugar de la Octava Sala. Relator es don Fernando Sar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Próxima clas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ércoles a las </a:t>
            </a: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16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9E97-DDA1-4CD3-86A3-838A4FF054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quipo docent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is Muño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niela Ejsmentewicz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pe Lizana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los Gonzále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8BD3-A75C-4256-B00A-777E35075C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Jurídica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237-91F7-4B95-8F53-42C15CDC3B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llo Universidad de Chi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ender a crecer de la exper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5A99-049A-4328-939F-428E319D3B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ntenido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oría del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ción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toria for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 de 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24E8-2973-4448-BD96-7EA998DB92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ases y Asistenci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6:00-17:00: conte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7:00-18:00: trabajo clínico con carp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ércoles 16:00-18:00: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90% Clases Efectivamente re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La lista se pasa al in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904E-9749-4FB1-BF32-EA0C6EE75D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valuacion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4" name="Organization Chart 7"/>
          <p:cNvGrpSpPr/>
          <p:nvPr/>
        </p:nvGrpSpPr>
        <p:grpSpPr>
          <a:xfrm>
            <a:off x="2808360" y="1941480"/>
            <a:ext cx="6048360" cy="4102920"/>
            <a:chOff x="2808360" y="1941480"/>
            <a:chExt cx="6048360" cy="4102920"/>
          </a:xfrm>
        </p:grpSpPr>
        <p:sp>
          <p:nvSpPr>
            <p:cNvPr id="115" name="AutoShape 6"/>
            <p:cNvSpPr/>
            <p:nvPr/>
          </p:nvSpPr>
          <p:spPr>
            <a:xfrm>
              <a:off x="2808360" y="1941480"/>
              <a:ext cx="6048360" cy="41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_s2052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7365600" y="3897360"/>
              <a:ext cx="513360" cy="1728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3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3570480" y="4545720"/>
              <a:ext cx="513360" cy="4323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4"/>
            <p:cNvCxnSpPr>
              <a:stCxn id="123" idx="0"/>
              <a:endCxn id="118" idx="2"/>
            </p:cNvCxnSpPr>
            <p:nvPr/>
          </p:nvCxnSpPr>
          <p:spPr>
            <a:xfrm flipH="1" flipV="1" rot="5400000">
              <a:off x="6069600" y="4329720"/>
              <a:ext cx="513360" cy="864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5"/>
            <p:cNvCxnSpPr>
              <a:stCxn id="125" idx="0"/>
              <a:endCxn id="118" idx="2"/>
            </p:cNvCxnSpPr>
            <p:nvPr/>
          </p:nvCxnSpPr>
          <p:spPr>
            <a:xfrm flipV="1">
              <a:off x="6758280" y="4505400"/>
              <a:ext cx="144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0"/>
              <a:endCxn id="118" idx="2"/>
            </p:cNvCxnSpPr>
            <p:nvPr/>
          </p:nvCxnSpPr>
          <p:spPr>
            <a:xfrm flipV="1" rot="16200000">
              <a:off x="6933960" y="4329000"/>
              <a:ext cx="513360" cy="8654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7"/>
            <p:cNvCxnSpPr>
              <a:stCxn id="129" idx="0"/>
              <a:endCxn id="118" idx="2"/>
            </p:cNvCxnSpPr>
            <p:nvPr/>
          </p:nvCxnSpPr>
          <p:spPr>
            <a:xfrm flipH="1" flipV="1" rot="5400000">
              <a:off x="5637960" y="3898080"/>
              <a:ext cx="513360" cy="172800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8"/>
            <p:cNvCxnSpPr>
              <a:stCxn id="131" idx="0"/>
              <a:endCxn id="121" idx="2"/>
            </p:cNvCxnSpPr>
            <p:nvPr/>
          </p:nvCxnSpPr>
          <p:spPr>
            <a:xfrm flipH="1" flipV="1" rot="5400000">
              <a:off x="3138480" y="4545720"/>
              <a:ext cx="513360" cy="432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9"/>
            <p:cNvCxnSpPr>
              <a:stCxn id="118" idx="1"/>
              <a:endCxn id="133" idx="2"/>
            </p:cNvCxnSpPr>
            <p:nvPr/>
          </p:nvCxnSpPr>
          <p:spPr>
            <a:xfrm rot="10800000">
              <a:off x="4536360" y="2966400"/>
              <a:ext cx="185148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60"/>
            <p:cNvCxnSpPr>
              <a:stCxn id="121" idx="3"/>
              <a:endCxn id="133" idx="2"/>
            </p:cNvCxnSpPr>
            <p:nvPr/>
          </p:nvCxnSpPr>
          <p:spPr>
            <a:xfrm flipV="1">
              <a:off x="3981600" y="2966400"/>
              <a:ext cx="55584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2061"/>
            <p:cNvSpPr/>
            <p:nvPr/>
          </p:nvSpPr>
          <p:spPr>
            <a:xfrm>
              <a:off x="4165920" y="194148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OTA DE PRESENT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2062"/>
            <p:cNvSpPr/>
            <p:nvPr/>
          </p:nvSpPr>
          <p:spPr>
            <a:xfrm>
              <a:off x="324000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GESTION CLI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63"/>
            <p:cNvSpPr/>
            <p:nvPr/>
          </p:nvSpPr>
          <p:spPr>
            <a:xfrm>
              <a:off x="638784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MODULOS DE DESTREZ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2064"/>
            <p:cNvSpPr/>
            <p:nvPr/>
          </p:nvSpPr>
          <p:spPr>
            <a:xfrm>
              <a:off x="2808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ARPE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2065"/>
            <p:cNvSpPr/>
            <p:nvPr/>
          </p:nvSpPr>
          <p:spPr>
            <a:xfrm>
              <a:off x="4659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SCRITUR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2066"/>
            <p:cNvSpPr/>
            <p:nvPr/>
          </p:nvSpPr>
          <p:spPr>
            <a:xfrm>
              <a:off x="7251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EGOCI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2067"/>
            <p:cNvSpPr/>
            <p:nvPr/>
          </p:nvSpPr>
          <p:spPr>
            <a:xfrm>
              <a:off x="6387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NTREVIS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2068"/>
            <p:cNvSpPr/>
            <p:nvPr/>
          </p:nvSpPr>
          <p:spPr>
            <a:xfrm>
              <a:off x="5523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ORATOR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69"/>
            <p:cNvSpPr/>
            <p:nvPr/>
          </p:nvSpPr>
          <p:spPr>
            <a:xfrm>
              <a:off x="3672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LAS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70"/>
            <p:cNvSpPr/>
            <p:nvPr/>
          </p:nvSpPr>
          <p:spPr>
            <a:xfrm>
              <a:off x="811620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047-BFD8-49AC-84BE-52F740CA59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ame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8" name="Organization Chart 6"/>
          <p:cNvGrpSpPr/>
          <p:nvPr/>
        </p:nvGrpSpPr>
        <p:grpSpPr>
          <a:xfrm>
            <a:off x="2808360" y="1941480"/>
            <a:ext cx="6047640" cy="4102560"/>
            <a:chOff x="2808360" y="1941480"/>
            <a:chExt cx="6047640" cy="4102560"/>
          </a:xfrm>
        </p:grpSpPr>
        <p:sp>
          <p:nvSpPr>
            <p:cNvPr id="139" name="AutoShape 5"/>
            <p:cNvSpPr/>
            <p:nvPr/>
          </p:nvSpPr>
          <p:spPr>
            <a:xfrm>
              <a:off x="2808360" y="1941480"/>
              <a:ext cx="6047640" cy="41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_s3076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6235200" y="3177360"/>
              <a:ext cx="821160" cy="16293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0"/>
              <a:endCxn id="142" idx="2"/>
            </p:cNvCxnSpPr>
            <p:nvPr/>
          </p:nvCxnSpPr>
          <p:spPr>
            <a:xfrm flipH="1" flipV="1" rot="5400000">
              <a:off x="4607280" y="3178080"/>
              <a:ext cx="821160" cy="16286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3078"/>
            <p:cNvSpPr/>
            <p:nvPr/>
          </p:nvSpPr>
          <p:spPr>
            <a:xfrm>
              <a:off x="4436280" y="194148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XA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280836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ESCR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3080"/>
            <p:cNvSpPr/>
            <p:nvPr/>
          </p:nvSpPr>
          <p:spPr>
            <a:xfrm>
              <a:off x="606492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ADAD-4404-449F-A9B6-32ECDCD40F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pollitos 2"/>
          <p:cNvPicPr/>
          <p:nvPr/>
        </p:nvPicPr>
        <p:blipFill>
          <a:blip r:embed="rId1"/>
          <a:stretch/>
        </p:blipFill>
        <p:spPr>
          <a:xfrm>
            <a:off x="1143000" y="907920"/>
            <a:ext cx="6858000" cy="4807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 Narrow"/>
              </a:rPr>
              <a:t>Presentación de alumno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¿Quienes sigu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22:01:25Z</dcterms:created>
  <dc:creator>pc</dc:creator>
  <dc:description/>
  <dc:language>en-US</dc:language>
  <cp:lastModifiedBy>Daniela Ejsmentewicz</cp:lastModifiedBy>
  <dcterms:modified xsi:type="dcterms:W3CDTF">2011-03-07T17:59:16Z</dcterms:modified>
  <cp:revision>9</cp:revision>
  <dc:subject/>
  <dc:title>Clínicas 1</dc:title>
</cp:coreProperties>
</file>