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C78-79E0-4BF5-8C81-D02270A5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F51-DF19-4B78-86EF-FBD77C60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8C8-AF03-4620-98BE-ACD204CF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9C6-CB8E-4EFD-A38E-13455B99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8637-5D40-4231-B4AA-722A120F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3B75-6878-4AED-8673-DDFEBF10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9A88-2FCF-433E-BB3B-C6512A78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4247-6FCC-4BE9-A97F-0D6E509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BC10-953A-45E9-B71B-81193177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9FFF-EE59-4426-92CD-1B3F98E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BE55-BAEF-4A34-B25C-F3258EFA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4AE-959C-4DC8-A741-F70758AB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56D2-B640-4857-BC1F-09CFEEA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695-ED93-470A-9AC1-1A7480D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0B76-BF29-4F38-9838-20A0D50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4E6C-F664-4430-9DDA-F6B8EEB4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086B-8A99-4494-A71C-68DECC84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B9425-2A9E-43A8-A8CB-17ADE5C9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9A9CC-00B6-4E8B-9372-29AC0E04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AE9DB-767F-4232-88B5-73CE01E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0F0AC-CA53-4FEE-9C02-815C40F6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93E55-817A-4E5E-A4EF-F464323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DDC-37E3-48E4-914F-B6C1300A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5EC37-64AB-4197-A2A6-4469BF29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69E5B-3172-4C5C-A79E-A8507AE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B7175-D325-47A6-A846-17885ED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90945-E6EA-455B-8624-48E449FA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E5BBC-6962-4CDC-B491-B7EB11F9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EF032-1B8D-4BA7-8CB4-BD22D686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C793A-0CB0-48F3-B915-B74EBAF6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F3B5-E0FB-4002-A75B-FFE06F73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CF0F-12B7-4672-A306-FCC389AC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365C-A631-43A3-B8EB-119D025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89C-E41D-424C-820D-19F7ED0F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C4E1-8520-4796-B5C1-DE3AA61C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E65D-216B-4F7D-8DFB-D500070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2AD0-B87D-4BA3-94A4-4F0DE6C6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1C8A-0B7B-47A9-8974-4F9A6508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0729-88EF-444C-8B50-443D076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BEB0-E966-465C-B715-3267E16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202B-69F7-4494-A22D-983C0A75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F310-4D3F-44A6-9D53-5DCBFC84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20284-2E98-4DAE-8CEB-73CCF7B3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08FDE-A89E-491B-A341-29449EB8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8BA-D7A9-4CD2-8616-C62D77E3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61902-5D8A-4ADA-B644-22E2C45B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E5B4B-5116-4729-B096-CF2F9A9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BA45B-AA42-42EE-BD43-8038706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56A62-AD08-4EE6-B0B6-39684C43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E794E-9FBB-4B25-9F90-DC984DE6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DBDD1-C217-4F2E-98BE-49CBDA99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E04E8-9BBE-406F-82A8-6D289197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1A4F5-B263-4C21-9C91-3082ADB2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F8A44-63A5-4195-8F84-5F68B2F5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468BD-FD8B-49B1-86F5-4E5635BA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82A-BDD3-48F8-B4BE-2C03A70A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68995-62C2-4CA7-8113-64B96CF1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0A812-F073-40EC-802A-AF1D0718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99809-AA71-41F2-B461-7432D05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7995D-6AEF-4A9F-BF4C-BC10347C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D348C-B969-4B73-A17B-0F6B8A4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B284F-8009-437B-8FF9-50233B1F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A99CC-A33A-4789-8219-4398B016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5B224-D446-4369-A383-86106D6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44232-2B9D-43D2-8ECA-CBE4BD2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9A1F5-DD97-44CA-B206-160997B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820-8936-473C-9F46-368EDDA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CD6A6-50D5-4A5B-B70F-6298003A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C8602-A725-4B35-BF1A-34693C03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239F0-425E-4D1F-BB91-0680BFF0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11B07-754E-4C83-B927-5FBE8A7E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AA0E6-5203-4AFE-848A-7F05B94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072C0-1E6D-43C7-8861-7667427D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F9BC0-44F8-4465-86C2-B28238E0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71194-39BC-47B0-A7D3-2B94726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05BD6-1967-4445-B400-44F567E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5E6AA-25B9-4438-B69F-0F2D3A0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5A7-5FF1-4751-9DE2-9D6005F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5DB18-8BE8-460C-88A1-D7FCDDF6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1A557-65A3-4CB7-B3BC-6FCDD355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95776-C9D2-4480-8C56-C32B4AC5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7C848-78AC-4C81-B7AD-2FAFB4D9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20E20-69FD-48C1-89DC-83C5F751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6B0-0625-45DA-91BA-6D390C5E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026E1-5D58-4113-B98E-F983F6B31766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7A6F7-0F43-445F-9507-DE886E176BF7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á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cd4b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á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fe4d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á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fe4d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á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2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cd4b6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2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c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c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cd4b6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c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c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á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cd4b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36C86-E5A6-47B9-8955-DC73619DBF1B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CB142-6C63-424B-AC81-FE5F89FBB1CB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AE724-AA41-437D-B724-BD0146304FCC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9CDAF-D185-4847-AB44-BA06C4F4B749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á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cd4b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á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fe4d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á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fe4d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á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0f2e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c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cd4b6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c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0f2e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c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c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cd4b6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á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cd4b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c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201B4-8F5E-4DDB-9F4D-EBF35A9933A4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BE5D1-3EE0-42A6-960F-58A0CC34224F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c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c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c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á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c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4645D-B486-4EA6-ACFB-ACCDA87C7C47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02178-FFAB-4203-A189-E1DAC3C1BDC8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c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c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c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c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á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c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D664F-A119-4C37-91E3-A710CFC31D3F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8AAC7-57C2-428D-BAF7-D874233C80BD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8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c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eb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c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á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cd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c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c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cd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c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eb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ab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eb06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b9b5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cd4b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4ca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54ab2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BF1EA-3CEF-450B-8373-265516B3F221}" type="datetime">
              <a:rPr b="0" lang="es-ES_tradnl" sz="1200" spc="-1" strike="noStrike">
                <a:solidFill>
                  <a:srgbClr val="54ab26"/>
                </a:solidFill>
                <a:latin typeface="Century School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45398-1366-41C9-9DD6-7F2CA3618F26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64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5613"/>
                </a:solidFill>
                <a:latin typeface="Century Schoolbook"/>
              </a:rPr>
              <a:t>PRESENTACIÓN</a:t>
            </a:r>
            <a:r>
              <a:rPr b="1" lang="en-US" sz="1000" spc="-1" strike="noStrike">
                <a:solidFill>
                  <a:srgbClr val="8e1411"/>
                </a:solidFill>
                <a:latin typeface="Century Schoolbook"/>
              </a:rPr>
              <a:t>:</a:t>
            </a:r>
            <a:endParaRPr b="0" lang="en-US" sz="1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613"/>
                </a:solidFill>
                <a:latin typeface="Century Schoolbook"/>
              </a:rPr>
              <a:t>Organización del Trabajo en Terre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5613"/>
                </a:solidFill>
                <a:latin typeface="Century Schoolbook"/>
              </a:rPr>
              <a:t>1º Semestre del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Imagen 3" descr=""/>
          <p:cNvPicPr/>
          <p:nvPr/>
        </p:nvPicPr>
        <p:blipFill>
          <a:blip r:embed="rId1"/>
          <a:stretch/>
        </p:blipFill>
        <p:spPr>
          <a:xfrm>
            <a:off x="3897360" y="3063960"/>
            <a:ext cx="1349280" cy="730080"/>
          </a:xfrm>
          <a:prstGeom prst="rect">
            <a:avLst/>
          </a:prstGeom>
          <a:ln w="0">
            <a:noFill/>
          </a:ln>
        </p:spPr>
      </p:pic>
      <p:pic>
        <p:nvPicPr>
          <p:cNvPr id="354" name="Imagen 4" descr=""/>
          <p:cNvPicPr/>
          <p:nvPr/>
        </p:nvPicPr>
        <p:blipFill>
          <a:blip r:embed="rId2"/>
          <a:stretch/>
        </p:blipFill>
        <p:spPr>
          <a:xfrm>
            <a:off x="2700360" y="1371600"/>
            <a:ext cx="54529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ACTIVIDADES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PLAZAS CIUDADANAS: En ellas los estudiantes responderán dudas directas de los consultantes y las ingresaran a un sistema de atención. La persona recibirá una respuesta de manera inmediata, será citada para una respuesta posterior o recibirá una respuesta por correo dependiendo de la complejidad de la materia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CHARLAS CIUDADANAS: En ellas los estudiantes harán una exposición oral a la comunidad respecto de los temas fijados en el programa de la cátedra. Posteriormente a la presentación podrán responder dudas directas del público asistente. Los asistentes deben ser registrados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INVESTIGACIÓN EN TERRENO: Según la capacitación hecha en clases, los estudiantes recopilarán datos en terreno para la elaboración de informes de diagnostico. La investigación o recopilación de datos en terreno se hará a partir de la segunda visita en terreno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HORARIO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Schoolbook"/>
              </a:rPr>
              <a:t>En el primer viaje el curso trabajara en conjunto sin separarse en grupo</a:t>
            </a:r>
            <a:r>
              <a:rPr b="0" lang="es-ES_tradnl" sz="1200" spc="-1" strike="noStrike">
                <a:solidFill>
                  <a:srgbClr val="000000"/>
                </a:solidFill>
                <a:latin typeface="Century Schoolboo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762120" y="2209680"/>
          <a:ext cx="7696080" cy="409284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E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IER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ÁB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MI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12240">
                      <a:solidFill>
                        <a:srgbClr val="9eb06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ñ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.00-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za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laza ciudad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say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 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1224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:00-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mañ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uer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mañ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reso a Santi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ar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:00- 5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las ciudad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puesta de consul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las ciudad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puesta de consul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solidFill>
                      <a:srgbClr val="9eb060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:00- 1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iaje a Lolol y Pared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raslado de ciu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-back del trabajo de la tar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m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eb060"/>
                      </a:solidFill>
                    </a:lnL>
                    <a:lnR w="5760">
                      <a:solidFill>
                        <a:srgbClr val="9eb060"/>
                      </a:solidFill>
                    </a:lnR>
                    <a:lnT w="5760">
                      <a:solidFill>
                        <a:srgbClr val="9eb060"/>
                      </a:solidFill>
                    </a:lnT>
                    <a:lnB w="5760">
                      <a:solidFill>
                        <a:srgbClr val="9eb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ATENCIÓN DIRECTA AL PÚBLICO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pic>
        <p:nvPicPr>
          <p:cNvPr id="361" name="Marcador de contenido 4" descr=""/>
          <p:cNvPicPr/>
          <p:nvPr/>
        </p:nvPicPr>
        <p:blipFill>
          <a:blip r:embed="rId1"/>
          <a:stretch/>
        </p:blipFill>
        <p:spPr>
          <a:xfrm>
            <a:off x="390600" y="1542960"/>
            <a:ext cx="75470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HOJAS DE ATENCIÓN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tenido de la fich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Fecha/Lugar de la consulta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Nombre del Voluntario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Nombre consultante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UT consultante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Domicilio consult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ateria de la consul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elación entrevis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Respuesta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CARNET DE ATENCIÓN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2286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 todos los consultantes debe hacerse entrega de un carnet de atención donde se señalen los datos del estudiante que los atendió y los datos para recontactarse con él o informarle de los avances del proceso de regularización de pequeña propiedad raíz o postulación a subsidios SERVI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4ab26"/>
                </a:solidFill>
                <a:latin typeface="Century Schoolbook"/>
              </a:rPr>
              <a:t>REQUERIMIENTOS PARA EL VIAJE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l equipo docente de enfermedades de las cuales padezca el estudi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l equipo docente de remedios que sea necesario tomar durante el vi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ar el equipo docente dos teléfonos de contacto en caso de emergen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9eb0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formar a las familias del viaje y entregar los teléfonos del equipo doc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nformaciones anteriores se levantará un acta que será firmada por los estudian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09a08"/>
            </a:gs>
          </a:gsLst>
          <a:lin ang="11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5257440"/>
            <a:ext cx="746748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0000"/>
                </a:solidFill>
                <a:latin typeface="Century Schoolbook"/>
              </a:rPr>
              <a:t>¡ BUENA SUERTE EN TERRENO!</a:t>
            </a:r>
            <a:endParaRPr b="0" lang="en-US" sz="3000" spc="-1" strike="noStrike">
              <a:solidFill>
                <a:srgbClr val="54ab26"/>
              </a:solidFill>
              <a:latin typeface="Century Schoolbook"/>
            </a:endParaRPr>
          </a:p>
        </p:txBody>
      </p:sp>
      <p:pic>
        <p:nvPicPr>
          <p:cNvPr id="369" name="Marcador de contenido 9" descr="DERECHO PIENSA Logo TIFF.tiff"/>
          <p:cNvPicPr/>
          <p:nvPr/>
        </p:nvPicPr>
        <p:blipFill>
          <a:blip r:embed="rId1"/>
          <a:stretch/>
        </p:blipFill>
        <p:spPr>
          <a:xfrm>
            <a:off x="2666880" y="990720"/>
            <a:ext cx="58579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9:49:47Z</dcterms:created>
  <dc:creator>Daniela Ejsmentewicz</dc:creator>
  <dc:description/>
  <dc:language>en-US</dc:language>
  <cp:lastModifiedBy>Daniela Ejsmentewicz</cp:lastModifiedBy>
  <dcterms:modified xsi:type="dcterms:W3CDTF">2011-03-10T20:19:09Z</dcterms:modified>
  <cp:revision>12</cp:revision>
  <dc:subject/>
  <dc:title>PRESENTACIÓN:</dc:title>
</cp:coreProperties>
</file>