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C6DF-598F-4531-B28E-51000E4576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778B-61CB-4870-86D9-693CCCFAED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609C-10EB-4C3A-ACAB-6A860A7FF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2788-7BB1-4DF9-9A5B-1B01C2D0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275A-4CB5-4F6D-9ADD-4A9CD423E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C37F-A773-4449-A6A7-25BF6B97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0912-2F24-4A2C-B872-17C0735E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B453-BFF5-467E-9C94-D0DD8945F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45FC-C878-401C-B4DF-5501ACCAB7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3183-0D98-47E3-97A6-CFBAA75D2E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F768-82E8-4A65-BF59-2BC202C7D7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3BDD-8179-4A59-AEA0-8F7B43876E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27CE-FA26-4CFB-A3DF-3E406942DF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02D2-C874-44B9-958C-86E6BCC2F9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3389-C462-4672-9928-F7FCBBAFD8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9D80-1CC9-4137-BC5F-60A919E96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E90B-A55B-4F28-B655-F0A3755A6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946-413E-4EE3-8B3F-466C3AED9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AC84-A1BB-41CE-AC09-D120F1A7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2AD6-D9DA-4378-B908-327D2E9BE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3E29-E611-4A8B-A785-2BCAA5FFD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370-E2BC-445A-8B11-E649F803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457-7663-4ED9-B6EF-11C5E1F8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D62-6AC6-4D19-BFC5-7087108C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4C1-B592-49DC-BDF7-636B54CF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3B1-8D25-49C4-9272-2CCF168C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FA2-1B4E-4C4B-AB9D-F6E5122B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DE6-B403-430B-8077-B939A3FC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0C0-9BF1-4DBA-86EC-0E482A47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9C2-4926-46FA-BEF5-A23DC171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7F3-DC49-4A55-AB42-E046EB9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42C-8C7E-4718-8812-FE4F4433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A43-287E-402C-9B0A-A19741E7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848F-B9CE-460F-BCD8-104F94F6460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eltrán, Yolanda con Fisco (1997): muerte de hijo de actora, a las 22 hrs. de 15.09.1987 por un Carabinero en estado de ebriedad (ese día el autor efectuó servicio de primer turno desde las 7 a 14.30 hrs. y a las 23.15 se encontraba de franco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Si el hecho de la muerte de la persona no guarda relación con la labor funcionaria de quien la provocó, pues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no fue cometido en un acto de servicio ni con ocasión del mism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, cabe concluir que se trata de un hecho jurídico de carácter personal, que se rige por el derecho común en lo referente a indemnizaciones y no por el derecho público no obligando, por ende, al Fisco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Los actos personales del funcionario realizados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fuera de su horario de trabajo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no revisten el carácter de actos de servicio, aunque el hecho se haya cometido con u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arma fiscal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Que de acuerdo a las normas del derecho común tampoco cabe responsabilidad al Fisco (arts. 2314 y s., 2320, 2322 y 2329 Código Civi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Toda persona es responsable de sus propios actos y si bien los empresarios responden por los actos de sus dependientes, ello ocurre mientras estén bajo su cuidado, es decir, </a:t>
            </a:r>
            <a:r>
              <a:rPr b="1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mientras pueda ejercerse un control sobre el funcionario</a:t>
            </a:r>
            <a:r>
              <a:rPr b="0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encontrándose éste en el ejercicio de sus labores, pero no en los actos de su vida privada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3360" y="259920"/>
            <a:ext cx="821664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62 DL 1289/76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La responsabilidad extracontractual procederá, principalmente, para indemnizar los perjuicios que sufran uno o más usuarios de los servicios municipales, cuando estos 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no funcionen debiendo hacerlo, o lo hagan en forma deficiente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142 LOC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Las municipalidades incurrirán en responsabilidad por los daños que causen, la que procederá́ principalmente por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de servic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No obstante, las municipalidades tendrán derecho a repetir en contra del funcionario que hubiere incurrido en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perso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Arial"/>
              </a:rPr>
              <a:t>n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604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Neira Rivas, Gloria y Poupin Neira, Juan con Fisco de Chile (2000): </a:t>
            </a:r>
            <a:r>
              <a:rPr b="1" lang="es-ES_tradnl" sz="2300" spc="-1" strike="noStrike">
                <a:solidFill>
                  <a:srgbClr val="000000"/>
                </a:solidFill>
                <a:latin typeface="Arial"/>
                <a:ea typeface="Arial"/>
              </a:rPr>
              <a:t>detención de Arsenio Poupin por funcionarios militares, que tenían la calidad de servidores públic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t. 38.2 CPR y art. 4 LOCBGAE, contienen el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recho que le asiste a todo particular de ser reparad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frente a las actuaciones que le provoquen daño, sea de una acción u omisión del órgano públic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R establece una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responsabilidad orgán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la imputación del daño recae directamente sobre el órgano administrativ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i bien en el caso de autos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no se ha podido determinar o precisar la o las personas responsables del hech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ello no obsta que la acción civil pueda prosperar, puesto que,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no es responsabilidad de estos demandantes que no se los haya podido individual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gueroa Gallardo con Fisco de Chile (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13920"/>
            <a:ext cx="8540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falta de servicio que irroga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directamente responsabilidad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 Estado, en los términos del artículo 44 de la Carta Fundamental (sic), se produ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s órganos administrativos no actúan, debiendo hacerl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 actuación es tardía 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los funcionan defectuosamente causando perjuicio a los usuarios o destinatarios del servicio públ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, si bien estos últimos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no requieren individualizar ni perseguir al funcionario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ya acción u omisión personal origina la falta, en cambio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vocar y acredit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existencia de esta falla en la actividad del órgano administrativo, 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ella es l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s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daño experimentado por el patrimonio de la víctima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érez Llona, Ma. Cristina con Municip. Las Condes (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4064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s municipalidades la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vigilancia y salvaguardi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vías de tránsito públicos en zonas urb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00 Ley Tránsito, Municipalidad debe mantener o hacer mantener señales de advertencia de peligro en caso de ejecución de trabajos en las cal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37 LOCM (hoy 142), Municipalidad es responsable principalmente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falta de servi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causa del daño es el mal estado de la acera o vereda, lugar que se encontraba sin protección adecuada ni señalización de peligro, solo cabe concluir que Municipalidad es respons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sóstomo, Ma. Luisa con Municip. Concepción (19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71760"/>
            <a:ext cx="854064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ualquiera que sea el ámbito en que se examine la responsabilidad de la Municipalidad por accidentes sufridos por las personas en las vías públicas por ausencia o inadecuada señalización de lugares de peligro para el tránsito de peatones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entienda que es un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responsabilidad objetiv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aplique la teoría de l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falta de servicio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la debe indemnizar a la víctima,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sde que ha omitido su deber de mantener un paseo peatonal de manera expedita para su tránsit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como asimismo de mantener señales de advertencia al público del peligro que corrían en determinados lugares, omisión que ocasionó el accidente de la actora …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ja García, Domingo y otro con Municip. Talcahuano (199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406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nicipalidad es responsable de los daños que produzca en las personas sea por su actividad, sea por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deficiencias en la prestación de sus servicios como en la ausencia de mantención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 un mástil colocado en una plazoleta pública que careciendo de los soportes y debida firmeza, cae sobre un niño, produciéndole la muer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a CPR (art. 38.2), y Ley 18.575 (art. 4) y Ley 18.695 (art. 137) establece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responsabilidad objetiva del Estad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, de sus órganos y de la Municipalida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siendo objetiva la responsabilidad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l Estado, no es obligación del ofendido o del que ha sufrido el daño probar la existencia de dolo o culpa en el autor de és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no es procedente aplicar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a la responsabilidad del Estado las normas de la responsabilidad extracontractual contenidas en el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Código Civil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uesto que ellas son total y absolutamente distintas no sólo en su origen sino también en su propósito o fi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vera con Municipalidad de La Unión (20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hecho de suscribir una Municipalidad un </a:t>
            </a:r>
            <a:r>
              <a:rPr b="1" lang="es-CL" sz="2100" spc="-1" strike="noStrike">
                <a:solidFill>
                  <a:srgbClr val="ff0000"/>
                </a:solidFill>
                <a:latin typeface="Arial"/>
              </a:rPr>
              <a:t>convenio de ejecución participativa de pavimentación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 con el Serviu, … no la habilita a descargarse de la responsabilidad propi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ni la exime de su obligación de indemn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de el momento que la municipalidad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le corresponde aplicar de manera privativ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las disposiciones sobre construcción y urbanización, debe entonces responder por las pavimentaciones defectuos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Aplic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Falta de servicio municipal en caso de acción por omisió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Sostiene que los contratos administrativos no liberan de responsabilidad a los órganos administrativos, por incumplimiento de deberes legales privativ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9912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Institucional del Estado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en la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Responsabilidad Institucional en el Estado en la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Administr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J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Legisl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 Unicode MS"/>
              </a:rPr>
              <a:t>Art. 1°, inc. 2 L. 18.57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La Administración del Estado estará constituida por los Ministerios, las Intendencias, las Gobernaciones y los órganos y servicios públicos creados para el cumplimiento de la función administrativa, incluidos la Contraloría General de la República, el Banco Central, las Fuerzas Armadas y las Fuerzas de Orden y Seguridad Pública, los Gobiernos Regionales, las Municipalidades y las empresas creadas por ley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C/Sagredo Pizarro, Jorge, y Topp Collins, Carlos (198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4064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esponsabilidad del Estado, ... debe surgir en este caso ... de la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sponsabilidad por el hecho ajen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pero, para que ésta se dé, es necesario que el hechor o hechores estén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bajo el cuidado del tercero demandad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 el caso de autos, supuesto de aceptarse ... que esa relación de cuidado pueda ser también de índole administrativa, es obvio que en este supuesto deba restringirse al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uidado dentro del servicio o respecto de actuaciones ejecutadas con ocasión de él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dada la naturaleza de esa dependencia, no pudiendo estimarse que se cumpla con esas exigencias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responsabilidad Estado por hecho de quien está a su cuidado (hecho ajeno), debe restringirse a cuidado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</a:rPr>
              <a:t>dentro del servicio o actuaciones ejecutadas con ocasión de é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los casos concretos de autos, hechores actuar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oras de franc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sin uso uniformes ni de armas fiscal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echos que nada tienen que ver con el empleo o funció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hechos que los habrían podido cometer igualmente si en esos momentos ya no hubiesen pertenecido a la institu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6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7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¿Art. 38, inc. 2º, CP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uentes Lizana con Almonacid y Fisco (1996):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violencia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innecesaria haciéndose ejercicio abusivo de función poli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ncontrándose acreditada la existencia del delito penal cometido por el demandad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n acto de servicio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como carabinero, …, necesario es declarar que al demandante le asiste el derecho a ser civilmente indemnizado tanto por el funcionario referido como por el Fisco, en cuant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s responsable del hecho de sus órganos o agentes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Idea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Responsabilidad solidaria en la comisión de delitos civi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responde con sus funcionarios por los delitos que éstos come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tiene responsabilidad orgánica y funcionario responsabilidad subjetiv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íodo Normativa Pública – 198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00080"/>
            <a:ext cx="837720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ependencia responsabilidad de sujetos públicos y sujetos priv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aplica única y exclusivamente normativa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s. 6, 7, 19 N° 20, 19 N° 24, 38, 41 N° 8,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4 y 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ey 18.5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142 LO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chs y Plath con Fisco (19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ario: cerveza arrojada al m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lica principio d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onsabilidad institucion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bierno debe indemnizar perjuicios causados durante una huelga por fuerza armada que, obedeciendo orden superior arroja al mar bebidas para impedir que caiga en poder de huelguis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ber de la autoridad de mantener ante todo el orden público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no la faculta para adoptar el primer medio que se le presenta ni la exime de la obligación de recurrir entre varios, a los que menos daños ocasion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derecho de los partic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bándose que arrojar al agua mercancía fuese medio necesario y único de impedir su apropiación por huelguistas, debe el Fisco indemnizar el daño caus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os de indefinición de las normas fundantes del sist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28480"/>
            <a:ext cx="85406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c/ César Miranda Galvez y otros por homicidio de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Nattino, Parada y Guerrer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se condenó Fisco, fundándose en arts. 5, 6, 7 y 38 CP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Lionel Beraud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condenó Fisco amparándose en el art. 38, inc. 2°, CPR, y en el art. 4 Ley 18.57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Hexagon Ltda. con Fisco (1987): 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paralización de las liquidaciones de importación de automóviles marca Pacer y Hornets en 1977</a:t>
            </a:r>
            <a:br>
              <a:rPr sz="28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4064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nera responsabilidad para Estado conforme CPR (arts. 6, 7, 19 Nº 24 y 20) y Ley 18.575 (arts. 4 y 42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ponsabilidad de Estado no emana de Título XXXV del Libro IV 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ciones y omisiones de autoridades públicas, efectuadas en calidad de tales,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n imputables directamente a Administración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responsabilidad orgánic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demnizar daño a víctima que jurídicamente no está obligada a soportarlo, constituy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l derecho de propiedad al ser privado de lo suy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 principio constitucional de la igual repartición de las cargas públicas y de la igualdad ante la 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odríguez Guaita, G. con SAG (1993):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SAG dictó medidas para erradicar un foco de fiebre aftosa detectado en la VII Región, prohibiendo el uso de algunos predi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54064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rgánica: víctima siempre puede demandar los perjuicios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  <a:ea typeface="Arial"/>
              </a:rPr>
              <a:t>directamente a la Administració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bjetiva: art. 38 CPR consagra el principio de que todo daño ocasionado por la Administración debe ser indemniz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Falta person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"/>
              </a:rPr>
              <a:t>el vínculo que puede surgir entre la Administración y el funcionario que incurre en falta personal es una materia 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0" lang="es-ES" sz="2300" spc="-1" strike="noStrike">
                <a:solidFill>
                  <a:srgbClr val="ff0000"/>
                </a:solidFill>
                <a:latin typeface="Arial"/>
                <a:ea typeface="Arial"/>
              </a:rPr>
              <a:t>inter-orgánica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Tirado con Municipalidad de La Rein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 (1981):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daño sufrido de caído en una excavación profunda en una calle de la comuna, que carecía de las señalizaciones de tránsito necesarios para evitar este tipo de accidente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44640"/>
            <a:ext cx="854064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Municipalidad tiene el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deber legal de inspeccionar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s obras de urbanización: deber de velar que las aceras se mantengan expedita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no puede haber infracción de normas del Código Civil cuando la sentencia ha aplicado principio de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responsabilidad objetiva del art. 62 Ley Orgánica de Municipalidades,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escartando la responsabilidad por la culpabilida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no es necesario acreditar que hubo de parte de uno o más funcionarios, empleados u obreros de dicha Municipalidad, negligencia en desempeño de sus obligacion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1-30T12:32:46Z</dcterms:modified>
  <cp:revision>151</cp:revision>
  <dc:subject/>
  <dc:title>CONTROL</dc:title>
</cp:coreProperties>
</file>