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B8C9-1BF2-482B-9312-7676CD682D6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8BFE-2ED3-4ACB-9FD8-12D270BAC5A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CB56-B103-42F7-953A-7CF51AA4B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75AA-5636-4601-B08D-3663CD674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A6DE-4AC1-4E0D-98A7-5D3825369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C338-6E5E-4379-AD33-8E9AD47EA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4DE4-6CC8-4C30-9B2B-85819B6D1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C3ED-BC0B-41A1-BA42-1E31BD56F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BA80-DF3C-47D2-95FF-21FA51D4AB1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A127-AA4D-4101-89EA-4D7A06CE504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39E8-F216-4971-BB36-FE6F8682A0E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DCAA-BE89-4A54-B40E-C9FD7F636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4271-1A4F-4D0D-9648-1CC0549E14F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865F-AAEF-4EAF-9D01-AAA802F3CA0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AAD8-E447-4C59-AC64-20D4E8829B3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E585-8140-4CB9-9CB6-AEF17F57C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2BB8-B583-4601-80DE-5317393F8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6026-27E3-4B40-8E1E-B6A3DC96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DDAA-6AE2-4305-A4F2-9C666E501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53F5-B601-41A1-9381-D3C0373AC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D8B1-E457-461C-9061-BFB90C2F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CFE8-DC51-43AB-B4B4-E846FA00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A857-5F01-4272-9FF1-B299EEA2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C99B-DDB1-4E15-B6A6-A6C445DB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7570-66B0-41FA-B007-8191D041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6CDB-01E8-47EA-95F1-6BC54CAB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727F-9B09-46AF-9C47-C52B8A93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54CB-F571-41AC-8A1C-AD0DBC00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cbf9">
            <a:alpha val="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A361-7C2F-4CD4-A27A-17687DEAEB74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Responsabilidad del Estado Administrador (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 Unicode MS"/>
              </a:rPr>
              <a:t>Art. 38, inc. 2° CP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S, ingreso N° 4.004-03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.. El principio de la responsabilidad del Estado, si bien se encuentra consagrado en el inciso 2º del artículo 38 de la Constitución Política de la República, 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no indica cual es su naturaleza, de suerte que para determinarla debe necesariamente recurrirse a la ley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¿Toda actuación de un funcionario público es imputable al Fisc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1. sólo aquella que puede encuadrarse dentro de la Teoría del Órga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sólo lo obrado por órgano debe entenderse realizado por persona jurídica (no hay “representación” entre ellos) (arts. 6 y 7 CP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2. debe tratarse de un órgano que se adscriba a Administración del Estado (art. 1, inc. 2 L. 18.57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3. funcionario debe actuar por el órgano en ejercicio de sus funciones (art. 4 L. 18.57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el “querer” del funcionario es tenido como la “voluntad administrativa orgánica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ementos del Órg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Conjunto de compete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Persona natural que titulariza su ejerci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or tanto, Estado respon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Si el agresor es un funcionario o un órga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Si el funcionario actúa en ejercicio (o con ocasión) de sus funci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alibri"/>
              </a:rPr>
              <a:t>funcionario público - órga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Calibri"/>
              </a:rPr>
              <a:t>Salas Maturana, Alejandro con Fisco y otro (1986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Se trata de un accidente de tránsito entre un vehículo particular y uno del Ministerio de Hacienda conducido por un carabine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En efecto, de los preceptos que se mencionarán y analizarán a continuación fluye necesariamente la obligación del Estado de responder por la actuación ilícita de sus órganos…”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Así si un carabinero se desempeña como chofer de de un vehículo de un Ministerio y causa un daño, se le considera que actuaba en el ejercicio de sus funciones, al no existir prueba que indique lo contrario”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obl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s actuaciones dañosas provocadas con ocasión de acciones u omisiones de personas privadas que prestan servicios a la Administr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¿comprometen o no la responsabilidad del Estad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Culpa in vigilan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j. artículo 14, Ley de Firma Electrónica (Ley 19.79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 ningún caso la responsabilidad que pueda emanar de una certificación efectuada por un prestador privado acreditado comprometerá la responsabilidad pecuniaria del Estado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¿Solidaridad del Fisco frente a responsabilidad de órganos personificad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rt. 4 Ley 18.57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Tesis de Oelckers Ca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Consecuencias del art. 38, inc. 2º C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Tesis 1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PR no se inclina por ningún sistema de responsabilidad extracontractual de la Administración del Estad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Tesis 2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PR establece un sistema objetivo de responsabilidad extracontractual de la Administración del Estad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erivaciones de tesis 1: ningún sistema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 Unicode MS"/>
              </a:rPr>
              <a:t>Estado y municipalidades son justiciables si su acción u omisión lesiona derechos de las persona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 Unicode MS"/>
              </a:rPr>
              <a:t>La justiciabilidad se aplica a materias de cualquier índole: contractual o extracontract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 Unicode MS"/>
              </a:rPr>
              <a:t>actor es la persona lesionada en sus derecho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 Unicode MS"/>
              </a:rPr>
              <a:t>la Administración no está obligada a responder por solo hecho u omisión que lesione un derecho: debe ser condenada a ell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erivaciones de tesis 2: responsabilidad obje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0040" y="1285920"/>
            <a:ext cx="822960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 Unicode MS"/>
              </a:rPr>
              <a:t>Estado y municipalidades responden por lesión de derechos independientemente si sus actuaciones son lícitas o ilícita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 Unicode MS"/>
              </a:rPr>
              <a:t>la lesión no se estructura desde perspectiva del autor daño, sino desde condición de una víctima, que no está obligada a soportar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 Unicode MS"/>
              </a:rPr>
              <a:t>el Estado no puede excusarse en la responsabilidad del funcionario para eludir la suya; su responsabilidad es direct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 Unicode MS"/>
              </a:rPr>
              <a:t>la Administración no está obligada a responder por solo hecho u omisión que lesione un derecho: debe ser condenada a ell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omic Bezic y otros con Fisco (Corte Suprema, 15.05.200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404640"/>
            <a:ext cx="8540640" cy="60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525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sponsabilidad estatal y caracteres específicos no derivan de un determinado cuerpo constitucional, sino que son consecuencia necesaria de la naturaleza del Estado, en cuanto organización jurídica y política de la comun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25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25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 </a:t>
            </a:r>
            <a:r>
              <a:rPr b="0" lang="es-ES_tradnl" sz="2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rdenamiento jurídico no encierra disposiciones de carácter general que establezcan responsabilidades objetivas 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a los particulares o el Estad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25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Unicode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sponsabilidad objetiva requiere de </a:t>
            </a:r>
            <a:r>
              <a:rPr b="0" lang="es-ES_tradnl" sz="2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claración explícita del legislador 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 describa las circunstancias precisas que pueden generarla (arts. 2327 y 2328 C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Los arts. 6 y 7 CPR como fundantes de la responsabil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Unicode MS"/>
              </a:rPr>
              <a:t>TC, Rol 245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La Constitución de 1980 ha establecido la responsabilidad del Estado como un </a:t>
            </a:r>
            <a:r>
              <a:rPr b="0" lang="es-ES" sz="20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principio general que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parece claro en diversas disposiciones constitucionales. Citaremos al efecto los artículos 6º y 7º del Capítulo sobre Bases de la Institucionalidad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 estos artículos se concluye que los órganos del Estado, cualquiera que sea su actividad, </a:t>
            </a:r>
            <a:r>
              <a:rPr b="0" lang="es-ES" sz="20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tienen responsabilidad si infringen la Constitución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stas normas se complementan con otras disposiciones de la Constitución de donde resulta que </a:t>
            </a:r>
            <a:r>
              <a:rPr b="0" lang="es-CL" sz="20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si se afectan derechos constitucionales y se causa daño cabe responsabilidad del Estado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Responsabilidad del Estado Jue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Unicode MS"/>
              </a:rPr>
              <a:t>Suje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Unicode MS"/>
              </a:rPr>
              <a:t>ESTADO (fisc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Unicode MS"/>
              </a:rPr>
              <a:t>Fuente jurídica constituciona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Art. 19, Nº 7, letra i), CP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(arts. 6º y 7º, CP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(arts. 1º, inc. 3º, 4º y 5º, CPR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Responsabilidad del Estado Legislad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Unicode MS"/>
              </a:rPr>
              <a:t>Suje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Unicode MS"/>
              </a:rPr>
              <a:t>ESTADO (fisc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Unicode MS"/>
              </a:rPr>
              <a:t>Fuente jurídica constituciona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(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(Art. 6º y 7º, CP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(arts. 1º, inc. 3º, 4º y 5º, 19 N° 20 y 24 CPR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Calibri"/>
              </a:rPr>
              <a:t>Actuación de la Administración del Estado y la responsabilida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7:02:18Z</dcterms:created>
  <dc:creator>Claudio</dc:creator>
  <dc:description/>
  <dc:language>en-US</dc:language>
  <cp:lastModifiedBy>Claudio Moraga</cp:lastModifiedBy>
  <dcterms:modified xsi:type="dcterms:W3CDTF">2011-12-02T13:00:27Z</dcterms:modified>
  <cp:revision>156</cp:revision>
  <dc:subject/>
  <dc:title>CONTROL</dc:title>
</cp:coreProperties>
</file>