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F05-7D01-4550-A963-EAB92C60C5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063-99F0-4069-9F42-9A01C951F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34A-CCB6-4B34-B56D-C8067E84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B560-4272-4C93-9AD3-1BDF26F2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6379-2BB4-417C-B988-849EAEBE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D56-FA15-4CC0-9DCC-92047F54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12C-B696-4C96-AC26-5B4420AB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FFC8-C907-4DAA-A18B-6F75DF56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02D-C5C6-4144-AA02-4D7A005B3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FA82-9A91-4F78-A815-45021071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001D-2A0B-4137-89FF-093A5C00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2C2-7D71-4F77-AAFE-CF2725E34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817-39D0-4FA4-BC83-E4CD6063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4F9-E90F-4B24-B4CF-6F2798123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E1F-ADE6-4B9B-B1C5-C9CA7FF7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D0D8-E1F5-436F-93BE-9CEEF1BA9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C45-0CA2-4C2E-A414-788ED13C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4AD3-7854-4E39-BBC4-DD5F99FF5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7DF7-7A2B-4A7B-A532-F74A2040A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8D6-DA82-4EEC-93E9-0EB5781A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AE7-A68E-4ADA-BA68-C5ADEC12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F84-DAFD-4FD2-BC0E-D8EE3466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2DB-B2BA-4684-A936-2820E77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FC5-CF25-4F11-A4DD-4DB25512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E67-C0D7-4B2B-9D25-791EF00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1AD-B1AF-4B64-A60E-928BCAA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182-84A7-4A1A-8081-CD93A63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3EB-3978-453B-AB63-13F10E8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BEB-FE04-4E15-AA64-08D993B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E5C-6903-456D-9017-28CF141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4BC-B842-4E4B-8063-6E5D882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AA5B-3950-4F45-9E88-5F8EB4685AA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¿qué actuaciones pueden comprometer responsabilidad Estad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ponsabilidad por actividad líc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jemplo histórico: Expropi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el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sacrificio especial”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de la víct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emento atributivo de responsabilidad actuación irregular de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falta de servicio refleja la “culpa o responsabilidad de la organ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troducción de la “falta de servicio” en Chi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L 1289/76, art. 6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o funcionen debiendo hacerlo, o lo hagan en forma defici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575, art. 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L. 18.695, art. 14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finición de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ey no la ha definido, pero en todo caso, el leitmotiv del sistema ser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órganos de Administración son responsables de daños que causen po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de serv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obstante, Estado tendrá acción de repetición contra el funcionario que hubiere incurrido e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lta personal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características “falta de servici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stituida por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rencia tota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prestación del servicio, por un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organización irregular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por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uncionamiento defectuos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ardí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 es necesario probar dolo o culpa autor material  daño; sólo es necesari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reditar la falta, deficiente o tardía prestación d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ersona de funcionario no interesa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sponsabilidad recaerá únicamente en el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 funcionario es individualizable, su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cción y omisión puede o no ser constitutiva falta administrativ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siendo ello independiente existencia de falta de serv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ierry: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. 42 L. 18.575 resume todo el sistema francés de la 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 aplica 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actividad material y jurídica de Administ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 “culpa del servicio” (resp. subjeti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tendimiento doctrinario de “falta de servicio”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López Sta. Marí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e referencia a un resultado ineficiente o daño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García Mendoz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lta de servicio es una nueva y especial forma de responsabilidad pública objeti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responsabilidad no obliga a víctima a probar dolo o culpa en autor material daño, basta el dañ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o obstante debe acreditar la falta, deficiente o tardía prestación del servicio, pero ello no le otorgaría algún grado de subjetiv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Calibri"/>
              </a:rPr>
              <a:t>Parámetro de medición de la “falta de servicio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ceso de comparación con patrón de refer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derecho común es el buen padre de familia (art. 44 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trón para juzgar conducta Administración está referido a lo qu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uede razonablemente exigirs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un comportamiento normal y legal, a un servicio públ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erto en una realidad particula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una situación especial de paí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iderando posibilidades reales de acción de Administ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dido sus medios, su presupuesto y características prop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00100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aso Pavez Jara, Juan con Municipalidad de La Florida 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(caída de niño a piscina, cuyo borde está mojado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Sostiene el libelo que había habido falta de servicio al encontrarse el borde moj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Corte sostuvo que del actuar de la municipalidad había sido perfectamente normal, toda vez que no podía exigírsele que tuviera totalmente secos los bordes de la pisc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Fue la conducta o el hecho (culpable o no, no importa) de la víctima la causante del accidente, puesto que el borde mojado de una pileta no es la consecuencia de omisión municipal alguna, desde </a:t>
            </a:r>
            <a:r>
              <a:rPr b="1" lang="es-ES" sz="2300" spc="-1" strike="noStrike">
                <a:solidFill>
                  <a:srgbClr val="ff0000"/>
                </a:solidFill>
                <a:latin typeface="Calibri"/>
              </a:rPr>
              <a:t>que lo normal es que una piscina esté mojada y resbaladiza</a:t>
            </a: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, de manera que de lo que aquí se trata es de riesgos asumidos por la propia víctim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1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oda actuación (unilateral) puede comprometer responsabilidad, en tanto sea extracontrac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2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uede ser positiva o neg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3ª regl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posi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Formal o juríd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Material o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4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actuación negativa puede s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– f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Negativa -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5ª reg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uede tratarse de actuación irregular o líc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Actuación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6 y 7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dministración responde por actuaciones ilícitas de sus órganos, es decir, infractoras de normas constitucionales y leg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Quien ejerce el poder, debe hacerlo conforme al ordenamiento juríd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Estado de Derec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Responsabilidad por actividad irregul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upuestos objetiv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año indemniz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ctuación de la Administración del 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Relación de caus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Factor de atribución: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“falta de servici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ctuación regular o líc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rts. 1, inc. 4, y 5, inc. 2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esión de derechos importa antijuridic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derecho justifica el obrar permitido, que por ello es lícito, en cambio no justifica ni legitima que como consecuencia de él se ocasione un da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Fundamento general de responsabilidad: </a:t>
            </a: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igualdad de cargas públicas, derecho a la propiedad, la equidad, el bien comú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6T20:17:12Z</dcterms:modified>
  <cp:revision>163</cp:revision>
  <dc:subject/>
  <dc:title>CONTROL</dc:title>
</cp:coreProperties>
</file>