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AA683-01FD-45A3-BD70-2C7159BE6FE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Universidad de Chile - Facultad de Derech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B2CE3-FE7B-48D8-87FD-C5528BA2CFEB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E1B-E0E7-44AC-8549-C47F7F5E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D2B-F83B-40E4-8110-F85867F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6F6-A377-4E3B-B44F-321302A0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A53-F636-437E-AF5D-5B4010C4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820-5320-441E-9A79-38437D1A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78B2-E50B-4B96-BFD7-49598A83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744C-D712-4D97-BF2D-6B7C862D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7002-D40A-4F49-829B-E413984D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B13B-730E-4773-B57E-BC843D9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A746-8377-4E2B-ABED-9BEEC2C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54F0-8BD3-4B8B-B51B-539BB47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BF6-DC6E-4968-BD64-86C55FDF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EF8E-04E3-4A23-B4CC-D8DE3BBB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EF99-D971-4555-ACA9-18D6DF5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D6CF-E782-4465-8EA9-EA9CE430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8FD6-E6F5-46C9-B25C-967817F3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A679-B89C-44B4-9144-50EA1C1D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F89-FA9D-406C-9BF1-CE5B6EC8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8CC-AB6F-4F99-B770-499DE234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B32-15B1-41A7-B21C-5A48A8A8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948-67C9-4A35-92FA-34942481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E65-5E54-43E4-947A-27EB4EF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B49-53C3-4E41-9681-0C60B61A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A84-A4DC-4745-A4C0-3B92F7A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54EB-8C11-43D1-8CE7-D0C3DF8A0913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8F6-4355-415A-B31B-0669CAF08AF2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400" spc="-1" strike="noStrike">
                <a:solidFill>
                  <a:srgbClr val="ffffcc"/>
                </a:solidFill>
                <a:latin typeface="Garamond"/>
              </a:rPr>
              <a:t>INTRODUCCIÓN AL DERECHO 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rimer Semestre 20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5 Imagen" descr="logo_facultad_fondotransparente.png"/>
          <p:cNvPicPr/>
          <p:nvPr/>
        </p:nvPicPr>
        <p:blipFill>
          <a:blip r:embed="rId1"/>
          <a:stretch/>
        </p:blipFill>
        <p:spPr>
          <a:xfrm>
            <a:off x="317520" y="182520"/>
            <a:ext cx="21016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ones básica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Regula y orienta el comportamiento de las perso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Facilita las relaciones (jurídicas) entre particul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Modelo o técnica de solución pacífica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Legitima y limita el poder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040" y="16430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todos los conceptos requieren ser defi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ás que buscar la naturaleza o definición del derecho, debemos preguntar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¿Cuáles son las características necesarias del derecho (objetivo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c000"/>
                </a:solidFill>
                <a:uFillTx/>
                <a:latin typeface="Garamond"/>
              </a:rPr>
              <a:t>Características necesarias del Derecho (Objetivo)</a:t>
            </a:r>
            <a:r>
              <a:rPr b="1" lang="es-ES_tradnl" sz="2800" spc="-1" strike="noStrike">
                <a:solidFill>
                  <a:srgbClr val="ffc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 sistema institucionaliz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coerc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realidad preferentemente norm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es una práctica argumentativa e interpre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 vincula con normas o está compuesto d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¿Qué tipo de norm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 prev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) Leyes de la naturale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b) Leyes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naturaleza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criben realidades empí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caus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será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Leyes de la sociedad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presan pautas de compor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ncipio de impu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do 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B, dado no B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be ser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C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Qué distingue a las normas jurídicas de otros tipos de normas (de la sociedad), como son las normas religiosas o las normas moral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714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Las </a:t>
            </a:r>
            <a:r>
              <a:rPr b="1" lang="es-ES" sz="3100" spc="-1" strike="noStrike">
                <a:solidFill>
                  <a:srgbClr val="ffffff"/>
                </a:solidFill>
                <a:latin typeface="Garamond"/>
              </a:rPr>
              <a:t>normas jurídica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, a diferencia de las normas de trato social, morales, éticas o religiosas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Pertenecen a u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sistema institucionalizado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Son </a:t>
            </a:r>
            <a:r>
              <a:rPr b="0" lang="es-ES" sz="3100" spc="-1" strike="noStrike" u="sng">
                <a:solidFill>
                  <a:srgbClr val="ffffff"/>
                </a:solidFill>
                <a:uFillTx/>
                <a:latin typeface="Garamond"/>
              </a:rPr>
              <a:t>coercibles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 sistema institucional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derecho regula su propia creación (autogener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eñala quiénes, a través de qué procedimientos y con qué limites están facultado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rear, modificar o derogar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solver conflictos de relevancia juríd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racterística asociada 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Fuent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ormas de compet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coerc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sgo distintivo y de mayor capacidad identific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xclusión del uso de la fuerza en las relaciones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uso de la fuerza el derecho lo reserva para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sti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) Coerci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) Coa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ii)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oercibil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es un atributo inhe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ementos del concep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del empleo de la fuerz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osibilidad legí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Uso de la fuerza socialmente organizada o institucionaliz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Las funciones sociales o puntos de v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relacionados con 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428760" y="1428840"/>
            <a:ext cx="821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realidad preferentemente norm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realidad normativa es por sí misma un fenómeno complejo y de componentes varia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 complejidad aumenta desde el instante en que se advierte que las normas no son el único componente o piez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nto a las normas existen también otros estándares jurídicos, a saber: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y valores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Principio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ándares del derecho que adolecen de indeterminación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tan mayor grado de abstracción y generalidad que las nor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han identificado diversos sentidos del térm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conocidos en nuestro ordenamiento com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espíritu general de la legislación”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y/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principios de equida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Ej. caso Riggs vs. Palmer (N. York, 1889)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(…) todas las leyes pueden ser controladas en su operación y efecto por máximas generales y fundamentales del derecho consuetudinario. </a:t>
            </a:r>
            <a:r>
              <a:rPr b="1" lang="es-CL" sz="3000" spc="-1" strike="noStrike" u="sng">
                <a:solidFill>
                  <a:srgbClr val="ffffff"/>
                </a:solidFill>
                <a:uFillTx/>
                <a:latin typeface="Garamond"/>
              </a:rPr>
              <a:t>A nadie se le permitirá aprovecharse de su propio fraude o sacar partido de su propia injusticia</a:t>
            </a:r>
            <a:r>
              <a:rPr b="0" lang="es-CL" sz="3000" spc="-1" strike="noStrike">
                <a:solidFill>
                  <a:srgbClr val="ffffff"/>
                </a:solidFill>
                <a:latin typeface="Garamond"/>
              </a:rPr>
              <a:t>, o fundar demanda alguna sobre su propia inequidad o adquirir propiedad por su propio crimen”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jemplos de nuestro orde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supremacía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egalidad (juridic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oc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non bis in id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no discrim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buena 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la autonomía de la volunt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reconocidas a los principios en nuestro ordenamiento juríd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espíritu general de la legisl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art. 24 C. Civi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Función de integr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principios de equidad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(art. 170 Nº 5 CPC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Val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estándares aún más abiertos e indeterminados que los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rechamente vinculados a la noción de princip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.1 Constitución españo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España se constituye como un Estado social y democrático de derecho, que propugna como 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valores superiores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 de su ordenamiento jurídico la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ibertad, la justicia, la igualdad y el pluralismo político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Gran relevancia de los valores en el ámbito constitucion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. Artículo 1 inc.1º CPR: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“Las personas nacen libres e iguales en dignidad</a:t>
            </a:r>
            <a:r>
              <a:rPr b="1" i="1" lang="es-C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Garamond"/>
              </a:rPr>
              <a:t>y derech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rtalecen la constitución en el proceso de creación y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fieren al ordenamiento jurídico mayor densidad normativa y concep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El derecho es una práctica argumentativa e interpret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tinción entre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debe tomar en cuenta las distintas piezas del derecho: normas, 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es un razonamient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l razonamiento jurídico se manifiesta en diversas sedes a través de distintos agentes u operadores jurídicos, siendo la más visible la actividad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 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estudio del derecho no se reduce sólo a la búsqueda de un concepto o a la exposición de determinadas características esenciales, sino que debe incorporar, para su mayor comprensión, la perspectiva de ciertas actividades o funciones sociales relacionadas con el m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Roles a conside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1. Persona comú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. Legislador (polític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. Ju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 Abog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 Jur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egunta que genera desorient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mnipres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eterogeneidad de respues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La cosa justa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Conjunto de órdenes respaldadas por la amenaza de castigos”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ducto orgánico determinado históricamente por el desarrollo del pueblo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Profecías acerca de lo que harán los tribunale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Orden coactivo eficaz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Unión de reglas primarias y secundarias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persona comú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é entendemos por persona comú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os principales formas de manifestar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úbdito (lego = moralidad de la autorida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Ciudadano (informad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Ciudadano mínimo (indiferent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Ciudadano situado (participativo = moralidad de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la asociación y moralidad de los principi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cepción menos erudit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legislador (polí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el creador por excelencia de las normas juríd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en su esfera de atribuciones crear, modificar o suprimir las normas (leyes) que compone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directamente vinculada a la política (régimen democrátic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¿Quiénes cumplen el rol de legislado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Visión instrumental del derecho (¿activación del cambio social?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sgos atribuidos al legislador: imparcial, neutral, general y futuri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a de “legislador racional”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Ún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Impereceder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sci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pera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Omnicomprensivo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Coherent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Preciso y justo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l central en el conocimiento y comprens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jurisdiccional (art. 76 CP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stinción entre juez y tribu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conocedor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 funcionario del Estado. Integra una organización burocrática y jerarquizada: Poder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isión tradicional de la cultura jurídica chilena sobre la función judici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El juez no produce derecho, sólo aplica el derec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existente (poder subordinado al legislativ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Concepción mecanicista y logicista de la fun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risdiccional (silogismo judici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Su labor interpretativa debe conducir siempre a 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único resultado posible e invari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 juez “es el esclavo de la ley” (Andrés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abog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ón que tiene reconocimiento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s definiciones que entregan el COT y el Código de Ética se centran en el rol de abogado litig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para el abogado un elemento fijo con el que es necesario contar para determinar sus cursos de a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bog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Negoci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Aconsej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Gestionan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040" y="17859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abogado es un “traductor” del lenguaje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ciones esenci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contra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Constitución de sociedades civiles o comer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Redacción de estatutos sociales o corpo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Litigios ante tribu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- Defensa ante órganos administrativ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LAS FUNCIONES SOCIALES O PUNTOS DE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      VISTA RELACIONADOS CON 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El jur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el objeto de su ciencia (“lingüista”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ume la posición de un analista, un pensador, un investigador, un científico frente a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aliza el derecho en sí mismo, sin una finalidad inmediata o prác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, conceptualiza, clasifica, sistematiza e interpr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á llamado a conectar en forma comprensiva todos las funciones sociales o puntos de vista relacionados con 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lcances prelimina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¿Presenta el derecho fines específic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gunta controversial que cuenta con respuestas disímiles dependiendo de la visión del derecho con que se abor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ero, al margen de las disputas dogmáticas o ideológicas en torno al derecho, todo parece indicar que sí es posible asociarlo a ciertos fines o metas socialmente dese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 éstos destacan: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az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,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egur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justi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az (or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la enmarca dentro de la noción de segu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sistema jurídico es visto como un mecanismo de paz social (misión pacificado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medio institucionalizado de solución de confli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hibición del uso de la fuerza por parte de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dispone del uso de la fuerza socialmente organizada (es un sistema coerci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luralidad de enfo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Origen de las dificultades para su defin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lación entre el lenguaje y la re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cepciones contrapuestas en el campo de la teoría de la 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Concepción pla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Concepción convencional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torre plantea una distinción conceptualmente útil. A su juicio, el derecho resguar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en las relaciones jurídicas entre  los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seguridad del individuo frente a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en las relaciones jurídicas entre los individu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guridad en el tráfic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ocimiento de las normas, vías e instituciones jurídicas de que disponen los individuos para relacionarse en socied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ones ámbito privado. Ej. normas sobre la compraventa de inmuebles, constitución de sociedades, reglas sucesoria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1) Asociado a la idea de certez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las normas del derecho sean conocidas y comprendidas por los sujetos imperado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Que dichas normas fijen con razonable preci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lo que ordenan, prohíben y autorizan; 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las consecuencias jurídicas que generan 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umplimientos o contrave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La seguridad del individuo frente al Es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.2) Protección de los derechos fundament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ases doctrinari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iberalismo polí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stad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nstituciona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arantía de derechos civiles y políticos (Declaración de los Derechos del Hombre y del Ciudadano, 178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afío: reconocimiento y garantía de los derechos económicos, sociales y cultur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dentificada tradicionalmente como el más alto de los fines que el derecho debe satisfa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imológicamente la palabra “derecho” está asociada a la idea o noción de justicia (latín 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direct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directo, recto, correcto, just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uno de los conceptos que mayores discusiones ha generado en el ámbito de la filosofí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iversas concepciones o teorías de la justicia han intentado delimitar su alcance y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I. LOS FINES DEL DERECH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riterios de clasific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1. Justicia form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y legalida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2. Justicia sustancial </a:t>
            </a: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(justicia como proporció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1. Justicia distribu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2. Justicia conmu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 Justicia reparad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1. Justicia compens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3.2. Justicia corre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plató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Conceptos reflejan una presunta esencia de las cos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xistencia de una sola definición válida para cada palab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re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Concepción convencion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El lenguaje (sistema de símbolos) es conven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Las cosas por sí solas no tienen propiedades esenci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_tradnl" sz="2600" spc="-1" strike="noStrike">
                <a:solidFill>
                  <a:srgbClr val="ffffff"/>
                </a:solidFill>
                <a:latin typeface="Garamond"/>
              </a:rPr>
              <a:t>Definiciones nomina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Ninguna de estas concepciones garantiza que podamos obtener una caracterización del concepto de derecho con perfiles claros y definid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alabra “derecho”: paradigma de ambig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ü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arga emotiva asoci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es una palabra unív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 varios significados estrechamente relacionados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ª) El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hileno regula el divorcio vinc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ª) Tengo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expresar libremente mis opin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ª) Los estudios de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derecho</a:t>
            </a:r>
            <a:r>
              <a:rPr b="0" i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menzaron en el siglo X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cepciones de la palabra “Derecho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1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2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Derecho Su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3ª acepción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iencia del Derecho o Dogmátic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 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¿QUÉ ES EL DERECHO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Presupuestos esenciales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 derecho es un fenómeno cul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reación humana (derecho occident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Orientado al cumplimiento de ciertos f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c000"/>
                </a:solidFill>
                <a:latin typeface="Garamond"/>
              </a:rPr>
              <a:t>ii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ige la vida en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Ubi societas, ibi iu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Coexiste con otros órdenes norma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12-04-04T04:52:22Z</dcterms:modified>
  <cp:revision>69</cp:revision>
  <dc:subject/>
  <dc:title>INTRODUCCIÓN AL DERECHO I  </dc:title>
</cp:coreProperties>
</file>