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51675" cy="12052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DEA-0A87-4E51-B807-AA469225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C81-8804-4420-933E-204C0D9C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E69-7D75-4CE7-BB6A-1BFB9C36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A1B-96F5-4F89-B321-C2F9E2ED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8908-93AE-44B3-ABD1-1A521C15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8ED7-02D0-435F-AA67-31037CDD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A31C-C299-4E62-B228-4676F344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7F9F-C7B8-48F7-B343-20B10279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FB10-00DF-4E84-AD5F-643653CB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86C1-E5D0-4947-8C68-7FF78643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8536-D352-4D42-ACB8-12FF3A8D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22D-666A-46A4-ABDA-836BC613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4C45-AAAF-4410-B5C6-E4F077F2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4D1E-F3E9-4D0B-B690-C82192A7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C798-F8CE-4654-818F-C513EF27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A3E0-56C9-481C-BC32-4AC75CDC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8B40-932E-4E99-A424-CFC6F579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371-D7D7-45BA-9164-95EE0C2A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35F-605F-496E-8CB8-5156967E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3E5-7870-4F68-B97E-48FBB12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D1F-4E67-4665-A2B7-BBA3DFEE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BC2-FFE2-4125-B6DA-6BEF1194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C7C-0218-4922-990C-05BCC8F6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00D-A2EF-42F4-903E-95E128F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E1A2-17EA-4114-B94C-4F1AA6AE64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2CE3-D41A-4982-B046-DAA7BA78D3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de Salud en Chi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ase   22  de junio de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nte: Jorge Ramón Martínez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897-417E-4FAF-BF3F-526920D8EF7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égimen Público ¿cómo se financia? (continuació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 las contribuciones de parte del valor de las prestaciones, que hagan los afiliados y beneficiar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a ello, las personas se clasifican en cuatro grupos, según su nivel de ingresos: A, B, C, 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grupo tendrá una bonificación porcentual del sistema, debiendo pagar el res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029A-6408-4B44-8C0B-EC7D3EF04B8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Grup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Indigentes o carentes de recursos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uyos ingresos mensuales no excedan del IMM aplicable a trabajadores mayores de 18 años y menores de 65 años, o bien que siendo superior a éste, no excedan de 1,46 veces dicho monto, siempre que tengan 3 ó más cargas legales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Afiliados con ingresos mensuales superiores a 1 IMM y hasta 1,46 veces IMM, siempre que cargas legales no excedan de 2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copago de 1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on ingresos mensuales superiores a 1,46 veces IMM, con cargas legales que no excedan de 2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opago de 20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EEC8-F8D7-4811-B50C-B09C697D499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inanciamiento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1752480"/>
          <a:ext cx="7956360" cy="2613240"/>
        </p:xfrm>
        <a:graphic>
          <a:graphicData uri="http://schemas.openxmlformats.org/drawingml/2006/table">
            <a:tbl>
              <a:tblPr/>
              <a:tblGrid>
                <a:gridCol w="3978360"/>
                <a:gridCol w="3978000"/>
              </a:tblGrid>
              <a:tr h="65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87.539.21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24.907.46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orte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90.804.773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peración de prést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368.077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</a:tbl>
          </a:graphicData>
        </a:graphic>
      </p:graphicFrame>
      <p:sp>
        <p:nvSpPr>
          <p:cNvPr id="120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98AE-17DF-49CD-8954-4C33FE45C37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La realidad financiera del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4 Marcador de contenido" descr=""/>
          <p:cNvPicPr/>
          <p:nvPr/>
        </p:nvPicPr>
        <p:blipFill>
          <a:blip r:embed="rId1"/>
          <a:stretch/>
        </p:blipFill>
        <p:spPr>
          <a:xfrm>
            <a:off x="515880" y="1701720"/>
            <a:ext cx="8102520" cy="4368960"/>
          </a:xfrm>
          <a:prstGeom prst="rect">
            <a:avLst/>
          </a:prstGeom>
          <a:ln w="0">
            <a:noFill/>
          </a:ln>
        </p:spPr>
      </p:pic>
      <p:sp>
        <p:nvSpPr>
          <p:cNvPr id="123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BAD9-9645-4E83-BCB5-6EB664B3E03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Prestacion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Médic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Asistenciale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grupos A y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el sólo mérito de 7% de cotizac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control de embarazo y puerperio hasta 6º mes después de nacimiento de hijo, examen medicina preventiva, control niño sano hasta 6 a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7% de cotización más un copag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atención médica curativa, atención odontológica “según disponibilidad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Pecuniari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ubsidios, préstamos, bonificación tarifas prestaciones médi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04A8-A84F-4DF7-9CB0-C264785F86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500040"/>
            <a:ext cx="8001000" cy="10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38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de grup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ramos A y B tienen derecho a 100% de bonificación estatal, pero sólo a través de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centajes de 100% bonificación y copagos garantizados de 10% y 20% rigen sólo en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upos B, C y D pueden optar por modalidad libre elección, pagando lo que corresponda de acuerdo con el  nivel de atención elegido: bonos nivel 1, 2,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parto siempre tendrá una bonificación del 75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ABF-7838-4F26-9333-280887612A1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¿cómo se otorgan las prestacio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Institucion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N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Modalidad Libre Elecció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istema de bonos, emitidos por profesionales e instituciones previamente inscritas en niveles 1, 2 y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61928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¿Cómo se fijan las tarifas de los prestad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016000" indent="-7110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odalidad institucional y libre elecció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2D5F-6063-4439-8E14-3790E60FFC5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upervisión de los gast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. Fiscalizaciones a los prestad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. Aplicación de criterios técnicos, absolutos y relativ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i. Aplicación de límites financieros para determinadas prest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v. Tipos penales especiales (168-169 DFL 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.- Tipo común de fraude al fis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8C2F-39E1-4E09-B05A-C0B75AC3616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caso del inmigra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úblico / privado ===cotiz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rt. 132 DFL 1: «Los servicios de salud no podrán  negar atención a quienes lo requieran, ni condicionarla al pago previo de aranceles o tarifas fijados a este efecto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regular (no cotiza): «A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irregular. Menores de 18 años y mujeres embaraz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7C6E-7DA2-486C-9894-8CF605584D0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«Derecho» a la salu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2923920"/>
            <a:ext cx="79898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Junta de Beneficencia (1886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onstitución de 1925: Art 10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Ninguna clase de trabajo o industria puede ser prohibida, a menos que se oponga a las buenas costumbres, a la seguridad o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a la salubridad pública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, o que lo exija el interés nacional y una ley lo declare así. Es deber del Estado velar por la salud pública y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l bienestar higiénico del país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Deberá destinarse cada año una cantidad de dinero suficiente para mantener un servicio nacional de salubridad”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365120" indent="-4572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rimera institucionalidad de salud pública (S. Obrero de invalidez y enfermedad 1925, Ley de medicina preventiva 1938, SNS 1952, SSS, mutuales, 1674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4DA0-49E6-4513-883A-8632A6EE693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2997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La Constitución Política de 1980 garantiza (Art. 19 Nº9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público subjetivo a la protección de la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a escoger entre los regímenes público y priv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igualitario acceso a acciones de promoción, protección, recuperación y rehabilitación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5D4-3F0E-46E6-9A34-48A03734339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Normas positiv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469 de 198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44 de 1978, del Ministerio del Trabajo y Previsión Soc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933 de 1990, modificada por Ley 19.893 de 2003 y Ley 20.015 de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1 de 200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ija texto refundido, coordinado y sistematizado de DL 2763 y Leyes 18.933 y 18.4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B00B-87C6-427B-9E93-6B1048BF4BE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nisteri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ONA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stema Nacional de Servicios de Salud (SNSS): incluye centros de atención primaria, consultorios y postas municip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Fiscalizac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uperintendencia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perintendencia de Seguridad Social (calific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054D-6108-40A3-A15A-174CA79C36F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filiación (art. 147 DFL 1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incorporación al régimen es automática, al adquirir la persona las calidade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afiliad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beneficiario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afiliación es indefini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filiados pueden optar por afiliarse a régimen privado, debiendo suscribir un contrat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filiación a Isapre produce afiliación automática al régimen públ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E8C-49D6-4C89-89B5-D9C2642E9D3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afiliad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dependientes de sector público y priv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independientes que coticen en cualquier régimen de seguridad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tizantes volu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nsion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ubsidio cesantía DFL 1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eguro de desempleo Ley 19.7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0C44-E810-41B6-AB6E-CE7CCAE4F00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beneficiari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trabajadore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causantes de asignación familiar de trabajadores afiliados y pensionado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mujeres embarazadas, aun cuando no sean afiliadas, para el control del embaraz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sonas carentes de recursos y beneficiarios de pensiones solidar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usantes de S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personas que gocen del seguro de cesantía y sus causantes de asignación famil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CC35-4A3A-46B8-9928-AA75D3FD638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¿Cómo se financia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 la cotización obligatoria de 7%, de cargo del trabaja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as tarifas arancelarias que paguen los NO beneficiarios por prestaciones que recib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os copagos que realicen los afiliados por las prestaciones que reciban en modalidad libre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ribución del Estado (partida del presupues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A02F-778F-4C54-AFEE-546CB69A4FD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2:37:51Z</dcterms:created>
  <dc:creator>Invitado</dc:creator>
  <dc:description/>
  <dc:language>en-US</dc:language>
  <cp:lastModifiedBy>Derecho del Trabajo</cp:lastModifiedBy>
  <cp:lastPrinted>2012-06-22T02:02:29Z</cp:lastPrinted>
  <dcterms:modified xsi:type="dcterms:W3CDTF">2012-06-26T17:05:55Z</dcterms:modified>
  <cp:revision>28</cp:revision>
  <dc:subject/>
  <dc:title>Régimen de Salud MCG</dc:title>
</cp:coreProperties>
</file>