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3F8D-B6E6-486F-BA78-C97F5DF1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A8A-749A-4C21-B9C7-EFCEBED8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75D-642D-4D00-9204-4D513DD3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811-6300-462D-AB9F-AA716A65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047C-1712-486D-AE2A-0B146D70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4BC3-83C7-420D-99B8-C7D41C8A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8826-6891-4C83-99B4-6A98E5D9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70A4-4964-4AAB-B408-ECE62D04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A8BC-2F45-4DC5-8A2C-16212C5E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56E3-E024-40E7-9155-652CA6F4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1C0B-72F0-4022-88AC-1F4956D5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3A9-CF03-49EF-A4B7-60D5D9A3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8CC2-351F-4858-8DDE-B8DA1E91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43ED-F9AA-4716-97A8-7004BF3F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FE40-B45B-43A9-812A-D96FD2DF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3381-06FB-4E85-A267-947B6D43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460B-07B4-416B-A256-6A30A8B7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32D-0008-4E55-820D-60F80C1A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C94-45AC-49A0-A5CC-8B8E060B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1772-D68B-44AC-A29F-D493B103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C70-E487-466C-9C74-3938E290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F523-1238-4593-BB1A-E158675C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D9C2-74F7-4843-A9EF-55D80E50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715-23C2-49EB-B98B-3148B80B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5394-F65D-4C22-8A5D-33F3AAC8A9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4A76-EE5D-48DD-886C-6DA73A658D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91480" y="2185920"/>
            <a:ext cx="57020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TRATAMIENTO BIOLÓG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DE AGUAS RESID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66"/>
                </a:solidFill>
                <a:latin typeface="Comic Sans MS"/>
              </a:rPr>
              <a:t>                      </a:t>
            </a:r>
            <a:r>
              <a:rPr b="1" lang="es-ES_tradnl" sz="2400" spc="-1" strike="noStrike">
                <a:solidFill>
                  <a:srgbClr val="ccff66"/>
                </a:solidFill>
                <a:latin typeface="Comic Sans MS"/>
              </a:rPr>
              <a:t>María Pía Mena Pat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66"/>
                </a:solidFill>
                <a:latin typeface="Comic Sans MS"/>
              </a:rPr>
              <a:t>                       </a:t>
            </a:r>
            <a:r>
              <a:rPr b="1" lang="es-ES_tradnl" sz="2400" spc="-1" strike="noStrike">
                <a:solidFill>
                  <a:srgbClr val="ccff66"/>
                </a:solidFill>
                <a:latin typeface="Comic Sans MS"/>
              </a:rPr>
              <a:t>Depto. Ingeniería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3880" y="533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Fases en el Crecimiento Bacteriano</a:t>
            </a:r>
            <a:r>
              <a:rPr b="1" lang="es-ES_tradnl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400" y="2209680"/>
            <a:ext cx="8557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Fase aclima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Fase crecimiento logarítmico: existe siempre un exceso de a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para los microorganismos </a:t>
            </a:r>
            <a:r>
              <a:rPr b="0" lang="es-ES_tradnl" sz="2000" spc="-1" strike="noStrike">
                <a:solidFill>
                  <a:srgbClr val="ccff66"/>
                </a:solidFill>
                <a:latin typeface="Wingdings 3"/>
                <a:ea typeface="Wingdings 3"/>
              </a:rPr>
              <a:t>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 crecimiento es sólo función de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capacidad de éstos para procesar el sustr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Fase de crecimiento declinante: tasa de crecimiento disminu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debido a que la comida es limi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Fase endógena:  los microorganismos se ven forzados a metabol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su protoplasma debido a que la comida es mín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3049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Crecimiento Bacteriano y Consumo de Sustrato</a:t>
            </a:r>
            <a:r>
              <a:rPr b="1" lang="es-ES_tradnl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crecimiento1" descr=""/>
          <p:cNvPicPr/>
          <p:nvPr/>
        </p:nvPicPr>
        <p:blipFill>
          <a:blip r:embed="rId1"/>
          <a:stretch/>
        </p:blipFill>
        <p:spPr>
          <a:xfrm>
            <a:off x="457200" y="898560"/>
            <a:ext cx="830592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36200" y="515880"/>
            <a:ext cx="55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8288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De acuerdo a sus características, los procesos biológicos pueden ser del tipo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Natural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o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Convencional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Procesos Naturale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: corresponden a procesos extensivos con escasa o nula mecanización.  Requieren amplias superficies de terreno, pero mínimos costos de operación. P.e. Lagunas de Estabilización, Wetl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Procesos Convencionale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: son procesos intensivos con alto grado de mecanización.  Requiere superficies menores, pero costos de construcción y operación may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38160" y="515880"/>
            <a:ext cx="74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PROCESOS BIOLÓGICOS NATU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752480"/>
            <a:ext cx="82692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Symbol"/>
                <a:ea typeface="Symbol"/>
              </a:rPr>
              <a:t>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- anaerób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Lagunas de estabilización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Symbol"/>
                <a:ea typeface="Symbol"/>
              </a:rPr>
              <a:t>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- aerób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Symbol"/>
                <a:ea typeface="Symbol"/>
              </a:rPr>
              <a:t>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- facult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Wetlands (humed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Lagunas anaeróbicas: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operan como un sedimen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con fermentación.  Requiere condicion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de operación. Generalmente presenta problema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olores. Básicamente se produce remoción de la DB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particulada; los sólidos permanecen largo tiempo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el fondo </a:t>
            </a:r>
            <a:r>
              <a:rPr b="1" lang="es-MX" sz="2400" spc="-1" strike="noStrike">
                <a:solidFill>
                  <a:srgbClr val="ccff66"/>
                </a:solidFill>
                <a:latin typeface="Monotype Sorts"/>
                <a:ea typeface="Monotype Sorts"/>
              </a:rPr>
              <a:t>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se produce estabilización in si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85880" y="592200"/>
            <a:ext cx="74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PROCESOS BIOLÓGICOS NATU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905120"/>
            <a:ext cx="8427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Lagunas aerobia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: corresponden a grandes estan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de baja profundidad en los cuales se desarrolla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alta población de algas que mediante fotosínte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aporta oxígeno a la columna de agua; éste es tomado por las bacterias para oxidar la materia orgánica. Opera con oxígeno disuelto en todo su volu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Lagunas facultativa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: tienen mayor profundidad 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permite el desarrollo de un estrato aeróbico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superficie y un estrato anaeróbico en el fondo.  Este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el sistema que más se utilizó en Chile hasta los 90’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86360" y="378000"/>
            <a:ext cx="45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LAGUNAS FACULT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agfac" descr=""/>
          <p:cNvPicPr/>
          <p:nvPr/>
        </p:nvPicPr>
        <p:blipFill>
          <a:blip r:embed="rId1"/>
          <a:stretch/>
        </p:blipFill>
        <p:spPr>
          <a:xfrm>
            <a:off x="762120" y="105408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lagunas%20facultativas" descr=""/>
          <p:cNvPicPr/>
          <p:nvPr/>
        </p:nvPicPr>
        <p:blipFill>
          <a:blip r:embed="rId1"/>
          <a:stretch/>
        </p:blipFill>
        <p:spPr>
          <a:xfrm>
            <a:off x="990720" y="1724040"/>
            <a:ext cx="7238880" cy="4714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86360" y="378000"/>
            <a:ext cx="45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LAGUNAS FACULT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676520"/>
            <a:ext cx="8001000" cy="50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omic Sans MS"/>
              </a:rPr>
              <a:t>HUMEDALES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Á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reas que se encuentran permanentemente inundadas por aguas superficiales o subterránea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, de modo que se desarrolla 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un ecosistema compuesto por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el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 suelo, agua,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vegetación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, microorganismos e invertebrados acuá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entury Gothic"/>
              </a:rPr>
              <a:t>La vegetación proporciona superficies para la formación de películas bacterianas, facilita la filtración y la adsorción de los constituyentes del agua residual, permite la transferencia de oxígeno a la columna de agua y controla el crecimiento de algas al limitar la penetración de la luz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3480" y="430200"/>
            <a:ext cx="699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Comic Sans MS"/>
              </a:rPr>
              <a:t>PROCESOS BIOLÓGICOS NATUR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81080" y="762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Procesos Bi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286000"/>
            <a:ext cx="7162920" cy="30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Lagunas Aireadas:</a:t>
            </a: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  Procesos de flujo continuo sin recirculación de lodos.  No utiliza sedimentación primaria; puede o no utilizar sedimentación secunda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En general, pequeñas y medianas pobl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Lodos Activados:</a:t>
            </a: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  Proceso de flujo continuo con recirculación de lodos.  Puede o no utilizar sedimentación primaria; siempre utiliza sedimentación secunda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Poblaciones medianas y gran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43320" y="466560"/>
            <a:ext cx="42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940040"/>
            <a:ext cx="80010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Corresponden al proceso de transición entre los sistemas naturales y convencionales.  Operan con oxigenación mecánica, generalmente entregada por equipos de aireación super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Trabajan con bajas concentraciones de microorganismos y por lo tanto requieren de mayor tiempo de reten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El efluente generalmente se somete a clarificación en lagunas de sedi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9320" y="838080"/>
            <a:ext cx="62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Procesos Biológicos de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6920" y="1905120"/>
            <a:ext cx="8788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Oxidar la materia orgánica disu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oagular y remover los sólidos orgánicos coloi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lgunos compuestos son más difíciles de degradar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algunos casos no pueden ser oxidados biológ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mic Sans MS"/>
              </a:rPr>
              <a:t>Un proceso biológico es capaz de remover sólo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mic Sans MS"/>
              </a:rPr>
              <a:t>Fracción biodegradable de la materia orgánica pres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7400" y="8380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r>
              <a:rPr b="1" lang="es-ES_tradnl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828800"/>
            <a:ext cx="736920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Las lagunas aireadas constituyen un proceso de tratamiento biológico si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Se definen dos tipos de lagunas airea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Laguna Aireada Aerobia:</a:t>
            </a: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 corresponde al caso en que la turbulencia es suficientemente alta para impedir sedimentación de los sólidos y mantener una concentración de OD homogénea en el estan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Laguna Aireada Facultativa:</a:t>
            </a: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 la potencia entregada permite introducir el oxígeno necesario para el proceso, pero no asegura que todos los sólidos se mantengan en suspen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81080" y="762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lagoas" descr=""/>
          <p:cNvPicPr/>
          <p:nvPr/>
        </p:nvPicPr>
        <p:blipFill>
          <a:blip r:embed="rId1"/>
          <a:stretch/>
        </p:blipFill>
        <p:spPr>
          <a:xfrm>
            <a:off x="685800" y="1990800"/>
            <a:ext cx="7848720" cy="2361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42920" y="4495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Comic Sans MS"/>
              </a:rPr>
              <a:t>Laguna Aireada Aer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7720" y="4495680"/>
            <a:ext cx="34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Comic Sans MS"/>
              </a:rPr>
              <a:t>Laguna Aireada Facul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agunas%20aireadas" descr=""/>
          <p:cNvPicPr/>
          <p:nvPr/>
        </p:nvPicPr>
        <p:blipFill>
          <a:blip r:embed="rId1"/>
          <a:stretch/>
        </p:blipFill>
        <p:spPr>
          <a:xfrm>
            <a:off x="1066680" y="1932120"/>
            <a:ext cx="6705720" cy="4446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367000" y="609480"/>
            <a:ext cx="42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aireador%201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4190760" cy="2593800"/>
          </a:xfrm>
          <a:prstGeom prst="rect">
            <a:avLst/>
          </a:prstGeom>
          <a:ln w="0">
            <a:noFill/>
          </a:ln>
        </p:spPr>
      </p:pic>
      <p:pic>
        <p:nvPicPr>
          <p:cNvPr id="139" name="Laguna%20Aireada%20COPPO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5638680" cy="3667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14600" y="5943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LAGUNA AIRE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74240" y="4038480"/>
            <a:ext cx="34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LAGUNA SEDIMEN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685800"/>
            <a:ext cx="34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AIREADOR SUPER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81080" y="685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5600" y="2028960"/>
            <a:ext cx="7337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Característica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       LAA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       L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Control de Sólidos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Todos los sólidos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No existe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salen en el efluente.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Parte sediment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Requiere sedimentación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parte abando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Concentración SST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100 – 350 mg/l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50 – 150 mg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SSV/SST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0,7 – 0,8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0,6 – 0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TRH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3 –  5 días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5 – 12 d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Eficiencia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50 – 60%  LAA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70 – 8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hasta 90% con s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Profundidad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2,5 – 5 m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2,5 – 5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Densidad Potencia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&gt; 3 W/m</a:t>
            </a:r>
            <a:r>
              <a:rPr b="0" lang="es-ES" sz="1600" spc="-1" strike="noStrike" baseline="30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&gt; 0,75 W/m</a:t>
            </a:r>
            <a:r>
              <a:rPr b="0" lang="es-ES" sz="1600" spc="-1" strike="noStrike" baseline="30000">
                <a:solidFill>
                  <a:srgbClr val="ffffcc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81080" y="6094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057400" y="1890720"/>
                <a:ext cx="5867280" cy="456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X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XV</m:t>
                        </m:r>
                      </m:e>
                      <m:e/>
                      <m:e>
                        <m:r>
                          <m:t xml:space="preserve">∴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bθ</m:t>
                            </m:r>
                          </m:den>
                        </m:f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bθ</m:t>
                            </m:r>
                          </m:num>
                          <m:den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</m:e>
                      <m:e/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iempo de Retenció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Coef%20Lagunas%20Aireadas" descr=""/>
          <p:cNvPicPr/>
          <p:nvPr/>
        </p:nvPicPr>
        <p:blipFill>
          <a:blip r:embed="rId1"/>
          <a:stretch/>
        </p:blipFill>
        <p:spPr>
          <a:xfrm>
            <a:off x="990720" y="182520"/>
            <a:ext cx="75438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81080" y="28954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Comic Sans MS"/>
              </a:rPr>
              <a:t>PROCESOS BIOLÓGI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Comic Sans MS"/>
              </a:rPr>
              <a:t>CONVEN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TRATAMIENTO SECUNDARI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entury Gothic"/>
              </a:rPr>
              <a:t>OBJETIVO</a:t>
            </a:r>
            <a:r>
              <a:rPr b="1" lang="es-ES_tradnl" sz="2400" spc="-1" strike="noStrike">
                <a:solidFill>
                  <a:srgbClr val="ff66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Estabilizar la materia orgánica y coagular y remover los sólidos coloidales no sedimentables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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 PROCESOS BIOLÓGICOS 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llevados a cabo por microorganismos variados, especialmente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bacterias y protozo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Un proceso de tratamiento biológico es capaz de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remover sólo la fracción biodegradable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 de la materia orgánica presente.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Proceso requiere sostener la cultura biológica en un ambiente controlado que promueva el crecimiento de los microorganismos por consumo de la materia orgánica </a:t>
            </a:r>
            <a:r>
              <a:rPr b="1" lang="es-ES_tradnl" sz="24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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 condiciones adecuadas de pH, temperatura, presencia de nutrientes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y, en la mayoría de los casos, 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oxígeno disuelto </a:t>
            </a:r>
            <a:r>
              <a:rPr b="1" lang="es-ES_tradnl" sz="2400" spc="-1" strike="noStrike">
                <a:solidFill>
                  <a:srgbClr val="ccff66"/>
                </a:solidFill>
                <a:latin typeface="Monotype Sorts"/>
                <a:ea typeface="Monotype Sorts"/>
              </a:rPr>
              <a:t>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 AIREACIÓN</a:t>
            </a:r>
            <a:r>
              <a:rPr b="1" lang="es-ES_tradnl" sz="2800" spc="-1" strike="noStrike">
                <a:solidFill>
                  <a:srgbClr val="ffffcc"/>
                </a:solidFill>
                <a:latin typeface="Century Gothic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62120" y="4495680"/>
                <a:ext cx="799596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teri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aterial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gánica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 celula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aterial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Lodo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elular</m:t>
                        </m:r>
                        <m:r>
                          <m:rPr>
                            <m:lit/>
                            <m:nor/>
                          </m:rPr>
                          <m:t xml:space="preserve">                digerido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9320" y="762120"/>
            <a:ext cx="62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Procesos Biológicos de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9840" y="1981080"/>
            <a:ext cx="812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La remoción de DBO, la coagulación de los sól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oloidales y la estabilización de la materia orgánica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llevada a cabo una gran variedad de microorganism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especialmente bacte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28600" y="3862440"/>
                <a:ext cx="8915400" cy="18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rgánica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cteria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eróbicas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acteria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otros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bacteria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 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nergía</m:t>
                        </m:r>
                      </m:e>
                      <m:e/>
                      <m:e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orgánic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cteria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aeróbicas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acteria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otro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Durante el crecimiento de los microorganismos una porción del substrato es convertida a nuevas células y la otra parte es oxidada a productos orgánicos e inorgánicos.  Para un substrato determinado, las tasas de crecimiento y de utilización de substrato están relacionadas mediante: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Y = coeficiente de producción máxi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X = concentración de microorganismos, mg/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S = concentración de sustrato (DBO o DQO), mg/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200400" y="4114800"/>
                <a:ext cx="2133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y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“</a:t>
            </a:r>
            <a:r>
              <a:rPr b="1" lang="es-ES" sz="2400" spc="-1" strike="noStrike">
                <a:solidFill>
                  <a:srgbClr val="ffcc00"/>
                </a:solidFill>
                <a:latin typeface="Century Gothic"/>
              </a:rPr>
              <a:t>Y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” representa la masa de células formadas por masa de substrato consumido y se relaciona directamente con la producción de lodos del sistema; depende de varios factores entre los cuales destacan las características del substrato y condiciones operacionales.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El tejido celular formado en un proceso biológico tiene un peso específico mayor que el agua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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las células pueden ser removidas del líquido tratado mediante sedimentación gravitacional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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lodos secunda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Comic Sans MS"/>
              </a:rPr>
              <a:t>TRATAMIENTO BIOLÓGICO CONVENCIONAL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Para el tratamiento biológico convencional es posible utilizar distintas configuraciones de tratamien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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lodos activ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Cultivo Suspendido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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   - conven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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  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aireación extend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    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S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    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Zanjas de oxid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Cultivo Fijo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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-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filtros percolad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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biodis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3520" y="1752480"/>
            <a:ext cx="82296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Considera la línea de tratamiento completa: preliminar, primario, secundario (biológico) y procesos de tratamiento de lo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Los procesos biológicos convencionales incluyen un </a:t>
            </a:r>
            <a:r>
              <a:rPr b="1" lang="es-MX" sz="2200" spc="-1" strike="noStrike">
                <a:solidFill>
                  <a:srgbClr val="ffcc00"/>
                </a:solidFill>
                <a:latin typeface="Century Gothic"/>
              </a:rPr>
              <a:t>reactor donde se produce la transformación de la materia orgánica y posteriormente</a:t>
            </a: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, una </a:t>
            </a:r>
            <a:r>
              <a:rPr b="1" lang="es-MX" sz="2200" spc="-1" strike="noStrike">
                <a:solidFill>
                  <a:srgbClr val="ffcc00"/>
                </a:solidFill>
                <a:latin typeface="Century Gothic"/>
              </a:rPr>
              <a:t>unidad de separación sólido-líquido</a:t>
            </a: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 donde se produce la clarificación del eflu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Los sólidos separados en las distintas etapas del proceso deben ser tratados separadamente mediante procesos que pueden ser físicos, químicos y/o biológic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4080" y="609480"/>
            <a:ext cx="84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cc00"/>
                </a:solidFill>
                <a:latin typeface="Comic Sans MS"/>
              </a:rPr>
              <a:t>TRATAMIENTO BIOLÓGICO CONVENCIO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36200" y="515880"/>
            <a:ext cx="55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8288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Los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PROCESOS BIOLÓGICO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permiten remover la materia orgánica biodegradable presente en las aguas residuales y son llevados a cabo por varios microorganismos entre los que se encuentran bacterias, algas y protozo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Estos procesos ocurren en forma natural en la medida que se proporcione el ambiente requerido, siendo posible desde el punto de vista “ingenieril”, acelerar y optimizar los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05120" y="8380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Metabolismo Microbi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67652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Para reproducirse y funcionar, los microorganismos necesita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  </a:t>
            </a: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Una fuente de ener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  </a:t>
            </a: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Una fuente de carbono para la síntesis de material nue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  </a:t>
            </a: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Nutrientes inorgánicos tales como N, P, S, K, Ca y M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En algunos casos los nutrientes, más que la fuente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energía son el factor limitante para la síntes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En el tratamiento de aguas servidas los microorganis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ccff66"/>
                </a:solidFill>
                <a:latin typeface="Comic Sans MS"/>
              </a:rPr>
              <a:t>Quimioheterótrofos</a:t>
            </a: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 son los más importantes debido a sus requerimientos de carbono para síntesis y energ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05120" y="7621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Bacte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1981080"/>
            <a:ext cx="75916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omposición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Wingdings 3"/>
                <a:ea typeface="Wingdings 3"/>
              </a:rPr>
              <a:t>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80%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Química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20%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Sólidos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Wingdings 3"/>
                <a:ea typeface="Wingdings 3"/>
              </a:rPr>
              <a:t>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10% inorgá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90% orgá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En general se utilizan las composi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5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7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60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87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23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81080" y="762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Rutas Metabó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981080"/>
            <a:ext cx="782028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Las bacterias siempre siguen la ruta que les per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obtener el máximo de energía  </a:t>
            </a: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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ruta aerób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metabolismo respirato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Comic Sans MS"/>
              </a:rPr>
              <a:t>Procesos Aeróbicos: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Metabolismo completo y síntesis del sustrato produciendo gran cantidad de crecimiento bioló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Comic Sans MS"/>
              </a:rPr>
              <a:t>Procesos anaeróbicos: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Metabolismo incompleto, crecimiento biológico menor, producción de compuestos de alta energía (ácido acético y met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09680" y="380880"/>
            <a:ext cx="44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Conversión de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Aeróbico v/s Anaeróbico</a:t>
            </a:r>
            <a:r>
              <a:rPr b="1" lang="es-ES_tradnl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36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286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-3063" t="-2391" r="1468" b="-3264"/>
          <a:stretch/>
        </p:blipFill>
        <p:spPr>
          <a:xfrm>
            <a:off x="1066680" y="1828800"/>
            <a:ext cx="7467840" cy="4803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recimiento" descr=""/>
          <p:cNvPicPr/>
          <p:nvPr/>
        </p:nvPicPr>
        <p:blipFill>
          <a:blip r:embed="rId1"/>
          <a:stretch/>
        </p:blipFill>
        <p:spPr>
          <a:xfrm>
            <a:off x="609480" y="452520"/>
            <a:ext cx="82296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5:41:20Z</dcterms:created>
  <dc:creator>.</dc:creator>
  <dc:description/>
  <dc:language>en-US</dc:language>
  <cp:lastModifiedBy>Dii</cp:lastModifiedBy>
  <dcterms:modified xsi:type="dcterms:W3CDTF">2004-08-17T21:06:25Z</dcterms:modified>
  <cp:revision>47</cp:revision>
  <dc:subject/>
  <dc:title>TRATAMIENTO SECUNDARIO</dc:title>
</cp:coreProperties>
</file>