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422-3C5B-4016-B90A-D7736BFE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9DD-79E6-4D8D-8CEE-81DBB78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CC0-F2BE-4AE1-8A6C-074BD215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C6A-C6F1-43AC-B925-AED96CDA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5AE-4B9B-4620-A9EB-B21AA730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DAC-009F-4E30-8343-EA76A8E2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C63-F083-4DEC-A364-F071EE98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9F4-EF14-4F85-B304-41A8DA21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D4B-FF7F-48D9-AF11-3384AD32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509-387F-48F0-9C62-6594CC8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CE6-5CDE-4715-BB02-3AF54C9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D6F-1BA1-46CF-867C-3BFF1970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347A-47E5-4F1F-BBA4-086BF881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miento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057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4038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362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7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7120" y="49528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220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3840" y="48769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6920" y="990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57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45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804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20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00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62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60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0600" y="1219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060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440" y="16653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4290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2670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029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581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880" y="43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2720" y="433224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44197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76720"/>
            <a:ext cx="44197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8:52Z</dcterms:created>
  <dc:creator>Enrique Rubio</dc:creator>
  <dc:description/>
  <dc:language>en-US</dc:language>
  <cp:lastModifiedBy>Enrique Rubio</cp:lastModifiedBy>
  <dcterms:modified xsi:type="dcterms:W3CDTF">2006-11-09T17:57:48Z</dcterms:modified>
  <cp:revision>5</cp:revision>
  <dc:subject/>
  <dc:title>Slide 1</dc:title>
</cp:coreProperties>
</file>