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D8B-1C29-4447-A031-2E0F623B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5035-419E-419B-A997-D1B1F2DB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BAD-FA58-421E-90EC-C91FB2E7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F454-EBB1-4FE9-93D3-4E4FE596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CE8-2F01-44EE-ACB3-88C98F3B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ACDD-1500-4AAD-886C-8B652386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A99-D47B-4690-BA70-D36DFD6E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C8E-C14B-474F-ABE2-AA7D875B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3DC-FF2B-48C9-9836-B65669FA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C7F-8159-4F51-ABAC-6A95DFB0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8F7A-03B2-4804-BF3C-EF064D04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49B-10A3-4E6F-BD7C-400078E4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A16C-499C-4F30-97B2-3EDD7346C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versaciones de Evalu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poderosa herramienta para mejorar la productividad y motivación de los trabaj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onversaciones de Evalu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532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s conversaciones individuales se realizaron en un total de 26 dependencias de la SET, abar-cando a un total de 160 funcio-n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cada conversación, sin conse-cuencias administrativas, el eva-luador le explicó al evaluado los aspectos más positivos y negativos de su trabajo, y lo que se esperaba de él a futu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su vez, el evaluado expresó su opinión sobre la institución y su traba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948360" y="214200"/>
          <a:ext cx="2011320" cy="6643800"/>
        </p:xfrm>
        <a:graphic>
          <a:graphicData uri="http://schemas.openxmlformats.org/drawingml/2006/table">
            <a:tbl>
              <a:tblPr/>
              <a:tblGrid>
                <a:gridCol w="2011320"/>
              </a:tblGrid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z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aho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na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a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uverg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to May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to May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u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Rom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Vag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te Pl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y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erto Pl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ce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an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Cristob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 Pedro de Macor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cion de Inspe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pección Grupo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Los resultados, en verdad, excedieron todas las expectativas…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 fue la opinión de los evaluadores… en una escala de 5= Muy Bien a 1= Muy 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opinión de los evalu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716360" y="1628640"/>
          <a:ext cx="4176720" cy="1914840"/>
        </p:xfrm>
        <a:graphic>
          <a:graphicData uri="http://schemas.openxmlformats.org/drawingml/2006/table">
            <a:tbl>
              <a:tblPr/>
              <a:tblGrid>
                <a:gridCol w="3424320"/>
                <a:gridCol w="752400"/>
              </a:tblGrid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conversación de evalua-ción tuvo en lo general un resultad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reacción del evaluado frente a este procedimiento fu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708360" y="3716280"/>
          <a:ext cx="5184720" cy="2644920"/>
        </p:xfrm>
        <a:graphic>
          <a:graphicData uri="http://schemas.openxmlformats.org/drawingml/2006/table">
            <a:tbl>
              <a:tblPr/>
              <a:tblGrid>
                <a:gridCol w="4392720"/>
                <a:gridCol w="792000"/>
              </a:tblGrid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conversación de evaluación tuvo en lo general, en mi opinión, un re-sultad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ctitud y objetividad del evalua-dor durante este procedimiento fu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partir de esta conversación, tengo más claro lo que se espera de mi trabajo y mi desempeño: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En conclusión: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municación entre las personas, ha-blando objetivamente y sin ocultamiento, en un ambiente de confianza y buenas intenciones, es la mejor herramienta para mejorar los ambientes laborales y la productividad de las organiz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es una práctica que pudiera aplicarse periódicamente, en toda orga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18:49:40Z</dcterms:created>
  <dc:creator>mwaissbluth</dc:creator>
  <dc:description/>
  <dc:language>en-US</dc:language>
  <cp:lastModifiedBy>mwaissbluth</cp:lastModifiedBy>
  <dcterms:modified xsi:type="dcterms:W3CDTF">2003-09-15T19:06:18Z</dcterms:modified>
  <cp:revision>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63244632</vt:r8>
  </property>
  <property fmtid="{D5CDD505-2E9C-101B-9397-08002B2CF9AE}" pid="3" name="_AuthorEmail">
    <vt:lpwstr>mariow@dii.uchile.cl</vt:lpwstr>
  </property>
  <property fmtid="{D5CDD505-2E9C-101B-9397-08002B2CF9AE}" pid="4" name="_AuthorEmailDisplayName">
    <vt:lpwstr>Mario Waissbluth</vt:lpwstr>
  </property>
  <property fmtid="{D5CDD505-2E9C-101B-9397-08002B2CF9AE}" pid="5" name="_EmailSubject">
    <vt:lpwstr>Material de diplomado</vt:lpwstr>
  </property>
</Properties>
</file>