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5EF-68CD-4C55-8F87-E9A63A49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523-B547-46FF-B4D3-715FA853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6D6-F0EB-46BD-94F4-C8BDDDB1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AF0-CAD7-4AE0-827D-82A652A5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84C-201D-41D5-AD60-7A49DCDC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8D3-63AF-4C06-B72E-C4B88D76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60C-4955-48CC-A3C8-E69F1387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6E5-E559-47E6-A591-6DABDCCB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282-9F5D-41C1-AFE0-0DBBFB79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31B-E58B-4FB3-B755-BF7920F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BBA-EC27-4E8C-8073-4A9ABCA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144-532E-43D3-A102-296C52EC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EDC9-D3CB-4762-8A2F-1F27CA8C4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oderosa herramienta para mejorar la productividad y motivación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s conversaciones individuales se realizaron en un total de 26 dependencias de la SET, abar-cando a un total de 160 funcio-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ada conversación, sin conse-cuencias administrativas, el eva-luador le explicó al evaluado los aspectos más positivos y negativos de su trabajo, y lo que se esperaba de él a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su vez, el evaluado expresó su opinión sobre la institución y su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948360" y="214200"/>
          <a:ext cx="2011320" cy="6643800"/>
        </p:xfrm>
        <a:graphic>
          <a:graphicData uri="http://schemas.openxmlformats.org/drawingml/2006/table">
            <a:tbl>
              <a:tblPr/>
              <a:tblGrid>
                <a:gridCol w="2011320"/>
              </a:tblGrid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ah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verg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u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Ro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e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y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erto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c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a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Crist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Pedro de Maco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on de 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Los resultados, en verdad, excedieron todas las expectativas…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fue la opinión de los evaluadores… en una escala de 5= Muy Bien a 1= Muy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inión de los evalu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16360" y="1628640"/>
          <a:ext cx="4176720" cy="1914840"/>
        </p:xfrm>
        <a:graphic>
          <a:graphicData uri="http://schemas.openxmlformats.org/drawingml/2006/table">
            <a:tbl>
              <a:tblPr/>
              <a:tblGrid>
                <a:gridCol w="3424320"/>
                <a:gridCol w="7524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-ción tuvo en lo general un re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acción del evaluado frente a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8360" y="3716280"/>
          <a:ext cx="5184720" cy="2644920"/>
        </p:xfrm>
        <a:graphic>
          <a:graphicData uri="http://schemas.openxmlformats.org/drawingml/2006/table">
            <a:tbl>
              <a:tblPr/>
              <a:tblGrid>
                <a:gridCol w="4392720"/>
                <a:gridCol w="7920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ción tuvo en lo general, en mi opinión, un re-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ctitud y objetividad del evalua-dor durante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artir de esta conversación, tengo más claro lo que se espera de mi trabajo y mi desempeño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 conclusión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unicación entre las personas, ha-blando objetivamente y sin ocultamiento, en un ambiente de confianza y buenas intenciones, es la mejor herramienta para mejorar los ambientes laborales y la productividad de las organ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s una práctica que pudiera aplicarse periódicamente, en to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8:49:40Z</dcterms:created>
  <dc:creator>mwaissbluth</dc:creator>
  <dc:description/>
  <dc:language>en-US</dc:language>
  <cp:lastModifiedBy>mwaissbluth</cp:lastModifiedBy>
  <dcterms:modified xsi:type="dcterms:W3CDTF">2003-09-15T19:06:18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324463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Subject">
    <vt:lpwstr>Material de diplomado</vt:lpwstr>
  </property>
</Properties>
</file>