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5B8-9DEA-44A3-B445-9F4D4C44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7E9-38D3-437A-A78F-2DA32D16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B75-1E81-40ED-89E7-97888744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537-191B-4686-93F9-D5762350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DC7-2E50-4074-98F6-08815E7B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9B4-DDBD-4B7D-8599-40E412A1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344-EA04-4533-855F-5351449C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4EF-0F53-4C35-90B7-676E9633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014-52CA-4E1B-9AAF-3870429A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164-BB61-4046-9D2D-D46906B8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DC7-C255-42FE-8360-D92C1E25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DFE-D807-4077-BA02-76089CE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D006-77E5-448F-9396-03355613385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sumen de Materias Trata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HERRAMIENTAS DE 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ESIONES/MODU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Modulo Introductor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Objetivo: entender el contexto de la Gestión Publica desde la perspectiva de la Reforma del Estado. Conocer el ámbito de las herramientas de gest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forma d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forma sustantiva/Reforma Administra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reación de Valor Publico como eje diferenciador entre la administración y la gestión públ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nceptos de  Precio/Valor; Cliente/Usu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rabajo en Equ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Objetivo: Comprender  la importancia de las relaciones humanas y del trabajo en equipo en el desempeño de las organiz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Que es el trabajo en equipo y su importancia en la generación de valor en las organiz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spectivas de análisis: Hechos biológicos, hechos cultur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fil de Herman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tapas en la formación de un equ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lanificación Estratég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ocer el proceso de Planificación Estratégica y el valor asociado para las organizaciones public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ision, vision y val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nálisis F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écnica Delph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iorización de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Relación objetivos, metas  y estrate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alance Scorcard o Cuadro de Mando Integ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ocer el origen de esta herramienta y su aporte en la incorporación de nuevas perspectivas para hacer gestión estraté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spectivas de análisis propuestas mas allá de la financiero con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apas Estratég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tributos de las organizaciones basadas en la estrate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23:46:46Z</dcterms:created>
  <dc:creator>vivienv</dc:creator>
  <dc:description/>
  <dc:language>en-US</dc:language>
  <cp:lastModifiedBy>vivienv</cp:lastModifiedBy>
  <dcterms:modified xsi:type="dcterms:W3CDTF">2007-09-06T04:13:57Z</dcterms:modified>
  <cp:revision>3</cp:revision>
  <dc:subject/>
  <dc:title>Resumen de Materias Tratadas</dc:title>
</cp:coreProperties>
</file>