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DAAD4-8981-4A69-AC3D-0C2564CD0C2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"/>
          <p:cNvSpPr/>
          <p:nvPr/>
        </p:nvSpPr>
        <p:spPr>
          <a:xfrm>
            <a:off x="838080" y="4324320"/>
            <a:ext cx="51055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O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"/>
          <p:cNvSpPr/>
          <p:nvPr/>
        </p:nvSpPr>
        <p:spPr>
          <a:xfrm>
            <a:off x="838080" y="4324320"/>
            <a:ext cx="51055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O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"/>
          <p:cNvSpPr/>
          <p:nvPr/>
        </p:nvSpPr>
        <p:spPr>
          <a:xfrm>
            <a:off x="838080" y="4324320"/>
            <a:ext cx="51055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O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"/>
          <p:cNvSpPr/>
          <p:nvPr/>
        </p:nvSpPr>
        <p:spPr>
          <a:xfrm>
            <a:off x="838080" y="4324320"/>
            <a:ext cx="51055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O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CFB0-0B24-4884-925C-2852188BD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1173-2BB4-4A64-8A72-C4745EFCF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CF19-366A-4A1E-ACA6-A7A595C63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1D15-1F03-4A37-909D-8FB3180FE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227E-D5D4-4D87-ABFD-434E42D50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6EFC-F402-444C-A902-B853EDC00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E306-69C6-4E7F-8662-EBD29A7BF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21D6-561F-4F7F-A2D1-7D6D1B3A2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2864-35A4-4312-91A9-B32918AAA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F0F0-6A55-4111-B224-D9C2AF7A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49BD-E05C-479A-AE60-2DC2BFC5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4E2C-0555-47F4-82FA-8A937C40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1EAEA-EF16-4487-AC99-923BE7203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9.wmf"/><Relationship Id="rId4" Type="http://schemas.openxmlformats.org/officeDocument/2006/relationships/image" Target="../media/image6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44792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IAGRAMA DE ISHIKAW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340000" y="1773360"/>
            <a:ext cx="7047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da una de las causas principales (2-6) se escriben en un recuadro y se conectan con la flecha centr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1044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a Causa - Efec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610000" y="1279440"/>
            <a:ext cx="539424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ecuencia de realización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-252360" y="3141720"/>
            <a:ext cx="2957400" cy="33717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47760" y="2000160"/>
            <a:ext cx="1654200" cy="1121040"/>
          </a:xfrm>
          <a:custGeom>
            <a:avLst/>
            <a:gdLst>
              <a:gd name="textAreaLeft" fmla="*/ 377640 w 1654200"/>
              <a:gd name="textAreaRight" fmla="*/ 1276560 w 1654200"/>
              <a:gd name="textAreaTop" fmla="*/ 255960 h 1121040"/>
              <a:gd name="textAreaBottom" fmla="*/ 865080 h 1121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5300" spc="-1" strike="noStrike">
                <a:solidFill>
                  <a:srgbClr val="009999"/>
                </a:solidFill>
                <a:latin typeface="Times New Roman"/>
              </a:rPr>
              <a:t>4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627280" y="5013360"/>
            <a:ext cx="5133960" cy="639720"/>
          </a:xfrm>
          <a:prstGeom prst="rightArrow">
            <a:avLst>
              <a:gd name="adj1" fmla="val 62500"/>
              <a:gd name="adj2" fmla="val 1907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200" spc="-1" strike="noStrike">
                <a:solidFill>
                  <a:srgbClr val="993300"/>
                </a:solidFill>
                <a:latin typeface="Arial"/>
              </a:rPr>
              <a:t>CAUS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812000" y="5084640"/>
            <a:ext cx="1332000" cy="406080"/>
          </a:xfrm>
          <a:prstGeom prst="rect">
            <a:avLst/>
          </a:prstGeom>
          <a:solidFill>
            <a:srgbClr val="333399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F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819520" y="3657600"/>
            <a:ext cx="1739880" cy="771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Poco tiemp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410080" y="6076800"/>
            <a:ext cx="2971800" cy="771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Decisiones de la Direc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6076800"/>
            <a:ext cx="2585880" cy="771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Comunicación inefica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257800" y="3657600"/>
            <a:ext cx="1477800" cy="771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Oferta limit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5481720" y="5520960"/>
            <a:ext cx="347760" cy="639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176720" y="5520960"/>
            <a:ext cx="347760" cy="639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320000" y="4493880"/>
            <a:ext cx="439200" cy="627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767560" y="4493880"/>
            <a:ext cx="439200" cy="627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692360" y="1700280"/>
            <a:ext cx="80913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Añadir causas para cada 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área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principal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al final de líneas 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trazadas paralelas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a la flecha central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1044108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a Causa - Efec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4880" y="1120680"/>
            <a:ext cx="539424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ecuencia de realización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0" y="3200400"/>
            <a:ext cx="2610000" cy="33717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0" y="1989000"/>
            <a:ext cx="1654200" cy="1121040"/>
          </a:xfrm>
          <a:custGeom>
            <a:avLst/>
            <a:gdLst>
              <a:gd name="textAreaLeft" fmla="*/ 377640 w 1654200"/>
              <a:gd name="textAreaRight" fmla="*/ 1276560 w 1654200"/>
              <a:gd name="textAreaTop" fmla="*/ 255960 h 1121040"/>
              <a:gd name="textAreaBottom" fmla="*/ 865080 h 1121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5300" spc="-1" strike="noStrike">
                <a:solidFill>
                  <a:srgbClr val="009999"/>
                </a:solidFill>
                <a:latin typeface="Times New Roman"/>
              </a:rPr>
              <a:t>5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84360" y="6021360"/>
            <a:ext cx="5132520" cy="639720"/>
          </a:xfrm>
          <a:prstGeom prst="rightArrow">
            <a:avLst>
              <a:gd name="adj1" fmla="val 62500"/>
              <a:gd name="adj2" fmla="val 7168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200" spc="-1" strike="noStrike">
                <a:solidFill>
                  <a:srgbClr val="993300"/>
                </a:solidFill>
                <a:latin typeface="Arial"/>
              </a:rPr>
              <a:t>CAUS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96360" y="6137280"/>
            <a:ext cx="1547640" cy="406080"/>
          </a:xfrm>
          <a:prstGeom prst="rect">
            <a:avLst/>
          </a:prstGeom>
          <a:solidFill>
            <a:srgbClr val="333399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F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800600" y="3962520"/>
            <a:ext cx="1120680" cy="198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62520" y="4724280"/>
            <a:ext cx="10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741640" y="5761080"/>
            <a:ext cx="139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5481360" y="5200560"/>
            <a:ext cx="13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5307120" y="4800600"/>
            <a:ext cx="1304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62520" y="3581280"/>
            <a:ext cx="2361960" cy="436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Poco tiemp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00800" y="3962520"/>
            <a:ext cx="194328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organiz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14600" y="4419720"/>
            <a:ext cx="208908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Exceso de trabaj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11760" y="4479840"/>
            <a:ext cx="14796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Poco pers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221600" y="5440320"/>
            <a:ext cx="226224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hora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5133600" y="4479840"/>
            <a:ext cx="13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692360" y="1557360"/>
            <a:ext cx="791820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ñadir causas relacionadas para cada causa ya anotadas y así sucesivam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1044108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a Causa - Efec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784600" y="1039680"/>
            <a:ext cx="539424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ecuencia de realización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0" y="2852640"/>
            <a:ext cx="2436840" cy="33721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0" y="1773360"/>
            <a:ext cx="1654200" cy="1120680"/>
          </a:xfrm>
          <a:custGeom>
            <a:avLst/>
            <a:gdLst>
              <a:gd name="textAreaLeft" fmla="*/ 377640 w 1654200"/>
              <a:gd name="textAreaRight" fmla="*/ 1276560 w 1654200"/>
              <a:gd name="textAreaTop" fmla="*/ 255600 h 1120680"/>
              <a:gd name="textAreaBottom" fmla="*/ 865080 h 1120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5300" spc="-1" strike="noStrike">
                <a:solidFill>
                  <a:srgbClr val="009999"/>
                </a:solidFill>
                <a:latin typeface="Times New Roman"/>
              </a:rPr>
              <a:t>6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11280" y="6218280"/>
            <a:ext cx="5132520" cy="639720"/>
          </a:xfrm>
          <a:prstGeom prst="rightArrow">
            <a:avLst>
              <a:gd name="adj1" fmla="val 62500"/>
              <a:gd name="adj2" fmla="val 7168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200" spc="-1" strike="noStrike">
                <a:solidFill>
                  <a:srgbClr val="993300"/>
                </a:solidFill>
                <a:latin typeface="Arial"/>
              </a:rPr>
              <a:t>CAUS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95880" y="4648320"/>
            <a:ext cx="1044720" cy="176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43200" y="60199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2895120" y="5638680"/>
            <a:ext cx="13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2971440" y="5029200"/>
            <a:ext cx="13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429000" y="3581280"/>
            <a:ext cx="3657600" cy="436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Poco tiemp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62520" y="4267080"/>
            <a:ext cx="209556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Organiz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704000" y="6237360"/>
            <a:ext cx="1440000" cy="406080"/>
          </a:xfrm>
          <a:prstGeom prst="rect">
            <a:avLst/>
          </a:prstGeom>
          <a:solidFill>
            <a:srgbClr val="333399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F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472428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usencia de manu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343400" y="53341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Subuso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343400" y="5791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qu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692360" y="260280"/>
            <a:ext cx="684684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0000"/>
                </a:solidFill>
                <a:latin typeface="Arial"/>
              </a:rPr>
              <a:t>Diagrama de Ishikaw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6200000">
            <a:off x="6697440" y="1752480"/>
            <a:ext cx="387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iplomado en Calidad en el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289920" y="6381720"/>
            <a:ext cx="292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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erechos Reservados, 19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19240" y="71280"/>
          <a:ext cx="156996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240" y="71280"/>
                    <a:ext cx="156996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8680320" y="3848040"/>
            <a:ext cx="0" cy="2400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13000" y="6248520"/>
            <a:ext cx="5924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9440" y="6019920"/>
            <a:ext cx="30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Juan Antonio Vega Fernánd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58880" y="1511280"/>
            <a:ext cx="5607360" cy="882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52840" y="1603440"/>
            <a:ext cx="54878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00ff"/>
                </a:solidFill>
                <a:latin typeface="Times New Roman"/>
              </a:rPr>
              <a:t>Diagrama que muestra la relación sistemática entre un resultado fijo y sus caus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3352680"/>
            <a:ext cx="85341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a herramienta es útil en la identificación de las posibles causas de un problema, y representa las relaciones entre algunos efectos y sus caus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 un ambiente no-manufacturero, las categorías de causas potenciales incluyen políticas, personal, procedimientos y planta (las 4 P'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240" y="2590920"/>
            <a:ext cx="2731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¿Para qué sir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75560" y="727200"/>
            <a:ext cx="5916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3600" spc="-1" strike="noStrike">
                <a:solidFill>
                  <a:srgbClr val="000000"/>
                </a:solidFill>
                <a:latin typeface="Times New Roman"/>
              </a:rPr>
              <a:t>DIAGRAMA DE ISHIKAW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20880" y="1955880"/>
            <a:ext cx="3975120" cy="1638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309680" y="4635360"/>
            <a:ext cx="4467240" cy="1222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131840" y="4148280"/>
            <a:ext cx="3280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Análisis  de procesos por etap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5616720" y="1911240"/>
            <a:ext cx="2349360" cy="1451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067440" y="3462480"/>
            <a:ext cx="1974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iagrama para el proc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20880" y="1521000"/>
            <a:ext cx="2498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Análisis de varia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6200000">
            <a:off x="6697440" y="1752480"/>
            <a:ext cx="387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iplomado en Calidad en el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89920" y="6381720"/>
            <a:ext cx="292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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erechos Reservados, 19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19240" y="71280"/>
          <a:ext cx="1569960" cy="1981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240" y="71280"/>
                    <a:ext cx="156996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8680320" y="3848040"/>
            <a:ext cx="0" cy="2400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13000" y="6248520"/>
            <a:ext cx="5924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9440" y="6019920"/>
            <a:ext cx="30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Juan Antonio Vega Fernánd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188080" y="898560"/>
            <a:ext cx="5916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3600" spc="-1" strike="noStrike">
                <a:solidFill>
                  <a:srgbClr val="000000"/>
                </a:solidFill>
                <a:latin typeface="Times New Roman"/>
              </a:rPr>
              <a:t>DIAGRAMA DE ISHIKAW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87480" y="2158920"/>
            <a:ext cx="8394480" cy="32893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 rot="16200000">
            <a:off x="6697440" y="1752480"/>
            <a:ext cx="387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iplomado en Calidad en el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289920" y="6381720"/>
            <a:ext cx="292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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erechos Reservados, 19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19240" y="71280"/>
          <a:ext cx="156996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9240" y="71280"/>
                    <a:ext cx="156996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8680320" y="3848040"/>
            <a:ext cx="0" cy="2400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13000" y="6248520"/>
            <a:ext cx="5924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9440" y="6019920"/>
            <a:ext cx="30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Juan Antonio Vega Fernánd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63400" y="2298600"/>
            <a:ext cx="785196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laborarlo es una labor educativa en sí misma, favorece el intercambio de técnicas y experie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yuda a determinar el tipo de datos a obtener con el fin de confirmar si los factores seleccionados fueron realmente las causas del probl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ara prevenir problemas, cuando se detectan causas potenciales de un problema, éstas pueden prevenirse si se adoptan controles apropi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Muestra la habilidad profesional que posee el personal encargado del proceso; entre más alto sea el nivel, mejor será el diagrama resulta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29400" y="887400"/>
            <a:ext cx="5916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3600" spc="-1" strike="noStrike">
                <a:solidFill>
                  <a:srgbClr val="000000"/>
                </a:solidFill>
                <a:latin typeface="Times New Roman"/>
              </a:rPr>
              <a:t>DIAGRAMA DE ISHIKAW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16200000">
            <a:off x="6697440" y="1752480"/>
            <a:ext cx="387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iplomado en Calidad en el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289920" y="6381720"/>
            <a:ext cx="292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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erechos Reservados, 19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19240" y="71280"/>
          <a:ext cx="156996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240" y="71280"/>
                    <a:ext cx="156996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8680320" y="3848040"/>
            <a:ext cx="0" cy="2400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13000" y="6248520"/>
            <a:ext cx="5924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9440" y="6019920"/>
            <a:ext cx="30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Juan Antonio Vega Fernánd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250920" y="1844640"/>
            <a:ext cx="2422080" cy="1199880"/>
            <a:chOff x="250920" y="1844640"/>
            <a:chExt cx="2422080" cy="1199880"/>
          </a:xfrm>
        </p:grpSpPr>
        <p:sp>
          <p:nvSpPr>
            <p:cNvPr id="95" name=""/>
            <p:cNvSpPr/>
            <p:nvPr/>
          </p:nvSpPr>
          <p:spPr>
            <a:xfrm>
              <a:off x="250920" y="1844640"/>
              <a:ext cx="2422080" cy="1199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641160" y="1944720"/>
              <a:ext cx="1718640" cy="899280"/>
              <a:chOff x="641160" y="1944720"/>
              <a:chExt cx="1718640" cy="899280"/>
            </a:xfrm>
          </p:grpSpPr>
          <p:sp>
            <p:nvSpPr>
              <p:cNvPr id="97" name=""/>
              <p:cNvSpPr/>
              <p:nvPr/>
            </p:nvSpPr>
            <p:spPr>
              <a:xfrm>
                <a:off x="797400" y="2444400"/>
                <a:ext cx="1562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97400" y="1944720"/>
                <a:ext cx="546480" cy="49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344240" y="1944720"/>
                <a:ext cx="468720" cy="49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V="1">
                <a:off x="641160" y="2444040"/>
                <a:ext cx="390600" cy="39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V="1">
                <a:off x="1188000" y="2444040"/>
                <a:ext cx="312480" cy="39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V="1">
                <a:off x="1735200" y="2444040"/>
                <a:ext cx="312120" cy="39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79280" y="3127320"/>
            <a:ext cx="1670040" cy="37306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549360"/>
            <a:ext cx="914400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o desarrolla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a Causa - Efec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32000" y="1736640"/>
            <a:ext cx="61740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901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Concept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diagrama Causa efecto es una forma de organizar y representar las diferentes causas de un probl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Diagrama Causa - Efecto se conoce también com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15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agrama de Ishika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3240" indent="-315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agrama de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pina de pes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164360" y="2708280"/>
            <a:ext cx="1739880" cy="10018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556000" y="1125360"/>
            <a:ext cx="6092640" cy="47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Definir claramente  el efecto o síntoma cuyas causas han de ser 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identificadas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Definiciones a tener en cuent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75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cc6600"/>
                </a:solidFill>
                <a:latin typeface="Arial"/>
              </a:rPr>
              <a:t>Síntoma:</a:t>
            </a: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 señal aparente de una anormalidad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75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cc6600"/>
                </a:solidFill>
                <a:latin typeface="Arial"/>
              </a:rPr>
              <a:t>Teoría:</a:t>
            </a: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 Es una explicación no pro</a:t>
            </a: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ada de una anormalidad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75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cc6600"/>
                </a:solidFill>
                <a:latin typeface="Arial"/>
              </a:rPr>
              <a:t>Causa:</a:t>
            </a: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 es una razón probada de la existencia de los síntoma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-243000"/>
            <a:ext cx="874872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a Causa - Efec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411280" y="620640"/>
            <a:ext cx="53946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ecuencia de realización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0" y="3200400"/>
            <a:ext cx="2957400" cy="33717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47760" y="2000160"/>
            <a:ext cx="1654200" cy="1121040"/>
          </a:xfrm>
          <a:custGeom>
            <a:avLst/>
            <a:gdLst>
              <a:gd name="textAreaLeft" fmla="*/ 377640 w 1654200"/>
              <a:gd name="textAreaRight" fmla="*/ 1276560 w 1654200"/>
              <a:gd name="textAreaTop" fmla="*/ 255960 h 1121040"/>
              <a:gd name="textAreaBottom" fmla="*/ 865080 h 1121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4400" spc="-1" strike="noStrike">
                <a:solidFill>
                  <a:srgbClr val="009999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044880" y="2133720"/>
            <a:ext cx="6099120" cy="24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Colocar en un recuadro a la derecha el </a:t>
            </a:r>
            <a:r>
              <a:rPr b="0" lang="es-ES" sz="3600" spc="-1" strike="noStrike">
                <a:solidFill>
                  <a:srgbClr val="ffcc00"/>
                </a:solidFill>
                <a:latin typeface="Arial"/>
              </a:rPr>
              <a:t>EFECTO o s</a:t>
            </a:r>
            <a:r>
              <a:rPr b="0" lang="es-ES_tradnl" sz="3600" spc="-1" strike="noStrike">
                <a:solidFill>
                  <a:srgbClr val="ffcc00"/>
                </a:solidFill>
                <a:latin typeface="Arial"/>
              </a:rPr>
              <a:t>í</a:t>
            </a:r>
            <a:r>
              <a:rPr b="0" lang="es-ES" sz="3600" spc="-1" strike="noStrike">
                <a:solidFill>
                  <a:srgbClr val="ffcc00"/>
                </a:solidFill>
                <a:latin typeface="Arial"/>
              </a:rPr>
              <a:t>ntoma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y dibujar una flecha central apuntándole </a:t>
            </a:r>
            <a:r>
              <a:rPr b="0" lang="es-ES" sz="3600" spc="-1" strike="noStrike">
                <a:solidFill>
                  <a:srgbClr val="993300"/>
                </a:solidFill>
                <a:latin typeface="Arial"/>
              </a:rPr>
              <a:t>(CAUSAS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-9360"/>
            <a:ext cx="914868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a Causa - Efec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132000" y="1274760"/>
            <a:ext cx="4726080" cy="3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ecuencia de realización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0" y="3162240"/>
            <a:ext cx="2990880" cy="3409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47760" y="1987560"/>
            <a:ext cx="1449360" cy="1133640"/>
          </a:xfrm>
          <a:custGeom>
            <a:avLst/>
            <a:gdLst>
              <a:gd name="textAreaLeft" fmla="*/ 330840 w 1449360"/>
              <a:gd name="textAreaRight" fmla="*/ 1118520 w 1449360"/>
              <a:gd name="textAreaTop" fmla="*/ 258840 h 1133640"/>
              <a:gd name="textAreaBottom" fmla="*/ 874800 h 113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3333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5300" spc="-1" strike="noStrike">
                <a:solidFill>
                  <a:srgbClr val="009999"/>
                </a:solidFill>
                <a:latin typeface="Times New Roman"/>
              </a:rPr>
              <a:t>2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059280" y="4869000"/>
            <a:ext cx="5836320" cy="1218600"/>
            <a:chOff x="3059280" y="4869000"/>
            <a:chExt cx="5836320" cy="1218600"/>
          </a:xfrm>
        </p:grpSpPr>
        <p:sp>
          <p:nvSpPr>
            <p:cNvPr id="118" name=""/>
            <p:cNvSpPr/>
            <p:nvPr/>
          </p:nvSpPr>
          <p:spPr>
            <a:xfrm>
              <a:off x="3059280" y="4869000"/>
              <a:ext cx="4094280" cy="1218600"/>
            </a:xfrm>
            <a:prstGeom prst="rightArrow">
              <a:avLst>
                <a:gd name="adj1" fmla="val 50000"/>
                <a:gd name="adj2" fmla="val 8399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ctr">
              <a:no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s-ES_tradnl" sz="2600" spc="-1" strike="noStrike">
                  <a:solidFill>
                    <a:srgbClr val="993300"/>
                  </a:solidFill>
                  <a:latin typeface="Arial"/>
                </a:rPr>
                <a:t>CAUSA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27800" y="5021280"/>
              <a:ext cx="1567800" cy="49716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s-ES_tradnl" sz="2600" spc="-1" strike="noStrike">
                  <a:solidFill>
                    <a:srgbClr val="000000"/>
                  </a:solidFill>
                  <a:latin typeface="Arial"/>
                </a:rPr>
                <a:t>EFECTO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191120" y="4038480"/>
            <a:ext cx="2819160" cy="1078200"/>
          </a:xfrm>
          <a:prstGeom prst="wedgeEllipseCallout">
            <a:avLst>
              <a:gd name="adj1" fmla="val -47523"/>
              <a:gd name="adj2" fmla="val 492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oca capaci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82680" y="1557360"/>
            <a:ext cx="6961320" cy="20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Utilizar el brainstorming o un enfoque racional paso a paso para identificar las posibles causa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104410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a Causa - Efec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697120" y="1200240"/>
            <a:ext cx="539424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ecuencia de realización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0" y="3200400"/>
            <a:ext cx="2957400" cy="33717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34880" y="2000160"/>
            <a:ext cx="1652760" cy="1121040"/>
          </a:xfrm>
          <a:custGeom>
            <a:avLst/>
            <a:gdLst>
              <a:gd name="textAreaLeft" fmla="*/ 377280 w 1652760"/>
              <a:gd name="textAreaRight" fmla="*/ 1275480 w 1652760"/>
              <a:gd name="textAreaTop" fmla="*/ 255960 h 1121040"/>
              <a:gd name="textAreaBottom" fmla="*/ 865080 h 1121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ES_tradnl" sz="5300" spc="-1" strike="noStrike">
                <a:solidFill>
                  <a:srgbClr val="009999"/>
                </a:solidFill>
                <a:latin typeface="Times New Roman"/>
              </a:rPr>
              <a:t>3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3348000" y="4218120"/>
            <a:ext cx="870120" cy="26398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6804000" y="4005360"/>
            <a:ext cx="2562120" cy="22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7T20:35:38Z</dcterms:created>
  <dc:creator>.</dc:creator>
  <dc:description/>
  <dc:language>en-US</dc:language>
  <cp:lastModifiedBy>.</cp:lastModifiedBy>
  <dcterms:modified xsi:type="dcterms:W3CDTF">2007-10-17T20:35:49Z</dcterms:modified>
  <cp:revision>1</cp:revision>
  <dc:subject/>
  <dc:title>Diapositiva 1</dc:title>
</cp:coreProperties>
</file>