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F316-D4AA-4BE7-B581-E58380433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ACC8-76AE-454A-9945-832694B56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D1F5-5B38-4B35-AC4E-79E095ABF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37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299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7788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37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299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04F0-594B-45CE-A00A-116F72901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2F8-956B-4CD6-9442-2EC96E9759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672-5662-4E5F-B64B-7AA831BD50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08A-E4B8-42B1-B131-A2AD6A7E02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74E-B399-4AF6-9537-E89CA21E43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42E-B457-4A68-A419-86B3AD7853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7520" y="622440"/>
            <a:ext cx="77929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58F-3FA4-45D1-A151-373664DA8A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FD1-B9F7-4AE4-8724-2DC539E4B6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CFB2-C119-4878-9025-788FBB456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6E1-44DB-4828-B772-1210A4C24C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755-591E-47C2-968D-6DE955A246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335-DF00-45A7-AAE6-F0592EA053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430-23F4-4DF0-A700-E2F9B92567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37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29920" y="146016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7788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37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29920" y="1688400"/>
            <a:ext cx="2500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7FE-4EA0-42AD-BA84-59D29C8A33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E325-9820-4002-8F8A-45694122D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AC4E-F00F-4203-80B3-EFE29D11C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737C-F8FB-4D1D-B841-5F5C11BC6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7520" y="622440"/>
            <a:ext cx="77929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70EF-D018-4879-BD10-AF01E86FB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2A97-DE91-4365-8016-EDF6772D0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7320" y="168840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8C8F-955E-4CC4-82F5-AD6907CFC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7320" y="1460160"/>
            <a:ext cx="378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7880" y="1688400"/>
            <a:ext cx="7765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5BBA-60FB-4B40-97DD-5E7FF1C15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64120" y="6716520"/>
            <a:ext cx="24300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2492-FA41-4709-AA1E-4E795CC56AB9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249880" y="6705720"/>
            <a:ext cx="3198960" cy="1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Line 4"/>
          <p:cNvSpPr/>
          <p:nvPr/>
        </p:nvSpPr>
        <p:spPr>
          <a:xfrm>
            <a:off x="8578800" y="-6480"/>
            <a:ext cx="0" cy="707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556480" y="6734160"/>
            <a:ext cx="0" cy="123840"/>
          </a:xfrm>
          <a:prstGeom prst="line">
            <a:avLst/>
          </a:prstGeom>
          <a:ln w="9360">
            <a:solidFill>
              <a:srgbClr val="ff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8712360" cy="438120"/>
          </a:xfrm>
          <a:prstGeom prst="rect">
            <a:avLst/>
          </a:prstGeom>
          <a:gradFill rotWithShape="0">
            <a:gsLst>
              <a:gs pos="0">
                <a:srgbClr val="c0bcaf"/>
              </a:gs>
              <a:gs pos="100000">
                <a:srgbClr val="c0bca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8734320" y="0"/>
            <a:ext cx="411120" cy="436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marL="82080" indent="-820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1" marL="93960" indent="-93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200160" indent="-10584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3" marL="297360" indent="-9648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4" marL="629640" indent="108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5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6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366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/>
          <p:cNvPicPr/>
          <p:nvPr/>
        </p:nvPicPr>
        <p:blipFill>
          <a:blip r:embed="rId4"/>
          <a:stretch/>
        </p:blipFill>
        <p:spPr>
          <a:xfrm>
            <a:off x="7756560" y="-12600"/>
            <a:ext cx="941400" cy="45072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2"/>
          <p:cNvSpPr/>
          <p:nvPr/>
        </p:nvSpPr>
        <p:spPr>
          <a:xfrm>
            <a:off x="7669080" y="0"/>
            <a:ext cx="10188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5"/>
          <p:cNvSpPr/>
          <p:nvPr/>
        </p:nvSpPr>
        <p:spPr>
          <a:xfrm>
            <a:off x="8556480" y="6734160"/>
            <a:ext cx="0" cy="123840"/>
          </a:xfrm>
          <a:prstGeom prst="line">
            <a:avLst/>
          </a:prstGeom>
          <a:ln w="9360">
            <a:solidFill>
              <a:srgbClr val="172f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8712360" cy="438120"/>
          </a:xfrm>
          <a:prstGeom prst="rect">
            <a:avLst/>
          </a:prstGeom>
          <a:gradFill rotWithShape="0">
            <a:gsLst>
              <a:gs pos="0">
                <a:srgbClr val="c0bcaf"/>
              </a:gs>
              <a:gs pos="100000">
                <a:srgbClr val="c0bca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8734320" y="0"/>
            <a:ext cx="411120" cy="4366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"/>
          <p:cNvGrpSpPr/>
          <p:nvPr/>
        </p:nvGrpSpPr>
        <p:grpSpPr>
          <a:xfrm>
            <a:off x="957240" y="1820880"/>
            <a:ext cx="7126200" cy="1292040"/>
            <a:chOff x="957240" y="1820880"/>
            <a:chExt cx="7126200" cy="1292040"/>
          </a:xfrm>
        </p:grpSpPr>
        <p:sp>
          <p:nvSpPr>
            <p:cNvPr id="51" name="Rectangle 10"/>
            <p:cNvSpPr/>
            <p:nvPr/>
          </p:nvSpPr>
          <p:spPr>
            <a:xfrm>
              <a:off x="2270160" y="1820880"/>
              <a:ext cx="5813280" cy="1289160"/>
            </a:xfrm>
            <a:prstGeom prst="rect">
              <a:avLst/>
            </a:prstGeom>
            <a:solidFill>
              <a:srgbClr val="d6c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2" name="Picture 11" descr=""/>
            <p:cNvPicPr/>
            <p:nvPr/>
          </p:nvPicPr>
          <p:blipFill>
            <a:blip r:embed="rId3"/>
            <a:stretch/>
          </p:blipFill>
          <p:spPr>
            <a:xfrm>
              <a:off x="957240" y="1820880"/>
              <a:ext cx="1317600" cy="129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13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3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5"/>
          <a:stretch/>
        </p:blipFill>
        <p:spPr>
          <a:xfrm>
            <a:off x="7756560" y="-12600"/>
            <a:ext cx="941400" cy="450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7"/>
          <p:cNvSpPr/>
          <p:nvPr/>
        </p:nvSpPr>
        <p:spPr>
          <a:xfrm>
            <a:off x="7669080" y="0"/>
            <a:ext cx="10188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77880" y="1460160"/>
            <a:ext cx="7765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marL="82080" indent="-820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1" marL="93960" indent="-93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200160" indent="-10584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3" marL="297360" indent="-9648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4" marL="629640" indent="108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5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6" marL="629640" indent="1080">
              <a:buClr>
                <a:srgbClr val="7f7f7f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7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3"/>
          </p:nvPr>
        </p:nvSpPr>
        <p:spPr>
          <a:xfrm>
            <a:off x="8664120" y="6705360"/>
            <a:ext cx="14292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D277-12E0-4417-B6A1-D63D87C269A7}" type="slidenum">
              <a:rPr b="1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11240"/>
            <a:ext cx="7792920" cy="34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Proceso AGUA SANTA SA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9080" y="596880"/>
            <a:ext cx="9124920" cy="566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669760" y="687240"/>
            <a:ext cx="107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extern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990880" y="1195560"/>
            <a:ext cx="166032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n Programación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045040" y="689040"/>
            <a:ext cx="114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4400" y="689040"/>
            <a:ext cx="139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Agua santa sA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127080" y="1917720"/>
            <a:ext cx="1057320" cy="24372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Envían proframación de ruta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2" name="AutoShape 16"/>
          <p:cNvCxnSpPr>
            <a:stCxn id="101" idx="3"/>
            <a:endCxn id="98" idx="1"/>
          </p:cNvCxnSpPr>
          <p:nvPr/>
        </p:nvCxnSpPr>
        <p:spPr>
          <a:xfrm flipV="1">
            <a:off x="1184400" y="1256400"/>
            <a:ext cx="1806840" cy="783360"/>
          </a:xfrm>
          <a:prstGeom prst="bentConnector3">
            <a:avLst>
              <a:gd name="adj1" fmla="val 5000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3" name="Text Box 17"/>
          <p:cNvSpPr/>
          <p:nvPr/>
        </p:nvSpPr>
        <p:spPr>
          <a:xfrm>
            <a:off x="3073320" y="1442880"/>
            <a:ext cx="147816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alizan Medicione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4" name="AutoShape 18"/>
          <p:cNvCxnSpPr>
            <a:stCxn id="98" idx="2"/>
            <a:endCxn id="103" idx="0"/>
          </p:cNvCxnSpPr>
          <p:nvPr/>
        </p:nvCxnSpPr>
        <p:spPr>
          <a:xfrm rot="5400000">
            <a:off x="3754080" y="1375920"/>
            <a:ext cx="125640" cy="9000"/>
          </a:xfrm>
          <a:prstGeom prst="bentConnector3">
            <a:avLst>
              <a:gd name="adj1" fmla="val 49712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05" name="AutoShape 19"/>
          <p:cNvCxnSpPr>
            <a:stCxn id="106" idx="2"/>
            <a:endCxn id="107" idx="0"/>
          </p:cNvCxnSpPr>
          <p:nvPr/>
        </p:nvCxnSpPr>
        <p:spPr>
          <a:xfrm rot="16200000">
            <a:off x="643680" y="3051720"/>
            <a:ext cx="703800" cy="36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8" name="Text Box 23"/>
          <p:cNvSpPr/>
          <p:nvPr/>
        </p:nvSpPr>
        <p:spPr>
          <a:xfrm>
            <a:off x="6512040" y="685800"/>
            <a:ext cx="117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Corre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2562120" y="603360"/>
            <a:ext cx="0" cy="5873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28"/>
          <p:cNvSpPr/>
          <p:nvPr/>
        </p:nvSpPr>
        <p:spPr>
          <a:xfrm>
            <a:off x="4746600" y="615960"/>
            <a:ext cx="0" cy="586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29"/>
          <p:cNvSpPr/>
          <p:nvPr/>
        </p:nvSpPr>
        <p:spPr>
          <a:xfrm>
            <a:off x="7872480" y="606600"/>
            <a:ext cx="0" cy="58705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115920" y="1219320"/>
            <a:ext cx="1074600" cy="396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ahoma"/>
              </a:rPr>
              <a:t>Programación de rutas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881840" y="644400"/>
            <a:ext cx="117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Banc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48"/>
          <p:cNvSpPr/>
          <p:nvPr/>
        </p:nvSpPr>
        <p:spPr>
          <a:xfrm>
            <a:off x="412920" y="2577960"/>
            <a:ext cx="116496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 planillas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52"/>
          <p:cNvSpPr/>
          <p:nvPr/>
        </p:nvSpPr>
        <p:spPr>
          <a:xfrm>
            <a:off x="6354720" y="604800"/>
            <a:ext cx="0" cy="58723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5" name="AutoShape 61"/>
          <p:cNvCxnSpPr>
            <a:stCxn id="116" idx="2"/>
            <a:endCxn id="106" idx="3"/>
          </p:cNvCxnSpPr>
          <p:nvPr/>
        </p:nvCxnSpPr>
        <p:spPr>
          <a:xfrm rot="5400000">
            <a:off x="2371320" y="1172880"/>
            <a:ext cx="672840" cy="22600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17" name="AutoShape 62"/>
          <p:cNvSpPr/>
          <p:nvPr/>
        </p:nvSpPr>
        <p:spPr>
          <a:xfrm>
            <a:off x="557280" y="3794040"/>
            <a:ext cx="885600" cy="747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64"/>
          <p:cNvSpPr/>
          <p:nvPr/>
        </p:nvSpPr>
        <p:spPr>
          <a:xfrm>
            <a:off x="249120" y="432576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N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65"/>
          <p:cNvSpPr/>
          <p:nvPr/>
        </p:nvSpPr>
        <p:spPr>
          <a:xfrm>
            <a:off x="692280" y="4013280"/>
            <a:ext cx="59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VALIDA LA INFORMACION?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66"/>
          <p:cNvSpPr/>
          <p:nvPr/>
        </p:nvSpPr>
        <p:spPr>
          <a:xfrm>
            <a:off x="1139760" y="448776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S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68"/>
          <p:cNvSpPr/>
          <p:nvPr/>
        </p:nvSpPr>
        <p:spPr>
          <a:xfrm>
            <a:off x="4908600" y="1440000"/>
            <a:ext cx="145872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Medidor cliente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2" name="AutoShape 70"/>
          <p:cNvCxnSpPr>
            <a:stCxn id="121" idx="1"/>
            <a:endCxn id="103" idx="3"/>
          </p:cNvCxnSpPr>
          <p:nvPr/>
        </p:nvCxnSpPr>
        <p:spPr>
          <a:xfrm flipV="1" rot="10800000">
            <a:off x="4551480" y="1500840"/>
            <a:ext cx="357480" cy="3240"/>
          </a:xfrm>
          <a:prstGeom prst="bentConnector3">
            <a:avLst>
              <a:gd name="adj1" fmla="val 49899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23" name="AutoShape 71"/>
          <p:cNvCxnSpPr>
            <a:stCxn id="117" idx="1"/>
            <a:endCxn id="124" idx="2"/>
          </p:cNvCxnSpPr>
          <p:nvPr/>
        </p:nvCxnSpPr>
        <p:spPr>
          <a:xfrm flipV="1" rot="10800000">
            <a:off x="406080" y="4167720"/>
            <a:ext cx="151200" cy="1548000"/>
          </a:xfrm>
          <a:prstGeom prst="bentConnector3">
            <a:avLst>
              <a:gd name="adj1" fmla="val 25346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25" name="Text Box 72"/>
          <p:cNvSpPr/>
          <p:nvPr/>
        </p:nvSpPr>
        <p:spPr>
          <a:xfrm>
            <a:off x="1339920" y="5302080"/>
            <a:ext cx="963720" cy="3654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Calcula SALDO e IMPRIME FACTURA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6" name="AutoShape 73"/>
          <p:cNvCxnSpPr>
            <a:stCxn id="117" idx="2"/>
            <a:endCxn id="125" idx="0"/>
          </p:cNvCxnSpPr>
          <p:nvPr/>
        </p:nvCxnSpPr>
        <p:spPr>
          <a:xfrm flipH="1" rot="16200000">
            <a:off x="1030680" y="4511160"/>
            <a:ext cx="760680" cy="821880"/>
          </a:xfrm>
          <a:prstGeom prst="bentConnector3">
            <a:avLst>
              <a:gd name="adj1" fmla="val 50426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24" name="AutoShape 87"/>
          <p:cNvSpPr/>
          <p:nvPr/>
        </p:nvSpPr>
        <p:spPr>
          <a:xfrm>
            <a:off x="406440" y="5166360"/>
            <a:ext cx="660240" cy="1098360"/>
          </a:xfrm>
          <a:prstGeom prst="can">
            <a:avLst>
              <a:gd name="adj" fmla="val 14962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Envia a gerencia comercial (proceso espacial de manejo de errores)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" name="AutoShape 70"/>
          <p:cNvCxnSpPr>
            <a:stCxn id="103" idx="3"/>
            <a:endCxn id="121" idx="1"/>
          </p:cNvCxnSpPr>
          <p:nvPr/>
        </p:nvCxnSpPr>
        <p:spPr>
          <a:xfrm flipV="1">
            <a:off x="4551480" y="1500840"/>
            <a:ext cx="357480" cy="3240"/>
          </a:xfrm>
          <a:prstGeom prst="bentConnector3">
            <a:avLst>
              <a:gd name="adj1" fmla="val 5010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16" name="Text Box 17"/>
          <p:cNvSpPr/>
          <p:nvPr/>
        </p:nvSpPr>
        <p:spPr>
          <a:xfrm>
            <a:off x="3098880" y="1722600"/>
            <a:ext cx="1477800" cy="24372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Envían planilla con infrmación de cliente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48"/>
          <p:cNvSpPr/>
          <p:nvPr/>
        </p:nvSpPr>
        <p:spPr>
          <a:xfrm>
            <a:off x="412920" y="3403440"/>
            <a:ext cx="116496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Digita información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8" name="AutoShape 16"/>
          <p:cNvCxnSpPr>
            <a:stCxn id="112" idx="2"/>
            <a:endCxn id="101" idx="0"/>
          </p:cNvCxnSpPr>
          <p:nvPr/>
        </p:nvCxnSpPr>
        <p:spPr>
          <a:xfrm flipH="1" rot="16200000">
            <a:off x="503280" y="1765080"/>
            <a:ext cx="302400" cy="2880"/>
          </a:xfrm>
          <a:prstGeom prst="bentConnector3">
            <a:avLst>
              <a:gd name="adj1" fmla="val 49225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29" name="Text Box 48"/>
          <p:cNvSpPr/>
          <p:nvPr/>
        </p:nvSpPr>
        <p:spPr>
          <a:xfrm>
            <a:off x="2724120" y="3200400"/>
            <a:ext cx="116532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 pag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0" name="AutoShape 61"/>
          <p:cNvCxnSpPr>
            <a:stCxn id="106" idx="2"/>
            <a:endCxn id="129" idx="1"/>
          </p:cNvCxnSpPr>
          <p:nvPr/>
        </p:nvCxnSpPr>
        <p:spPr>
          <a:xfrm flipH="1" rot="16200000">
            <a:off x="1579320" y="2116080"/>
            <a:ext cx="561600" cy="17290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31" name="AutoShape 71"/>
          <p:cNvCxnSpPr>
            <a:stCxn id="107" idx="2"/>
            <a:endCxn id="117" idx="0"/>
          </p:cNvCxnSpPr>
          <p:nvPr/>
        </p:nvCxnSpPr>
        <p:spPr>
          <a:xfrm flipH="1" rot="16200000">
            <a:off x="863280" y="3657240"/>
            <a:ext cx="268920" cy="5040"/>
          </a:xfrm>
          <a:prstGeom prst="bentConnector3">
            <a:avLst>
              <a:gd name="adj1" fmla="val 49597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2" name="Text Box 48"/>
          <p:cNvSpPr/>
          <p:nvPr/>
        </p:nvSpPr>
        <p:spPr>
          <a:xfrm>
            <a:off x="6508800" y="3657600"/>
            <a:ext cx="1165320" cy="36540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n  facturas / ENSOBRAN  y distribuyen a domicili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3" name="AutoShape 73"/>
          <p:cNvCxnSpPr>
            <a:stCxn id="125" idx="3"/>
            <a:endCxn id="132" idx="1"/>
          </p:cNvCxnSpPr>
          <p:nvPr/>
        </p:nvCxnSpPr>
        <p:spPr>
          <a:xfrm flipV="1">
            <a:off x="2303640" y="3840120"/>
            <a:ext cx="4205520" cy="1644840"/>
          </a:xfrm>
          <a:prstGeom prst="bentConnector3">
            <a:avLst>
              <a:gd name="adj1" fmla="val 49944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4" name="Text Box 48"/>
          <p:cNvSpPr/>
          <p:nvPr/>
        </p:nvSpPr>
        <p:spPr>
          <a:xfrm>
            <a:off x="4984920" y="4826160"/>
            <a:ext cx="116496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n  facturas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7978680" y="5168880"/>
            <a:ext cx="1165320" cy="12204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cibe pag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6" name="AutoShape 73"/>
          <p:cNvCxnSpPr>
            <a:stCxn id="132" idx="2"/>
            <a:endCxn id="134" idx="3"/>
          </p:cNvCxnSpPr>
          <p:nvPr/>
        </p:nvCxnSpPr>
        <p:spPr>
          <a:xfrm rot="5400000">
            <a:off x="6188400" y="3984480"/>
            <a:ext cx="864360" cy="94176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37" name="AutoShape 73"/>
          <p:cNvCxnSpPr>
            <a:stCxn id="134" idx="2"/>
            <a:endCxn id="135" idx="1"/>
          </p:cNvCxnSpPr>
          <p:nvPr/>
        </p:nvCxnSpPr>
        <p:spPr>
          <a:xfrm flipH="1" rot="16200000">
            <a:off x="6632280" y="3883320"/>
            <a:ext cx="281880" cy="241164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38" name="Text Box 48"/>
          <p:cNvSpPr/>
          <p:nvPr/>
        </p:nvSpPr>
        <p:spPr>
          <a:xfrm>
            <a:off x="7978680" y="5562720"/>
            <a:ext cx="1165320" cy="24372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Remite  información de PAG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48"/>
          <p:cNvSpPr/>
          <p:nvPr/>
        </p:nvSpPr>
        <p:spPr>
          <a:xfrm>
            <a:off x="1285920" y="5969160"/>
            <a:ext cx="1165320" cy="36540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ACTUALIZA SALDOS y ALIMENTA información  para otros proceso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0" name="AutoShape 73"/>
          <p:cNvCxnSpPr>
            <a:stCxn id="138" idx="2"/>
            <a:endCxn id="139" idx="3"/>
          </p:cNvCxnSpPr>
          <p:nvPr/>
        </p:nvCxnSpPr>
        <p:spPr>
          <a:xfrm rot="5400000">
            <a:off x="5333400" y="2923920"/>
            <a:ext cx="345600" cy="61102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41" name="AutoShape 73"/>
          <p:cNvCxnSpPr>
            <a:stCxn id="135" idx="2"/>
            <a:endCxn id="138" idx="0"/>
          </p:cNvCxnSpPr>
          <p:nvPr/>
        </p:nvCxnSpPr>
        <p:spPr>
          <a:xfrm rot="16200000">
            <a:off x="8425440" y="5426640"/>
            <a:ext cx="272160" cy="36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19080" y="312840"/>
            <a:ext cx="9124920" cy="477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Rediseño Proceso AGUA SANTA SA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669040" y="398520"/>
            <a:ext cx="107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extern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12960" y="1106640"/>
            <a:ext cx="69228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Tahoma"/>
              </a:rPr>
              <a:t>Reciben Programación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756320" y="399960"/>
            <a:ext cx="114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4400" y="399960"/>
            <a:ext cx="139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Agua santa sA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90680" y="1573200"/>
            <a:ext cx="1056960" cy="365400"/>
          </a:xfrm>
          <a:prstGeom prst="rect">
            <a:avLst/>
          </a:prstGeom>
          <a:solidFill>
            <a:srgbClr val="dedede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Envían programación de ruta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9" name="AutoShape 16"/>
          <p:cNvCxnSpPr>
            <a:stCxn id="148" idx="3"/>
            <a:endCxn id="145" idx="1"/>
          </p:cNvCxnSpPr>
          <p:nvPr/>
        </p:nvCxnSpPr>
        <p:spPr>
          <a:xfrm flipV="1">
            <a:off x="1547280" y="1232640"/>
            <a:ext cx="1166040" cy="467640"/>
          </a:xfrm>
          <a:prstGeom prst="bentConnector3">
            <a:avLst>
              <a:gd name="adj1" fmla="val 50000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50" name="AutoShape 18"/>
          <p:cNvCxnSpPr>
            <a:stCxn id="151" idx="2"/>
            <a:endCxn id="152" idx="3"/>
          </p:cNvCxnSpPr>
          <p:nvPr/>
        </p:nvCxnSpPr>
        <p:spPr>
          <a:xfrm rot="5400000">
            <a:off x="3619440" y="1507320"/>
            <a:ext cx="635760" cy="46260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53" name="Text Box 23"/>
          <p:cNvSpPr/>
          <p:nvPr/>
        </p:nvSpPr>
        <p:spPr>
          <a:xfrm>
            <a:off x="6512040" y="396720"/>
            <a:ext cx="117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Empresa Corre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2562120" y="314280"/>
            <a:ext cx="0" cy="5873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746600" y="326880"/>
            <a:ext cx="0" cy="586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7872480" y="317520"/>
            <a:ext cx="0" cy="58705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349200" y="930240"/>
            <a:ext cx="1335240" cy="396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ahoma"/>
              </a:rPr>
              <a:t>Programación de rutas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7881840" y="355680"/>
            <a:ext cx="11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Medios de pag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Físico y virtual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52"/>
          <p:cNvSpPr/>
          <p:nvPr/>
        </p:nvSpPr>
        <p:spPr>
          <a:xfrm>
            <a:off x="5999040" y="316080"/>
            <a:ext cx="0" cy="58719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0" name="AutoShape 61"/>
          <p:cNvCxnSpPr>
            <a:stCxn id="152" idx="1"/>
            <a:endCxn id="161" idx="0"/>
          </p:cNvCxnSpPr>
          <p:nvPr/>
        </p:nvCxnSpPr>
        <p:spPr>
          <a:xfrm flipV="1" rot="10800000">
            <a:off x="1170720" y="2054880"/>
            <a:ext cx="1594800" cy="58644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61" name="AutoShape 62"/>
          <p:cNvSpPr/>
          <p:nvPr/>
        </p:nvSpPr>
        <p:spPr>
          <a:xfrm>
            <a:off x="631800" y="2641680"/>
            <a:ext cx="1077840" cy="718920"/>
          </a:xfrm>
          <a:prstGeom prst="diamond">
            <a:avLst/>
          </a:prstGeom>
          <a:solidFill>
            <a:srgbClr val="ffffff">
              <a:alpha val="84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ahoma"/>
              </a:rPr>
              <a:t>VALIDA LA INFORMACION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64"/>
          <p:cNvSpPr/>
          <p:nvPr/>
        </p:nvSpPr>
        <p:spPr>
          <a:xfrm>
            <a:off x="549360" y="465948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N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66"/>
          <p:cNvSpPr/>
          <p:nvPr/>
        </p:nvSpPr>
        <p:spPr>
          <a:xfrm>
            <a:off x="1217520" y="3753000"/>
            <a:ext cx="30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Tahoma"/>
              </a:rPr>
              <a:t>S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68"/>
          <p:cNvSpPr/>
          <p:nvPr/>
        </p:nvSpPr>
        <p:spPr>
          <a:xfrm>
            <a:off x="5286240" y="1116000"/>
            <a:ext cx="578160" cy="73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Medidor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5" name="AutoShape 71"/>
          <p:cNvCxnSpPr>
            <a:stCxn id="161" idx="1"/>
            <a:endCxn id="166" idx="2"/>
          </p:cNvCxnSpPr>
          <p:nvPr/>
        </p:nvCxnSpPr>
        <p:spPr>
          <a:xfrm flipH="1" flipV="1" rot="10800000">
            <a:off x="630720" y="3000960"/>
            <a:ext cx="275400" cy="1835640"/>
          </a:xfrm>
          <a:prstGeom prst="bentConnector3">
            <a:avLst>
              <a:gd name="adj1" fmla="val -83115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67" name="Text Box 72"/>
          <p:cNvSpPr/>
          <p:nvPr/>
        </p:nvSpPr>
        <p:spPr>
          <a:xfrm>
            <a:off x="1739880" y="3541680"/>
            <a:ext cx="495360" cy="24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Calcula SALD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AutoShape 73"/>
          <p:cNvCxnSpPr>
            <a:stCxn id="161" idx="2"/>
            <a:endCxn id="167" idx="1"/>
          </p:cNvCxnSpPr>
          <p:nvPr/>
        </p:nvCxnSpPr>
        <p:spPr>
          <a:xfrm flipH="1" rot="16200000">
            <a:off x="1300320" y="3230280"/>
            <a:ext cx="308880" cy="56880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66" name="AutoShape 87"/>
          <p:cNvSpPr/>
          <p:nvPr/>
        </p:nvSpPr>
        <p:spPr>
          <a:xfrm>
            <a:off x="906480" y="4286880"/>
            <a:ext cx="660240" cy="1098360"/>
          </a:xfrm>
          <a:prstGeom prst="can">
            <a:avLst>
              <a:gd name="adj" fmla="val 14962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7f7f7f"/>
                </a:solidFill>
                <a:latin typeface="Tahoma"/>
              </a:rPr>
              <a:t>Envia a gerencia comercial (proceso especial de manejo de errores)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765520" y="1866960"/>
            <a:ext cx="94140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Envían planilla con información de cliente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9" name="AutoShape 16"/>
          <p:cNvCxnSpPr>
            <a:stCxn id="157" idx="2"/>
            <a:endCxn id="148" idx="0"/>
          </p:cNvCxnSpPr>
          <p:nvPr/>
        </p:nvCxnSpPr>
        <p:spPr>
          <a:xfrm flipH="1" rot="16200000">
            <a:off x="895320" y="1449000"/>
            <a:ext cx="246600" cy="2160"/>
          </a:xfrm>
          <a:prstGeom prst="bentConnector3">
            <a:avLst>
              <a:gd name="adj1" fmla="val 49561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70" name="Text Box 48"/>
          <p:cNvSpPr/>
          <p:nvPr/>
        </p:nvSpPr>
        <p:spPr>
          <a:xfrm>
            <a:off x="2724120" y="2589120"/>
            <a:ext cx="81936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cibe pag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1" name="AutoShape 61"/>
          <p:cNvCxnSpPr>
            <a:stCxn id="167" idx="0"/>
            <a:endCxn id="170" idx="1"/>
          </p:cNvCxnSpPr>
          <p:nvPr/>
        </p:nvCxnSpPr>
        <p:spPr>
          <a:xfrm flipH="1" flipV="1" rot="5400000">
            <a:off x="1912680" y="2729880"/>
            <a:ext cx="886680" cy="7372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72" name="Text Box 48"/>
          <p:cNvSpPr/>
          <p:nvPr/>
        </p:nvSpPr>
        <p:spPr>
          <a:xfrm>
            <a:off x="6508800" y="3368520"/>
            <a:ext cx="116532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ciben  facturas / distribuyen a domicili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3" name="AutoShape 73"/>
          <p:cNvCxnSpPr>
            <a:stCxn id="174" idx="0"/>
            <a:endCxn id="172" idx="1"/>
          </p:cNvCxnSpPr>
          <p:nvPr/>
        </p:nvCxnSpPr>
        <p:spPr>
          <a:xfrm flipH="1" flipV="1" rot="5400000">
            <a:off x="5028120" y="2714760"/>
            <a:ext cx="639000" cy="232344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75" name="Text Box 48"/>
          <p:cNvSpPr/>
          <p:nvPr/>
        </p:nvSpPr>
        <p:spPr>
          <a:xfrm>
            <a:off x="4984920" y="4114800"/>
            <a:ext cx="776160" cy="24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ciben  facturas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8"/>
          <p:cNvSpPr/>
          <p:nvPr/>
        </p:nvSpPr>
        <p:spPr>
          <a:xfrm>
            <a:off x="7978680" y="4479840"/>
            <a:ext cx="89712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cibe pago 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AutoShape 73"/>
          <p:cNvCxnSpPr>
            <a:stCxn id="172" idx="2"/>
            <a:endCxn id="175" idx="3"/>
          </p:cNvCxnSpPr>
          <p:nvPr/>
        </p:nvCxnSpPr>
        <p:spPr>
          <a:xfrm rot="5400000">
            <a:off x="6176880" y="3328200"/>
            <a:ext cx="497520" cy="133092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78" name="AutoShape 73"/>
          <p:cNvCxnSpPr>
            <a:stCxn id="175" idx="2"/>
            <a:endCxn id="176" idx="1"/>
          </p:cNvCxnSpPr>
          <p:nvPr/>
        </p:nvCxnSpPr>
        <p:spPr>
          <a:xfrm flipH="1" rot="16200000">
            <a:off x="6587280" y="3154680"/>
            <a:ext cx="178200" cy="26056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79" name="Text Box 48"/>
          <p:cNvSpPr/>
          <p:nvPr/>
        </p:nvSpPr>
        <p:spPr>
          <a:xfrm>
            <a:off x="8001000" y="4984920"/>
            <a:ext cx="85248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mite  información de PAG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48"/>
          <p:cNvSpPr/>
          <p:nvPr/>
        </p:nvSpPr>
        <p:spPr>
          <a:xfrm>
            <a:off x="996840" y="5924520"/>
            <a:ext cx="1165320" cy="48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ACTUALIZA SALDOS y ALIMENTA información  para otros procesos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1" name="AutoShape 73"/>
          <p:cNvCxnSpPr>
            <a:stCxn id="179" idx="2"/>
            <a:endCxn id="180" idx="3"/>
          </p:cNvCxnSpPr>
          <p:nvPr/>
        </p:nvCxnSpPr>
        <p:spPr>
          <a:xfrm rot="5400000">
            <a:off x="4888080" y="2634120"/>
            <a:ext cx="813240" cy="626652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82" name="AutoShape 73"/>
          <p:cNvCxnSpPr>
            <a:stCxn id="176" idx="2"/>
            <a:endCxn id="179" idx="0"/>
          </p:cNvCxnSpPr>
          <p:nvPr/>
        </p:nvCxnSpPr>
        <p:spPr>
          <a:xfrm flipV="1" rot="10800000">
            <a:off x="8427240" y="4611240"/>
            <a:ext cx="1080" cy="37404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83" name="Text Box 12"/>
          <p:cNvSpPr/>
          <p:nvPr/>
        </p:nvSpPr>
        <p:spPr>
          <a:xfrm>
            <a:off x="3699000" y="1044720"/>
            <a:ext cx="93816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Tahoma"/>
              </a:rPr>
              <a:t>Lectura y digitación con mini computado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4" name="AutoShape 16"/>
          <p:cNvCxnSpPr>
            <a:stCxn id="145" idx="3"/>
            <a:endCxn id="183" idx="1"/>
          </p:cNvCxnSpPr>
          <p:nvPr/>
        </p:nvCxnSpPr>
        <p:spPr>
          <a:xfrm>
            <a:off x="3405240" y="1233000"/>
            <a:ext cx="294480" cy="10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4676760" y="1241280"/>
            <a:ext cx="55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2646360" y="1106640"/>
            <a:ext cx="847800" cy="24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Reciben Programación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699000" y="1044720"/>
            <a:ext cx="93816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Tahoma"/>
              </a:rPr>
              <a:t>Lectura y digitación con mini computado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64"/>
          <p:cNvSpPr/>
          <p:nvPr/>
        </p:nvSpPr>
        <p:spPr>
          <a:xfrm>
            <a:off x="398520" y="3381480"/>
            <a:ext cx="30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ahoma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12800" y="3257640"/>
            <a:ext cx="22320" cy="51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72"/>
          <p:cNvSpPr/>
          <p:nvPr/>
        </p:nvSpPr>
        <p:spPr>
          <a:xfrm>
            <a:off x="2631960" y="4081320"/>
            <a:ext cx="963720" cy="3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IMPRIME FACTURA tipo sobre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72"/>
          <p:cNvSpPr/>
          <p:nvPr/>
        </p:nvSpPr>
        <p:spPr>
          <a:xfrm>
            <a:off x="3821040" y="4195800"/>
            <a:ext cx="72864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Mecanizado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0" name="AutoShape 73"/>
          <p:cNvCxnSpPr>
            <a:stCxn id="189" idx="3"/>
            <a:endCxn id="174" idx="1"/>
          </p:cNvCxnSpPr>
          <p:nvPr/>
        </p:nvCxnSpPr>
        <p:spPr>
          <a:xfrm flipV="1">
            <a:off x="3595680" y="4262040"/>
            <a:ext cx="226080" cy="8640"/>
          </a:xfrm>
          <a:prstGeom prst="bentConnector3">
            <a:avLst>
              <a:gd name="adj1" fmla="val 49282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91" name="AutoShape 73"/>
          <p:cNvCxnSpPr>
            <a:stCxn id="167" idx="3"/>
            <a:endCxn id="189" idx="0"/>
          </p:cNvCxnSpPr>
          <p:nvPr/>
        </p:nvCxnSpPr>
        <p:spPr>
          <a:xfrm>
            <a:off x="2234880" y="3668760"/>
            <a:ext cx="880200" cy="41328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92" name="AutoShape 73"/>
          <p:cNvCxnSpPr>
            <a:stCxn id="180" idx="1"/>
            <a:endCxn id="157" idx="1"/>
          </p:cNvCxnSpPr>
          <p:nvPr/>
        </p:nvCxnSpPr>
        <p:spPr>
          <a:xfrm rot="10800000">
            <a:off x="348480" y="1127880"/>
            <a:ext cx="648360" cy="5045760"/>
          </a:xfrm>
          <a:prstGeom prst="bentConnector3">
            <a:avLst>
              <a:gd name="adj1" fmla="val 135277"/>
            </a:avLst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d4d4d"/>
                </a:solidFill>
                <a:latin typeface="Tahoma"/>
              </a:rPr>
              <a:t>Factores a considerar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149120"/>
            <a:ext cx="796608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700" spc="-1" strike="noStrike">
                <a:solidFill>
                  <a:srgbClr val="4d4d4d"/>
                </a:solidFill>
                <a:latin typeface="Tahoma"/>
              </a:rPr>
              <a:t>Problemas en la Toma de Lecturas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-441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Alto nivel de ineficiencia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-441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Lecturas poco fiables: Alto % de error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-441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Alto costo de reproceso 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0">
              <a:buNone/>
              <a:tabLst>
                <a:tab algn="l" pos="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Conclusión: Exigir al proveedor que realice la toma de lectura en forma digital (Ej. código asociado a cada cliente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35200" indent="0">
              <a:buNone/>
              <a:tabLst>
                <a:tab algn="l" pos="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d4d4d"/>
                </a:solidFill>
                <a:latin typeface="Tahoma"/>
              </a:rPr>
              <a:t>Beneficios del Rediseñ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0040" y="1149120"/>
            <a:ext cx="796608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98000"/>
          </a:bodyPr>
          <a:p>
            <a:pPr marL="335880"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700" spc="-1" strike="noStrike">
                <a:solidFill>
                  <a:srgbClr val="4d4d4d"/>
                </a:solidFill>
                <a:latin typeface="Tahoma"/>
              </a:rPr>
              <a:t>Incorporación de tecnología (a través de empresa externa)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Digitación al momento de la lectura (menos retrasos/errores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Calidad exigida por Agua Santa: “un % de error inferior al 2% de las lecturas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700" spc="-1" strike="noStrike">
                <a:solidFill>
                  <a:srgbClr val="4d4d4d"/>
                </a:solidFill>
                <a:latin typeface="Tahoma"/>
              </a:rPr>
              <a:t>Ampliación de medios pago para el cliente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Mayor calidad en el servicio percibido por el clien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Convenios de pago con otras institucione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700" spc="-1" strike="noStrike">
                <a:solidFill>
                  <a:srgbClr val="4d4d4d"/>
                </a:solidFill>
                <a:latin typeface="Tahoma"/>
              </a:rPr>
              <a:t>Externalización de actividades que no son propias al giro del negocio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Mayor eficiencia del proceso (baja del % de errores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700" spc="-1" strike="noStrike">
                <a:solidFill>
                  <a:srgbClr val="4d4d4d"/>
                </a:solidFill>
                <a:latin typeface="Tahoma"/>
              </a:rPr>
              <a:t>Un Nuevo/Modificación del Sistema actual de facturación permite:</a:t>
            </a: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Incorporar información de interés para el clien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INNOVAR: Vender seguros, por ejemplo. 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Incorporar publicidad (Ej. de nuevos productos o líneas de negocio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384120" indent="-3826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Tiempo del proces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-432360">
              <a:buClr>
                <a:srgbClr val="4d4d4d"/>
              </a:buClr>
              <a:buFont typeface="Tahoma"/>
              <a:buChar char="–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Tahoma"/>
              </a:rPr>
              <a:t>Operatividad: 4 ciclos de facturación mensuales ( 5 grupos / semana)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818280" indent="0"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22440"/>
            <a:ext cx="77929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d4d4d"/>
                </a:solidFill>
                <a:latin typeface="Tahoma"/>
              </a:rPr>
              <a:t>Costo máximo de pag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880" y="1460160"/>
            <a:ext cx="68515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CL" sz="1100" spc="-1" strike="noStrike">
                <a:solidFill>
                  <a:srgbClr val="4d4d4d"/>
                </a:solidFill>
                <a:latin typeface="Tahoma"/>
              </a:rPr>
              <a:t>Consideraciones: Dado que se trata de clientes cautivos, lo ideal es mejorar la calidad del servicio y del proceso desembolsando, como máximo, los mismos recursos que se gasta hoy</a:t>
            </a:r>
            <a:endParaRPr b="0" lang="en-US" sz="11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1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1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74600" y="2452680"/>
          <a:ext cx="8280360" cy="2738520"/>
        </p:xfrm>
        <a:graphic>
          <a:graphicData uri="http://schemas.openxmlformats.org/drawingml/2006/table">
            <a:tbl>
              <a:tblPr/>
              <a:tblGrid>
                <a:gridCol w="1549440"/>
                <a:gridCol w="1123920"/>
                <a:gridCol w="1122480"/>
                <a:gridCol w="1120680"/>
                <a:gridCol w="1119240"/>
                <a:gridCol w="1120680"/>
                <a:gridCol w="1123920"/>
              </a:tblGrid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Error act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Digitació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Menor err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Digitación 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5,7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2,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4275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15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750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0,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9362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2925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3285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12287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3285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HORRO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NS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900.2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0240"/>
                          <a:tab algn="l" pos="990720"/>
                          <a:tab algn="l" pos="1320840"/>
                          <a:tab algn="l" pos="1650960"/>
                          <a:tab algn="l" pos="1981080"/>
                          <a:tab algn="l" pos="2311560"/>
                          <a:tab algn="l" pos="2641680"/>
                          <a:tab algn="l" pos="2971800"/>
                          <a:tab algn="l" pos="3301920"/>
                          <a:tab algn="l" pos="3632040"/>
                          <a:tab algn="l" pos="3962520"/>
                          <a:tab algn="l" pos="4292640"/>
                          <a:tab algn="l" pos="4622760"/>
                          <a:tab algn="l" pos="4952880"/>
                          <a:tab algn="l" pos="5283360"/>
                          <a:tab algn="l" pos="5613480"/>
                          <a:tab algn="l" pos="5943600"/>
                          <a:tab algn="l" pos="6273720"/>
                          <a:tab algn="l" pos="6603840"/>
                          <a:tab algn="l" pos="693432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21:56:37Z</dcterms:created>
  <dc:creator>Emilio de Giacomo</dc:creator>
  <dc:description/>
  <dc:language>en-US</dc:language>
  <cp:lastModifiedBy>laura</cp:lastModifiedBy>
  <cp:lastPrinted>2001-10-24T15:16:31Z</cp:lastPrinted>
  <dcterms:modified xsi:type="dcterms:W3CDTF">2007-10-13T00:13:03Z</dcterms:modified>
  <cp:revision>320</cp:revision>
  <dc:subject/>
  <dc:title>Diapositiva 1</dc:title>
</cp:coreProperties>
</file>