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3BFE-1BC4-4982-9133-3AFBAFB1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7D59-29A8-4786-8D29-D1CF7E8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65A5-D68E-43D1-95C1-A18DCF1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36D8-3ABC-47B4-B5B9-63CE6BA8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C657-BDFE-4BAA-BE23-CAF739EA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DB16-F5F7-4216-AF0D-020F4D3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CF72-14FC-4E67-8810-B01277F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5618-17D5-46E4-A03A-A33DA8F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148D-F434-41AE-9E19-D35C41CD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C5A-3921-46B9-9B1D-27CA56B2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D80-9815-4967-ACC1-C235523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F4B2-FBB8-40A2-9851-41A2513D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821-5385-4F0B-83AE-46A2F78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F009-6575-491A-81C5-A91CA96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190-64B0-469B-A890-1E173C92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551F-430F-4C6C-9A00-13AF2258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5BB-BC72-4A5C-9346-8CC57111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FA7-EC35-4052-89B3-022BFB0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EFB8-CEF2-4267-9A18-D460312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8946-5E44-441C-97F8-58C957C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417D-D7D0-466B-9D09-D9BA8505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15E7-9A7E-466D-B212-17A3E7A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7AEB-DA3A-4645-B67D-CA1DF7D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9723-4912-4C2D-AAB3-0928D9C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3E1-5522-4E2D-9C5A-D247514408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9B2-BD36-4358-9ED8-7967F4C3352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yecto de Rediseñ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mpresa de Agua P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ua S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755640" y="2421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ntegrar a bajo costo los servicios de medición de consumos básicos domiciliarios, con alta satisfacción de usuar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Objetivo Del Rediseñ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mejorar satisfacción de cl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eliminar la tasa de errores de las lectura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bajar los costos de lectura, digitación, impresión, reparto y co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disminuir los tiempos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iminar procesos ineficientes, tales como lectura manual, digitación, procesamiento, impresión y ensob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minuir los recla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mentar el valor público del proceso asociando a otras empresas de consumos bás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fdef6"/>
                </a:solidFill>
                <a:latin typeface="Arial"/>
              </a:rPr>
              <a:t>Fundamento del rediseño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escripción del</a:t>
            </a:r>
            <a:br>
              <a:rPr sz="4400"/>
            </a:b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roceso Rediseñ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Estimación del</a:t>
            </a:r>
            <a:br>
              <a:rPr sz="1800"/>
            </a:b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Impacto del Rediseño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24717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50421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Estimación del</a:t>
            </a:r>
            <a:br>
              <a:rPr sz="1800"/>
            </a:br>
            <a:r>
              <a:rPr b="0" lang="es-ES_tradnl" sz="1800" spc="-1" strike="noStrike">
                <a:solidFill>
                  <a:srgbClr val="dfdef6"/>
                </a:solidFill>
                <a:latin typeface="Arial"/>
              </a:rPr>
              <a:t>Impacto del Rediseño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924360" y="3357720"/>
            <a:ext cx="4829040" cy="3068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7800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e proyecto tiene todos los derechos reservados</a:t>
            </a:r>
            <a:br>
              <a:rPr sz="4400"/>
            </a:b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atente en trámit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1600" spc="-1" strike="noStrike">
                <a:solidFill>
                  <a:srgbClr val="dfdef6"/>
                </a:solidFill>
                <a:latin typeface="Arial"/>
              </a:rPr>
              <a:t>Llamar al fono: 5950500 – horario de oficina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01:33Z</dcterms:created>
  <dc:creator>junaeb</dc:creator>
  <dc:description/>
  <dc:language>en-US</dc:language>
  <cp:lastModifiedBy>junaeb</cp:lastModifiedBy>
  <dcterms:modified xsi:type="dcterms:W3CDTF">2007-10-12T23:44:31Z</dcterms:modified>
  <cp:revision>4</cp:revision>
  <dc:subject/>
  <dc:title>Proyecto de Rediseño</dc:title>
</cp:coreProperties>
</file>