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FFC0-D28F-4589-815B-B379E2D58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447E-CC7C-4AAD-8CB1-5CECFBFE9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8435-6FB1-4B72-9D8B-4BA938F2F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37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299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7788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37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299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D49A-4E83-4CC9-92AE-0C9644E69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F43-C060-4FE2-8C68-B99A812062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DCC-0740-4D27-A453-59AAC419C3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4DD-E074-4CDB-B15B-09DFEE2C79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CE3-033B-42F7-8A6B-2A3AE27A02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AF8-366E-4775-972D-90CE8FEF92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7520" y="622440"/>
            <a:ext cx="77929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FA1-6CA2-4B05-A89C-9553216086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F2B-793C-4EBE-8F42-A07D4FCC37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6A43-74EB-4439-A469-1EA372417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B6F-D052-4DA3-B811-FFB4C5C82C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3CE-EC28-4422-B8BD-72B834A4E5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2C8-1BB5-4D59-B2F0-9CF78CF2FE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8A3-7C82-4989-AE46-D2AA4032C2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37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299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7788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37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299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75A-1CA7-487E-BB0B-8ED3343BE5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1308-89E4-4D15-AD45-7925047BA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356E-2299-4E22-A820-2704709D3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AEAC-0D24-4A40-A37E-52FB862A0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7520" y="622440"/>
            <a:ext cx="77929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7CCB-BAB8-4920-BA97-A768F6471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F35B-4A61-4BFE-B20B-03D7FF0D0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B4E3-7FE9-4881-9673-BB585377C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5182-DE60-44DB-80F9-37B3D6AF9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64120" y="6716520"/>
            <a:ext cx="24300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4A72-3F96-4097-B5D4-188142E65B12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249880" y="6705720"/>
            <a:ext cx="319896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Line 4"/>
          <p:cNvSpPr/>
          <p:nvPr/>
        </p:nvSpPr>
        <p:spPr>
          <a:xfrm>
            <a:off x="8578800" y="-6480"/>
            <a:ext cx="0" cy="707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556480" y="6734160"/>
            <a:ext cx="0" cy="123840"/>
          </a:xfrm>
          <a:prstGeom prst="line">
            <a:avLst/>
          </a:prstGeom>
          <a:ln w="9360">
            <a:solidFill>
              <a:srgbClr val="ff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8712360" cy="438120"/>
          </a:xfrm>
          <a:prstGeom prst="rect">
            <a:avLst/>
          </a:prstGeom>
          <a:gradFill rotWithShape="0">
            <a:gsLst>
              <a:gs pos="0">
                <a:srgbClr val="c0bcaf"/>
              </a:gs>
              <a:gs pos="100000">
                <a:srgbClr val="c0bca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8734320" y="0"/>
            <a:ext cx="411120" cy="436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marL="82080" indent="-82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1" marL="93960" indent="-93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200160" indent="-10584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3" marL="297360" indent="-9648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4" marL="629640" indent="108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5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6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366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7756560" y="-12600"/>
            <a:ext cx="941400" cy="45072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2"/>
          <p:cNvSpPr/>
          <p:nvPr/>
        </p:nvSpPr>
        <p:spPr>
          <a:xfrm>
            <a:off x="7669080" y="0"/>
            <a:ext cx="10188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5"/>
          <p:cNvSpPr/>
          <p:nvPr/>
        </p:nvSpPr>
        <p:spPr>
          <a:xfrm>
            <a:off x="8556480" y="6734160"/>
            <a:ext cx="0" cy="123840"/>
          </a:xfrm>
          <a:prstGeom prst="line">
            <a:avLst/>
          </a:prstGeom>
          <a:ln w="9360">
            <a:solidFill>
              <a:srgbClr val="172f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8712360" cy="438120"/>
          </a:xfrm>
          <a:prstGeom prst="rect">
            <a:avLst/>
          </a:prstGeom>
          <a:gradFill rotWithShape="0">
            <a:gsLst>
              <a:gs pos="0">
                <a:srgbClr val="c0bcaf"/>
              </a:gs>
              <a:gs pos="100000">
                <a:srgbClr val="c0bca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8734320" y="0"/>
            <a:ext cx="411120" cy="4366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"/>
          <p:cNvGrpSpPr/>
          <p:nvPr/>
        </p:nvGrpSpPr>
        <p:grpSpPr>
          <a:xfrm>
            <a:off x="957240" y="1820880"/>
            <a:ext cx="7126200" cy="1292040"/>
            <a:chOff x="957240" y="1820880"/>
            <a:chExt cx="7126200" cy="1292040"/>
          </a:xfrm>
        </p:grpSpPr>
        <p:sp>
          <p:nvSpPr>
            <p:cNvPr id="51" name="Rectangle 10"/>
            <p:cNvSpPr/>
            <p:nvPr/>
          </p:nvSpPr>
          <p:spPr>
            <a:xfrm>
              <a:off x="2270160" y="1820880"/>
              <a:ext cx="5813280" cy="1289160"/>
            </a:xfrm>
            <a:prstGeom prst="rect">
              <a:avLst/>
            </a:prstGeom>
            <a:solidFill>
              <a:srgbClr val="d6c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2" name="Picture 11" descr=""/>
            <p:cNvPicPr/>
            <p:nvPr/>
          </p:nvPicPr>
          <p:blipFill>
            <a:blip r:embed="rId3"/>
            <a:stretch/>
          </p:blipFill>
          <p:spPr>
            <a:xfrm>
              <a:off x="957240" y="1820880"/>
              <a:ext cx="1317600" cy="129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13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3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5"/>
          <a:stretch/>
        </p:blipFill>
        <p:spPr>
          <a:xfrm>
            <a:off x="7756560" y="-12600"/>
            <a:ext cx="941400" cy="450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7"/>
          <p:cNvSpPr/>
          <p:nvPr/>
        </p:nvSpPr>
        <p:spPr>
          <a:xfrm>
            <a:off x="7669080" y="0"/>
            <a:ext cx="10188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marL="82080" indent="-82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1" marL="93960" indent="-93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200160" indent="-10584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3" marL="297360" indent="-9648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4" marL="629640" indent="108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5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6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3"/>
          </p:nvPr>
        </p:nvSpPr>
        <p:spPr>
          <a:xfrm>
            <a:off x="8664120" y="6705360"/>
            <a:ext cx="14292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25C2-5246-4215-BFC1-45235016D3FF}" type="slidenum">
              <a:rPr b="1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02240" y="3911400"/>
            <a:ext cx="4338720" cy="27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Integrantes GRUPO INP: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Mónica Aguilar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Mauricio González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Giorna Morales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Karina Piña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Ximena Sandoval</a:t>
            </a:r>
            <a:br>
              <a:rPr sz="1800"/>
            </a:br>
            <a:r>
              <a:rPr b="0" lang="es-ES" sz="1800" spc="-1" strike="noStrike">
                <a:solidFill>
                  <a:srgbClr val="4d4d4d"/>
                </a:solidFill>
                <a:latin typeface="Tahoma"/>
              </a:rPr>
              <a:t>Alejandra Zúñig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87600"/>
            <a:ext cx="778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d4d4d"/>
                </a:solidFill>
                <a:latin typeface="Tahoma"/>
              </a:rPr>
              <a:t>REDISEÑO DE PROCESO </a:t>
            </a:r>
            <a:br>
              <a:rPr sz="4000"/>
            </a:br>
            <a:r>
              <a:rPr b="1" lang="es-ES" sz="4000" spc="-1" strike="noStrike">
                <a:solidFill>
                  <a:srgbClr val="4d4d4d"/>
                </a:solidFill>
                <a:latin typeface="Tahoma"/>
              </a:rPr>
              <a:t> EMPRESA AGUA SANTA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9800" y="450720"/>
            <a:ext cx="8140680" cy="61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7680" indent="-247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Objetivo: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umentar la eficiencia del proceso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Metas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corporar tecnología de punta en las lectur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minuir tasa de err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umentar satisfacción de los client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minución de los tiempos del proces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versificación del sistema de pag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minución de los costo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Indicadores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N° de errores / N° total de medicion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N° de reclamos / N° total de client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N° de facturas con rechazo / N° total de facturas emitid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7680" indent="-247680"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3840" y="674640"/>
            <a:ext cx="814068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Importancia del rediseñ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finición del dueño del proceso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 Gerencia Comercial a Gerencia de Operacion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finición de las funciones propias del negocio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Ámbitos de Acción y alcance de cada Gerenci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efinición del servicio externalización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finición clara sobre las exigencias a las empresas externas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Tecnología de pun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versificación de sistema de pag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minución de los costos y tiempo del proces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68560" y="812880"/>
            <a:ext cx="51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Rediseño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43080" y="1892160"/>
            <a:ext cx="81406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efinición del dueño del proceso radicada en el Gerencia de  Operaciones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xigencia a la empresa externa de una lectura electrónica (herramientas tecnológicas adecuadas) que permita exportar la información para facilitar su ingreso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No externalización del ensobrado (sólo la distribución)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68560" y="812880"/>
            <a:ext cx="51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Impacto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1892160"/>
            <a:ext cx="814068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umenta el costo de lectura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isminuye el costo de erro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isminuye el costo de digitalizació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isminuye la tasa de erro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umenta la satisfacción de client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isminuyen los reclamo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Proceso AGUA SANTA S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9080" y="596880"/>
            <a:ext cx="9124920" cy="566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669760" y="687240"/>
            <a:ext cx="107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extern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787480" y="1322280"/>
            <a:ext cx="1851120" cy="365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7f7f7f"/>
                </a:solidFill>
                <a:latin typeface="Tahoma"/>
              </a:rPr>
              <a:t>Ejecuta Programa de Rut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045040" y="689040"/>
            <a:ext cx="114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4400" y="689040"/>
            <a:ext cx="171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Agua santa S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(Gerencia de Operaciones)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9" name="AutoShape 16"/>
          <p:cNvCxnSpPr>
            <a:stCxn id="110" idx="3"/>
            <a:endCxn id="106" idx="1"/>
          </p:cNvCxnSpPr>
          <p:nvPr/>
        </p:nvCxnSpPr>
        <p:spPr>
          <a:xfrm>
            <a:off x="1863720" y="1417680"/>
            <a:ext cx="924480" cy="2160"/>
          </a:xfrm>
          <a:prstGeom prst="bentConnector3">
            <a:avLst>
              <a:gd name="adj1" fmla="val 4998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1" name="AutoShape 18"/>
          <p:cNvCxnSpPr>
            <a:stCxn id="106" idx="2"/>
          </p:cNvCxnSpPr>
          <p:nvPr/>
        </p:nvCxnSpPr>
        <p:spPr>
          <a:xfrm rot="5400000">
            <a:off x="3575880" y="1649520"/>
            <a:ext cx="272160" cy="2160"/>
          </a:xfrm>
          <a:prstGeom prst="bentConnector3">
            <a:avLst>
              <a:gd name="adj1" fmla="val 49668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2" name="AutoShape 19"/>
          <p:cNvCxnSpPr>
            <a:stCxn id="113" idx="1"/>
          </p:cNvCxnSpPr>
          <p:nvPr/>
        </p:nvCxnSpPr>
        <p:spPr>
          <a:xfrm flipH="1" flipV="1" rot="10800000">
            <a:off x="444240" y="2227680"/>
            <a:ext cx="606960" cy="872280"/>
          </a:xfrm>
          <a:prstGeom prst="bentConnector4">
            <a:avLst>
              <a:gd name="adj1" fmla="val -37685"/>
              <a:gd name="adj2" fmla="val 70478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14" name="Text Box 23"/>
          <p:cNvSpPr/>
          <p:nvPr/>
        </p:nvSpPr>
        <p:spPr>
          <a:xfrm>
            <a:off x="6512040" y="685800"/>
            <a:ext cx="117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Corre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7"/>
          <p:cNvSpPr/>
          <p:nvPr/>
        </p:nvSpPr>
        <p:spPr>
          <a:xfrm>
            <a:off x="2562120" y="603360"/>
            <a:ext cx="0" cy="5873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4746600" y="615960"/>
            <a:ext cx="0" cy="586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29"/>
          <p:cNvSpPr/>
          <p:nvPr/>
        </p:nvSpPr>
        <p:spPr>
          <a:xfrm>
            <a:off x="7872480" y="606600"/>
            <a:ext cx="0" cy="58705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90360" y="1219320"/>
            <a:ext cx="1773360" cy="396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ahoma"/>
              </a:rPr>
              <a:t>Programación de rutas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7881840" y="644400"/>
            <a:ext cx="11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Instituciones Financiera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52"/>
          <p:cNvSpPr/>
          <p:nvPr/>
        </p:nvSpPr>
        <p:spPr>
          <a:xfrm>
            <a:off x="6354720" y="604800"/>
            <a:ext cx="0" cy="58723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0" name="AutoShape 61"/>
          <p:cNvCxnSpPr/>
          <p:nvPr/>
        </p:nvCxnSpPr>
        <p:spPr>
          <a:xfrm flipV="1" rot="10800000">
            <a:off x="1780560" y="2140560"/>
            <a:ext cx="1092960" cy="3960"/>
          </a:xfrm>
          <a:prstGeom prst="bentConnector3">
            <a:avLst>
              <a:gd name="adj1" fmla="val 49983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1" name="AutoShape 62"/>
          <p:cNvSpPr/>
          <p:nvPr/>
        </p:nvSpPr>
        <p:spPr>
          <a:xfrm>
            <a:off x="557280" y="3100320"/>
            <a:ext cx="936720" cy="4078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4"/>
          <p:cNvSpPr/>
          <p:nvPr/>
        </p:nvSpPr>
        <p:spPr>
          <a:xfrm>
            <a:off x="249120" y="432576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N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5"/>
          <p:cNvSpPr/>
          <p:nvPr/>
        </p:nvSpPr>
        <p:spPr>
          <a:xfrm>
            <a:off x="793800" y="3187800"/>
            <a:ext cx="4413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Tahoma"/>
              </a:rPr>
              <a:t>VALIDA LA INFORMACION?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6"/>
          <p:cNvSpPr/>
          <p:nvPr/>
        </p:nvSpPr>
        <p:spPr>
          <a:xfrm>
            <a:off x="1622520" y="390384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S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8"/>
          <p:cNvSpPr/>
          <p:nvPr/>
        </p:nvSpPr>
        <p:spPr>
          <a:xfrm>
            <a:off x="4908600" y="2049480"/>
            <a:ext cx="1458720" cy="152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Medidor client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6" name="AutoShape 71"/>
          <p:cNvCxnSpPr>
            <a:stCxn id="121" idx="1"/>
          </p:cNvCxnSpPr>
          <p:nvPr/>
        </p:nvCxnSpPr>
        <p:spPr>
          <a:xfrm flipV="1" rot="10800000">
            <a:off x="405720" y="3304080"/>
            <a:ext cx="151560" cy="2382120"/>
          </a:xfrm>
          <a:prstGeom prst="bentConnector3">
            <a:avLst>
              <a:gd name="adj1" fmla="val 251428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7" name="Text Box 72"/>
          <p:cNvSpPr/>
          <p:nvPr/>
        </p:nvSpPr>
        <p:spPr>
          <a:xfrm>
            <a:off x="527040" y="3905280"/>
            <a:ext cx="96372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7f7f7f"/>
                </a:solidFill>
                <a:latin typeface="Tahoma"/>
              </a:rPr>
              <a:t>Calcula SALDO e IMPRIME FACTUR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8" name="AutoShape 73"/>
          <p:cNvCxnSpPr>
            <a:stCxn id="121" idx="2"/>
            <a:endCxn id="127" idx="0"/>
          </p:cNvCxnSpPr>
          <p:nvPr/>
        </p:nvCxnSpPr>
        <p:spPr>
          <a:xfrm rot="5400000">
            <a:off x="818640" y="3698640"/>
            <a:ext cx="39780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29" name="AutoShape 70"/>
          <p:cNvCxnSpPr>
            <a:stCxn id="130" idx="3"/>
          </p:cNvCxnSpPr>
          <p:nvPr/>
        </p:nvCxnSpPr>
        <p:spPr>
          <a:xfrm>
            <a:off x="4225680" y="2128320"/>
            <a:ext cx="670680" cy="34200"/>
          </a:xfrm>
          <a:prstGeom prst="bentConnector3">
            <a:avLst>
              <a:gd name="adj1" fmla="val 70139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1" name="Text Box 48"/>
          <p:cNvSpPr/>
          <p:nvPr/>
        </p:nvSpPr>
        <p:spPr>
          <a:xfrm>
            <a:off x="6534000" y="4317840"/>
            <a:ext cx="1165320" cy="609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Recepciona Facturas y Distribuye a domicilio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AutoShape 73"/>
          <p:cNvCxnSpPr>
            <a:endCxn id="131" idx="1"/>
          </p:cNvCxnSpPr>
          <p:nvPr/>
        </p:nvCxnSpPr>
        <p:spPr>
          <a:xfrm flipV="1">
            <a:off x="1515600" y="4626720"/>
            <a:ext cx="5018760" cy="158040"/>
          </a:xfrm>
          <a:prstGeom prst="bentConnector3">
            <a:avLst>
              <a:gd name="adj1" fmla="val 49985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3" name="Text Box 48"/>
          <p:cNvSpPr/>
          <p:nvPr/>
        </p:nvSpPr>
        <p:spPr>
          <a:xfrm>
            <a:off x="4946760" y="5029200"/>
            <a:ext cx="1164960" cy="365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200" spc="-1" strike="noStrike">
                <a:solidFill>
                  <a:srgbClr val="7f7f7f"/>
                </a:solidFill>
                <a:latin typeface="Tahoma"/>
              </a:rPr>
              <a:t>Recepciona  factura</a:t>
            </a: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7978680" y="5372280"/>
            <a:ext cx="949320" cy="182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200" spc="-1" strike="noStrike">
                <a:solidFill>
                  <a:srgbClr val="7f7f7f"/>
                </a:solidFill>
                <a:latin typeface="Tahoma"/>
              </a:rPr>
              <a:t>Recibe pago</a:t>
            </a: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5" name="AutoShape 73"/>
          <p:cNvCxnSpPr/>
          <p:nvPr/>
        </p:nvCxnSpPr>
        <p:spPr>
          <a:xfrm rot="5400000">
            <a:off x="6479640" y="4644720"/>
            <a:ext cx="255960" cy="94212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36" name="AutoShape 73"/>
          <p:cNvCxnSpPr/>
          <p:nvPr/>
        </p:nvCxnSpPr>
        <p:spPr>
          <a:xfrm flipH="1" rot="16200000">
            <a:off x="6712560" y="4206600"/>
            <a:ext cx="106920" cy="250092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7" name="Text Box 48"/>
          <p:cNvSpPr/>
          <p:nvPr/>
        </p:nvSpPr>
        <p:spPr>
          <a:xfrm>
            <a:off x="7915320" y="5943600"/>
            <a:ext cx="1165320" cy="5479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200" spc="-1" strike="noStrike">
                <a:solidFill>
                  <a:srgbClr val="7f7f7f"/>
                </a:solidFill>
                <a:latin typeface="Tahoma"/>
              </a:rPr>
              <a:t>Remite  información de PAGO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460440" y="5511960"/>
            <a:ext cx="1165320" cy="7617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ACTUALIZA SALDOS y ALIMENTA información  para otros proceso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9" name="AutoShape 73"/>
          <p:cNvCxnSpPr>
            <a:endCxn id="138" idx="3"/>
          </p:cNvCxnSpPr>
          <p:nvPr/>
        </p:nvCxnSpPr>
        <p:spPr>
          <a:xfrm rot="10800000">
            <a:off x="1625040" y="5896800"/>
            <a:ext cx="6315480" cy="275400"/>
          </a:xfrm>
          <a:prstGeom prst="bentConnector3">
            <a:avLst>
              <a:gd name="adj1" fmla="val 500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2870280" y="1823760"/>
            <a:ext cx="1627200" cy="609840"/>
          </a:xfrm>
          <a:prstGeom prst="flowChartOnlineStorage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Realizan Mediciones Electrónica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44600" y="1802880"/>
            <a:ext cx="1311120" cy="85212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7f7f7f"/>
                </a:solidFill>
                <a:latin typeface="Tahoma"/>
              </a:rPr>
              <a:t>Recibe información electrónica</a:t>
            </a:r>
            <a:r>
              <a:rPr b="0" lang="es-ES_tradnl" sz="1300" spc="-1" strike="noStrike">
                <a:solidFill>
                  <a:srgbClr val="7f7f7f"/>
                </a:solidFill>
                <a:latin typeface="Tahoma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95360" y="4635360"/>
            <a:ext cx="1041480" cy="4701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81680" y="4764240"/>
            <a:ext cx="87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Tahoma"/>
              </a:rPr>
              <a:t>Rotulación d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es-ES" sz="1000" spc="-1" strike="noStrike">
                <a:solidFill>
                  <a:srgbClr val="7f7f7f"/>
                </a:solidFill>
                <a:latin typeface="Tahoma"/>
              </a:rPr>
              <a:t>factur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381560"/>
            <a:ext cx="0" cy="25380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5537160"/>
            <a:ext cx="0" cy="39384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21:56:37Z</dcterms:created>
  <dc:creator>Emilio de Giacomo</dc:creator>
  <dc:description/>
  <dc:language>en-US</dc:language>
  <cp:lastModifiedBy>Ximena Sandoval</cp:lastModifiedBy>
  <cp:lastPrinted>2001-10-24T15:16:31Z</cp:lastPrinted>
  <dcterms:modified xsi:type="dcterms:W3CDTF">2007-10-13T00:12:54Z</dcterms:modified>
  <cp:revision>322</cp:revision>
  <dc:subject/>
  <dc:title>Diapositiva 1</dc:title>
</cp:coreProperties>
</file>