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2EE-0000-4B9E-A950-D88FA2F7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21E-ECA9-41F9-B88F-CA1CA31F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442-1885-40C7-B5DE-AC58FFF2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286-020A-4E1C-87B5-56F402A1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728-A08F-4631-9ED0-E1723850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B3F-738D-458D-B0AB-CABEA9D3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8CA-F4C0-4EBE-A54F-9FB81A11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BB0-D31D-4E55-9D8C-9DDF5F4D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7C3-7D6C-488D-B957-407304C9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648-41AD-44B0-9677-4EFD4BEF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DEE-AEB9-492F-A121-81ECFD2E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9BD-506A-437C-BDEF-9CFC898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FC62-C155-4C10-97FC-B5B0680EE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ción para 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ir la tasa de error en la información de la fact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cia del re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ye la tasa de error de las lectu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r la satisfacción del cl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ir los costos a largo pla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ción de tiempo de le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a tiempo r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o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uesta de Re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03160" y="907920"/>
          <a:ext cx="742644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907920"/>
                    <a:ext cx="74264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acto del Cambio Propues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ceso carece de Empresa Externa para la le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 de un 33,4% en el tiempo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 en un 89,4% los costos del procesos. Se Liberan US$17,8 Mil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 en un 99,5% del error en le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 en la satisfacción del cl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23:12:21Z</dcterms:created>
  <dc:creator>AFUCOCHEN</dc:creator>
  <dc:description/>
  <dc:language>en-US</dc:language>
  <cp:lastModifiedBy>AFUCOCHEN</cp:lastModifiedBy>
  <dcterms:modified xsi:type="dcterms:W3CDTF">2007-10-12T23:56:12Z</dcterms:modified>
  <cp:revision>3</cp:revision>
  <dc:subject/>
  <dc:title>Definición para el Proyecto</dc:title>
</cp:coreProperties>
</file>