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DE6-EBD3-4102-938D-85584C95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C5B-B48F-4ECD-B052-9E76A75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6F4-B8CB-44A3-AC47-AD5EFDE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FB0-CA94-4C4C-B7E7-F1A13834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B9B-2E2C-4ED2-92FD-EF3EB7B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F12-1945-4EE8-9A04-42DE87D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DC8-558E-4335-B3B3-2013805D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058-624C-4C06-965D-5A6C2BF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FA4-358E-4E41-A59F-C0262001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6D5-5D0E-4596-A6AB-DD25A72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271-CFBC-47FE-AC1A-AC605822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48A-B2D4-4C2F-AD18-D56CE463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678F-412B-45E9-BCAF-AB7396ED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ódul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br>
              <a:rPr sz="2800"/>
            </a:br>
            <a:br>
              <a:rPr sz="2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bajo de Evalu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6913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trabajo se desarrolla en los mismos grupos del trabajo general y se aplica sobre la misma institución bajo estud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a de dos sec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eño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gnóstico 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4507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dicacion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7560" y="4941720"/>
            <a:ext cx="35701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zo de entrega: 7 de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o de entrega: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o: Reporte en formato p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) Rediseño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proceso de negocio relevante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 un diagnóstico del proceso, que incluya mapa del proceso, análisis de sus métricas y evaluación sintética de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ule un proyecto de rediseño y justifíq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 rediseño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a estrategia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lezca los mecanismos de verificación del éxito del re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) Diagnóstico 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institución objeto de estudio, realice un análisis del estado de su apoyo de Tecnologías de Información y Comunicaciones abordando los siguiente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er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principales servicios y aplicaciones TIC que utiliza hoy en día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tecnologías se utilizan en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nivel de comunicación interna tien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apoyo TIC tienen los procesos sustantivos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acuerdo con la estrategia de la institución, que elementos del apoyo TIC son relevante en su desarro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la conexión con otras institu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en el proceso de interacción con clientes/usuarios extern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Realice un análisis FODA del actual soporte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ómo se organiza el soport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Hacia donde se orienta el desarrollo TIC de la institución? ¿Qué proyectos están en desarrollo o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ámbitos prioritarios de acción en materia d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recomendaciones haría sobre el desarrollo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21:17Z</dcterms:created>
  <dc:creator>.</dc:creator>
  <dc:description/>
  <dc:language>en-US</dc:language>
  <cp:lastModifiedBy>.</cp:lastModifiedBy>
  <dcterms:modified xsi:type="dcterms:W3CDTF">2007-10-26T11:44:15Z</dcterms:modified>
  <cp:revision>3</cp:revision>
  <dc:subject/>
  <dc:title>Módulo de Procesos Tecnologías de Información y  Gobierno Electrónico   Trabajo de Evaluación </dc:title>
</cp:coreProperties>
</file>