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89F8-9F6A-4BF9-923D-FA677A3D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4D73-78EF-4A97-9409-83455933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C752-E31C-4203-B52C-6556CFE6F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78FD-E29C-421F-B10A-C3F745970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C3F2-6B78-4D39-A30C-CB7E1FD3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5D09-E7A5-49AB-96F5-EDDF6B72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EB02-413E-4D17-AD39-E497852E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1F30-8CA2-4594-99AB-6D9B6E17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7055-EADA-4EDD-9EF8-9499279C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59A8-0F71-42DA-9C24-AD8DF7E7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4ACB-A623-418B-892F-4274B20E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F56A-7F24-4D4C-98A2-EFE37587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648F-E8C2-4DF8-B8F0-024C59EB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53BE-33F6-406C-876B-E661F724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C7FC-0146-45A8-A9DD-FAB29702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5368-EEE2-4451-A4F7-58E9315F6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9DF5-0854-49D4-B491-C09A3C6D8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CFE1-5EAB-42A0-856E-92E7CBD2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D383-2EC7-422B-96B7-146D9829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EEE2-35A3-4E11-BAA5-C88E3525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B87C-2763-4684-BC79-FB2C3265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AC4D-0953-4EF1-8155-EE9C83C7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88D1-4EAD-4E18-B244-FA7E9A2C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39D5-DF17-4CB8-922E-54DC4EF9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10F5-85F3-4C9B-9D81-7760824B0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03D2-B43D-4D33-A8C0-1D3F9145A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692280"/>
            <a:ext cx="777240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Times New Roman"/>
              </a:rPr>
              <a:t>Resultados Detección de</a:t>
            </a:r>
            <a:br>
              <a:rPr sz="4400"/>
            </a:br>
            <a:r>
              <a:rPr b="1" lang="es-MX" sz="4400" spc="-1" strike="noStrike">
                <a:solidFill>
                  <a:srgbClr val="003366"/>
                </a:solidFill>
                <a:latin typeface="Times New Roman"/>
              </a:rPr>
              <a:t>Quiebres en Gestión Públ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ploma en Gerencia Pública (POL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Octubre d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Quiebres...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derazgo y RRH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unicación formal e informal entre colegas de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ción de funciones (genér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ítica reclutamiento de personal (profesionalizar proces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ta de información (induc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Quiebres..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soportes no soportan: unidad de gestión de personas (poca claridad en información, procedimientos, reglas, manejo información inte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ios en el equipo (impacto en la institu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cía política en el negocio - SML (balances entre actividades del servic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Quiebres..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unicación del equipo directivo (conversación estratégica priorizando en temas urgen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ción de tecnologí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quo… Sacar de la inercia a los equipos y funcio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Quiebres..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iva vertical (no existe discurso común ni compartid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cionamiento (mediático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onexión en servicios públicos: intervención en el territorio. No existe coordinación en intervención (desde lo formal a lo estructu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Quiebres..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botaje de información (ocultar inform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ligencia en los equip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onfian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Quiebres.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ovación gerencial (nuevas habilidades y conocimientos / ideas / llegada a otros acto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unicaciones (procesos internos y exter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io generacio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Quiebres..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ta de información (datos fidedignos y actualizados) y coordinación entre equip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ítica mortal a los directivos (compromisos, nombramiento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Quiebres..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unos adiciona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ta cultura de innovación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ga administrativa versus giro del nego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19:34:13Z</dcterms:created>
  <dc:creator>Alvaro Ramírez</dc:creator>
  <dc:description/>
  <dc:language>en-US</dc:language>
  <cp:lastModifiedBy>Alvaro Ramirez</cp:lastModifiedBy>
  <dcterms:modified xsi:type="dcterms:W3CDTF">2007-11-12T18:29:46Z</dcterms:modified>
  <cp:revision>3</cp:revision>
  <dc:subject/>
  <dc:title>Quiebres </dc:title>
</cp:coreProperties>
</file>