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173-A98B-45EF-B6E9-3672D7DC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2576-DBC5-4CC8-9FBB-6506B08A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ECDE-6069-4D82-A62A-B15966C43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503-E719-4D13-8BE1-7A527A111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B4C7-CC36-4F00-BEE3-A990A6D1C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5F83-F09C-4687-909B-6215135C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8D6BB-329C-41F4-8744-20620711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F122-181F-4FD6-AD28-0F428D08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0C97-253D-47DB-A3FE-9CDFFFDB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1A1C-0D8D-42F6-8BC4-8DD83627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72DA-0E6A-4B62-8C47-0A1D3D58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045-1F5B-45D0-9D74-67560A67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0A98-C753-4377-9594-1693C3B8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7CF-1570-4454-824A-EC30E9E44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ADE0-DF41-453C-9F21-2BA28C5C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359B-8932-428F-9B8A-5C870996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F5F5-9A5A-4D34-94CF-BB60F6FE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21C2-CBF9-4E09-80D1-970AA50C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3A19-7850-4538-8030-29C02EB0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980-07CE-4790-B33D-42DCA45EC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AB2-288F-4C7B-89CE-1449EC15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692-8AEA-43D2-9CCD-22C3F37A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8193-6D54-45B7-93AC-74C79F85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36E-E254-430A-87F4-6078F569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62BD-E037-4F6F-9AC8-1811A5055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00128-BCB2-4CE5-B296-9CFB2B337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Resultados Detección de</a:t>
            </a:r>
            <a:br>
              <a:rPr sz="4400"/>
            </a:b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Quiebres en Gestión Públ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ploma en Gerencia Pública (POL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derazgo y RRH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formal e informal entre colegas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ción de funciones (genér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ítica reclutamiento de personal (profesionalizar proces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indu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soportes no soportan: unidad de gestión de personas (poca claridad en información, procedimientos, reglas, manejo información inte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en el equipo (impacto en la institu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cía política en el negocio - SML (balances entre actividades del servic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ón del equipo directivo (conversación estratégica priorizando en temas urg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ción de tecnologí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quo… Sacar de la inercia a los equipos y funcio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iva vertical (no existe discurso común ni compart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cionamiento (mediátic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exión en servicios públicos: intervención en el territorio. No existe coordinación en intervención (desde lo formal a lo estructu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botaje de información (ocultar inform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encia en los equip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onfianz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ovación gerencial (nuevas habilidades y conocimientos / ideas / llegada a otros acto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unicaciones (procesos internos y exter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 generac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de información (datos fidedignos y actualizados) y coordinación entre equip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ítica mortal a los directivos (compromisos, nombramien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Quiebres...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73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adiciona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ta cultura de innovación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ga administrativa versus giro del nego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7T19:34:13Z</dcterms:created>
  <dc:creator>Alvaro Ramírez</dc:creator>
  <dc:description/>
  <dc:language>en-US</dc:language>
  <cp:lastModifiedBy>Alvaro Ramirez</cp:lastModifiedBy>
  <dcterms:modified xsi:type="dcterms:W3CDTF">2007-11-12T18:29:46Z</dcterms:modified>
  <cp:revision>3</cp:revision>
  <dc:subject/>
  <dc:title>Quiebres </dc:title>
</cp:coreProperties>
</file>