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4BB-1FFB-45C7-8CB3-A474C1F2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EF4-A121-4D1E-8DEB-766037CF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FE3-68CF-4644-93BA-F33E193D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CAB-91AA-4475-8969-251CC364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BEF4-A284-43EE-B50E-DF77E3A9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CCAC-E4A7-4FC9-9389-0621F8B1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EB4-F024-409D-A148-9DC7A6A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5890-13E3-42D8-8AD1-790CAA6F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9AEA-B7DB-42AC-9772-218BB4AE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807C-9642-476C-AFEF-D759A81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EE9F-EBEF-4A1E-B74E-DA76033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8BD-62EF-471C-8F74-31071A11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464-C7E0-45C7-BB3B-53261D22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37C-03C8-4341-881B-7753DBB3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25FD-765F-4676-9C3B-443D2A85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7815-3CBC-4A6B-BCAD-7D7E90DF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0696-4CE0-4D47-AAFB-8A73C713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F70-D71F-4349-B139-C49452F5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ABE-A124-4969-97FD-7BF68728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1AD-377F-4864-85CF-83354A48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740-7A84-4814-A23E-EF4BABF8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4BF-CFCD-4C9B-84A3-44D42E89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5B2-BAAC-4AD3-85FD-B529DC5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D4C-CAD6-4B34-9174-ED03BE09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14F4-666E-4B73-8833-BF959F15881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25FD-B6D9-4F0E-BF7A-43A791F10B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2.xml"/><Relationship Id="rId5" Type="http://schemas.openxmlformats.org/officeDocument/2006/relationships/slide" Target="slide39.xml"/><Relationship Id="rId6" Type="http://schemas.openxmlformats.org/officeDocument/2006/relationships/slide" Target="slide38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4.xml"/><Relationship Id="rId10" Type="http://schemas.openxmlformats.org/officeDocument/2006/relationships/slide" Target="slide45.xml"/><Relationship Id="rId11" Type="http://schemas.openxmlformats.org/officeDocument/2006/relationships/slide" Target="slide46.xml"/><Relationship Id="rId12" Type="http://schemas.openxmlformats.org/officeDocument/2006/relationships/slide" Target="slide43.xml"/><Relationship Id="rId1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INTRODUCCIÓN</a:t>
            </a:r>
            <a:br>
              <a:rPr sz="2800"/>
            </a:b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(reducir número de láminas; ver el límite fijado en pauta y considerar que falta el resto de las secciones, resultados encuestas, diagrama sistémico; conclusiones…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20640"/>
            <a:ext cx="8675640" cy="66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Qué es el INP? 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</a:rPr>
              <a:t>Usar más lenguaje estándar para presentar el modelo de negocio; lo hablamos varias veces; en el fondo es una organización pública que administra 2 seguros (pensiones y accidentes del trabaj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INP es un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</a:rPr>
              <a:t>organismo autónomo (autónomo?...solo en el sentido administrativo; me imagino que es como la mayoría de las instituciones públicas un “servicio descentralizado”)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que administra el sistema de pensiones de las ex cajas de previsión social, además del seguro de accidentes del trabajo y otros beneficios previsionales y asistenci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Qué productos entrega el INP?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eneficios Previsionales (Pago Pensiones, Atenciones Previsional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ono Recono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caud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dministración del Seguro de Accidentes del Trabajo y Enfermedades  Profesiona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rogramas Sociales.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A quiénes están dirigidos las acciones y beneficios que otorga el INP? 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</a:rPr>
              <a:t>(clie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nsionados de las distintas ex Cajas de Previ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Imponentes INP y AF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mple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Trabajadores dependientes e independ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mpresas y trabajadores afiliados al IN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dultos May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sonas con discapacida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nsionados de Leyes y Programas especia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eneficiarios de Pensiones Asistenciales y Subsidio Único Familiar.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32000" y="189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24000" y="1052640"/>
          <a:ext cx="4392720" cy="1823760"/>
        </p:xfrm>
        <a:graphic>
          <a:graphicData uri="http://schemas.openxmlformats.org/drawingml/2006/table">
            <a:tbl>
              <a:tblPr/>
              <a:tblGrid>
                <a:gridCol w="1149480"/>
                <a:gridCol w="1093680"/>
                <a:gridCol w="1052640"/>
                <a:gridCol w="109692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idad Jurídi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Cent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Reg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ora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340000" y="3213000"/>
          <a:ext cx="4032360" cy="245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3213000"/>
                    <a:ext cx="4032360" cy="2454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79640" y="5812560"/>
            <a:ext cx="490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  <a:ea typeface="Times New Roman"/>
              </a:rPr>
              <a:t>Fuente: Estadísticas SUSESO año 2006, Base Empleadores Abril 200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23960" y="990720"/>
            <a:ext cx="568476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43280" y="2997360"/>
          <a:ext cx="4496040" cy="295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997360"/>
                    <a:ext cx="449604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9600" y="2997360"/>
          <a:ext cx="4676760" cy="295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00" y="2997360"/>
                    <a:ext cx="46767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71640" y="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Verdana"/>
              </a:rPr>
              <a:t>ANÁLISIS COMPARATIVO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47640" y="115920"/>
            <a:ext cx="64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NÁLISIS COMPARATIVO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81080" y="1557360"/>
            <a:ext cx="932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2133720"/>
          <a:ext cx="7978680" cy="2122200"/>
        </p:xfrm>
        <a:graphic>
          <a:graphicData uri="http://schemas.openxmlformats.org/drawingml/2006/table">
            <a:tbl>
              <a:tblPr/>
              <a:tblGrid>
                <a:gridCol w="2714400"/>
                <a:gridCol w="1316160"/>
                <a:gridCol w="1316160"/>
                <a:gridCol w="1315800"/>
                <a:gridCol w="1316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AC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MUT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I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° Empresas adheri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4.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1.3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6.6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416.0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° Trabajadores cubier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668.5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060.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55.8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1.210.8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maño promedio empre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Remuneración imponible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.461.665.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.812.799.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654.249.7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2.594.285.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ngresos Operacionales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32.458.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90.347.6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5.502.6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50.343.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Egresos Operacionales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22.526.8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8.034.5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5.372.8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48.125.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TRODUCCIÓN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907920"/>
            <a:ext cx="8675640" cy="65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Ejes principales del INP: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(qué es un eje; me imagino que se refieren a los 2 negocios o procesos de negocios principales del INP; usar este lenguaje mejor, es más estándar y clar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Prestaciones previsionales vigentes,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Prevención de riesgos y salud labo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Objetivos Estratégicos del INP: </a:t>
            </a:r>
            <a:r>
              <a:rPr b="1" lang="es-CL" sz="1600" spc="-1" strike="noStrike">
                <a:solidFill>
                  <a:srgbClr val="ff3300"/>
                </a:solidFill>
                <a:latin typeface="Verdana"/>
              </a:rPr>
              <a:t>(dividirlos por negoci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Recaudar, conceder y pagar las prestaciones y beneficios previsionales, asistenciales y especi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Asegurar la atención eficaz y oportuna de los usuarios del Instituto, mediante la capacitación, motivación, reconocimiento y mejora en las condiciones laborales de sus trabajadores. 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Fomentar la cultura de prevención de riesgos, ampliando la cobertura de los beneficios de la Ley 16.744 a los trabajadores desprotegidos, a fin de reducir la incidencia de los accidentes del trabajo y enfermedades profesion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Fomentar la integración social de los pensionados adultos mayores, personas con discapacidad y en situación de extrema pobreza, a través de la focalización de programas y beneficios sociales, con la finalidad de mejorar su bienestar. 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Ley Nº 19.744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obre Accidentes de Trabajo y Enfermedades Profesionales</a:t>
            </a: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es-ES" sz="4000" spc="-1" strike="noStrike">
                <a:solidFill>
                  <a:srgbClr val="ff3300"/>
                </a:solidFill>
                <a:latin typeface="Garamond"/>
              </a:rPr>
              <a:t>(no aporta mucho; simplificar al máximo) Usar terminología de “productos” y “servicios”; “atributos distintivos” de amb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52640"/>
            <a:ext cx="867564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ta ley es un seguro social obligatorio contra riesgos del trabajo, que establece los siguientes objetivos: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revenir: Con el propósito de evitar que ocurra el accidente o se contraiga la Enfermedad Profesiona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Otorgar la Atención Médica: para restituir al trabajador en lo posible, TODA su capacidad de trabaj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Otorgar las Prestaciones Económicas: para Repara la pérdida de la capacidad de ganancia del trabajador y sus derecho-habita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habilitar: al trabajador para devolver en todo o en parte sus capacidad de gananc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educar: al afectado para darle posibilidades de desempeñar un nuevo oficio o profesión, considerando su capacidad residual de trabajo. 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guro Social Obligatorio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(los títulos deben ser autocomprensivos; decir algo fácil de entender a la primera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907920"/>
            <a:ext cx="86756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Administració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Seguro es Administrado por el Estado y Organismos Privados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4608360" cy="138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79280" y="3141720"/>
            <a:ext cx="889344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Financiamien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La fuente principal de financiamiento de esta ley son las cotizaciones de cargo del Empleador y que son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tización Básica: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rresponde al 0.95% </a:t>
            </a:r>
            <a:r>
              <a:rPr b="1" lang="es-ES" sz="1300" spc="-1" strike="noStrike">
                <a:solidFill>
                  <a:srgbClr val="ff3300"/>
                </a:solidFill>
                <a:latin typeface="Verdana"/>
              </a:rPr>
              <a:t>(mucho detalles para un análisis de gestión)DE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 LAS REMUNERACIONES IMPONIBLES que se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ancelen a los trabajadores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tización Adicional Diferenciada: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Se cancela en función de la actividad o riesgo de la empresa que oscila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entre el 0.00 y el 3.40% de las remuneraciones que paga el empleador a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sus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trabajadores (Decreto Nº110). Esta cotización puede aumentarse o rebajarse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dependiendo del incremento o disminución de los riesgos, TASA DE RIESGOS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(Decreto Nº173).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Tasa Adicional por Siniestralidad Efectiva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31904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Grava la siniestralidad de las empresas antiguas (Decreto Nº67, Nº días perdidos por accidente laboral / Nº trabajadores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estaciones del seguro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(es estándar este tipo de prestaciones con la industria o hay algo especial; destacarlo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907920"/>
            <a:ext cx="867564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restaciones Méd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Atención Médica, Quirúrgica y Dent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Hospital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Medicamentos y Productos farmacéu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Prótesis y aparatos ortopédicos y su repa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Rehabilitación fí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Reeducación profesional.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restacione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ubsid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Indem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en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12720" indent="-34272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evención de Riesgos, Obligaciones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(vale comentario anterior sobre cómo deben ser los títulos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17680"/>
            <a:ext cx="86756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stado</a:t>
            </a:r>
            <a:r>
              <a:rPr b="1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1" lang="es-CL" sz="1800" spc="-1" strike="noStrike">
                <a:solidFill>
                  <a:srgbClr val="ff3300"/>
                </a:solidFill>
                <a:latin typeface="Verdana"/>
              </a:rPr>
              <a:t>(en general no queda claro el sentido de esta lámina, aclarar mejor en la forma de presenta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upervigilancia y Fiscaliz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Prescribir todas las medidas de Higiene y Segur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7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Mutual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rescribir todas las medidas de higiene y segurid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Aplicar variación de cotización adicion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Realizar actividades permanentes de Prevención de Riesgo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5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3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mple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lantar las medidas de preven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stablecer y mantener al día un Reglamento Interno de Higiene y segurid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stablecer el departamento de Prevención de Riesgos cuando cuenten con más de 100 trabajado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nformar sobre los riesgos laborale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6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4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Trabaj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Cumplir con lo establecido en el reglamento interno de orden higiene y seguridad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Usar y cuidar los elementos de protección personal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Cumplir con las normas e instrucciones impartidas por el servicio de salud, el organismo administrador, el departamento de prevención de riegos o el comité paritario de higiene y seguridad.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TOR ACTIVO INP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125360"/>
            <a:ext cx="867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ector Activo: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Organismo a cargo de la administración de la Ley de Accidentes del Trabajo y Enfermedades Profesionales, en conjunto con el sistema de mutuales privadas, promoviendo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a gestión preventiva al interior de las organizaciones, a fin de minimizar la ocurrencia de eventos de siniestralidad laboral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as funciones básicas que cumplen s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tregar cobertura de salud a los trabajadores en caso de accidentes o enfermedades laborale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Asesorar a los empleadores y trabajadores en prevención de riesgos,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Pagar subsidios o pensiones si un accidente o enfermedad incapacita temporal o permanentemente a un trabajador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DATEP: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CL" sz="1400" spc="-1" strike="noStrike">
                <a:solidFill>
                  <a:srgbClr val="ffffff"/>
                </a:solidFill>
                <a:latin typeface="Verdana"/>
              </a:rPr>
              <a:t>Departamento encargado de gestionar los productos y actividades estratégicas asociados al Rol de Administración del Seguro de accidentes del trabajo y enfermedades profes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08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26920" y="1628640"/>
            <a:ext cx="784872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hlinkClick r:id="rId3" action="ppaction://hlinksldjump"/>
              </a:rPr>
              <a:t>3.   PREV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4581360"/>
            <a:ext cx="136836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5  Peticiones o Reclamos de otros Organism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4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-2124720" y="3429360"/>
            <a:ext cx="4969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125360"/>
          <a:ext cx="8353080" cy="335160"/>
        </p:xfrm>
        <a:graphic>
          <a:graphicData uri="http://schemas.openxmlformats.org/drawingml/2006/table">
            <a:tbl>
              <a:tblPr/>
              <a:tblGrid>
                <a:gridCol w="6827400"/>
                <a:gridCol w="1525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P Sector Ac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ransvers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258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PA DE PROCESO 2º NIVEL:  PREVEN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IÓN (usar lenguaje autocomprensivo; por ej “tasas”???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2421000"/>
            <a:ext cx="129708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2    Prestaciones Preventiv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5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80360" y="1989000"/>
            <a:ext cx="0" cy="4248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99280" y="3141720"/>
            <a:ext cx="432000" cy="431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1989000"/>
            <a:ext cx="0" cy="32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98900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1989000"/>
            <a:ext cx="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989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1989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198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198900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1989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1989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15280" y="35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781360"/>
            <a:ext cx="927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.1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Tas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ff99"/>
                </a:solidFill>
                <a:uFillTx/>
                <a:latin typeface="Arial"/>
                <a:hlinkClick r:id="rId6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4221000"/>
            <a:ext cx="136836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stión de Consulta no Estructur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2349360"/>
            <a:ext cx="1152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3 Prestaciones Médic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7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78136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4Concurr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8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64500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3.7 Atención de Dictame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ff99"/>
                </a:solidFill>
                <a:uFillTx/>
                <a:latin typeface="Arial"/>
                <a:hlinkClick r:id="rId9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479736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8 Atención de Resolucio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0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5229360"/>
            <a:ext cx="122364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9 Salud Ocupac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1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371628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6 Contratación de Servic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2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89080" y="349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rgani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58920" y="816120"/>
          <a:ext cx="6337440" cy="52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816120"/>
                    <a:ext cx="633744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9:41:53Z</dcterms:created>
  <dc:creator>Direcon</dc:creator>
  <dc:description/>
  <dc:language>en-US</dc:language>
  <cp:lastModifiedBy>Jinostroza</cp:lastModifiedBy>
  <dcterms:modified xsi:type="dcterms:W3CDTF">2007-11-15T23:11:04Z</dcterms:modified>
  <cp:revision>10</cp:revision>
  <dc:subject/>
  <dc:title>INTRODUCCIÓN </dc:title>
</cp:coreProperties>
</file>