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8A6F-59EA-42D7-A183-734A8A3E5D5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1140-3B53-405C-82CF-A07F1AEC367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Other examples of ISO work includ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SO film speed rat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98EC-776B-496A-BEB9-DC99842FA21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Other examples of ISO work includ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SO film speed rat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B24B-DB33-42D7-8F45-58FA4D22D12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F4BA-C55C-4CB4-9289-6A19AE2E956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BB13-54AE-45F9-AC33-3F8774B8762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EF51-C695-466E-AB0A-29006464ECD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22C5-382F-426D-AF43-5BFFDD59CEE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A5BB-4F90-4D72-92BD-90FEB90780C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28A2-C8EB-4335-8373-96F6118F29E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Is quality like “beauty”; is it in the eyes of the beholder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TELL: Quality is like oats sto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how the French book on Quality artifacts in the US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do they have other examples to offer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34D2-2D73-4604-8FD9-D14411DE428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Which do you us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Relate these to clauses in ISO 9001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1=Design Control (4.5), Purchasing (4.6) Control of customer-supplied product (4.7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2=Inspection and testing (4.10),(4.11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3=Corrective and preventative action (4.14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4=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5=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0A3F-5B4C-4B35-BE29-97D08A2324C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GIVE: CMM defini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GIVE: ISO defini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E373-D7FD-435F-87C5-FA6253826B4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ADA4-692E-47B5-9A12-4CAF48FF8E4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1A63-D9FB-492B-893A-B26CA14016D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B879-7D1E-49E8-A2EC-79B1C2FF81F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Can anyone offer a positive result achieved from bad quality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-for the custom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-for the suppli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38A7-99F1-47E1-AA2E-4E39BF76564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Just in case the discussion didn’t shake it out: “What specific issues do you have or anticipate in getting to registration?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188A-AD4F-4519-A449-1E386D5542F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011240" y="72864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600080"/>
            <a:ext cx="502920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6244-C66A-4C8E-B34B-1CFAEA6C6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E43B-D247-4284-80F0-0B7ED36B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ADC5-1AAA-4237-B638-C43EFE965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743B-E468-4EB0-A97A-F78C7458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D518F-7132-47AF-BE29-07E0E7C96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D7703-22B1-4664-B527-35D351F0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47627-AFB6-431C-8D65-1A704CF5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BAFBA-73AF-438A-9370-1100CFD4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83460-CA56-4B9B-A072-CA9B39B8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87447-8105-4ADC-9828-5DF8827F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CF048-8C2C-4775-9734-9C88C155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C603-1240-4E4C-9E39-F8752BBC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51530-ED15-43F1-98E6-C7A0D3F9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01E22-F3D3-40F9-8678-CA882795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0C6F1-E231-4422-9C04-CEBDC05B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16270-CA5D-43BB-A3AE-310721AB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CBA07-5D3F-4BD0-9EF6-DF2C4B61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D827-9C22-4148-ADE5-D4C6BBC4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A29F-6FE5-40B6-BDE8-EE024D88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6B78-E61E-4DAF-BA04-AAC25961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6E13-B5F6-4EC6-9D97-709DC19C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91CC-0506-463E-BA04-DC25286B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C13D-D952-47DB-9504-DCDE30BD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5C42-9DFA-495E-BEB5-E5D8211B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FA98-6D69-4FD6-BCC5-784156FFA236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49CA-4776-4073-9966-26EA18EF6D6E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7C68-A412-4F29-81DE-F6199E615EB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inn.cl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 </a:t>
            </a:r>
            <a:br>
              <a:rPr sz="6000"/>
            </a:br>
            <a:r>
              <a:rPr b="0" lang="es-ES_tradnl" sz="36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3933360"/>
            <a:ext cx="7304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1.- Introducción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estándares o modelos usar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xigencias: 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Voluntad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Obligatoriedad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lcance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Toda la organiz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ólo una parte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Foco: 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Product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Proces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Persona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Ámbito de la organización: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oftware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rvici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Electrónica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Etc.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es ISO?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SO - International Organization for Standardization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Fundada en 1946, es una federación mundial de cuerpos de estandarización nacionales 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Su misión es proveer estandarización internacional para facilitar el intercambio mundial de bienes y servici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URL -&gt; http://www.iso.org/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uáles son los principios que guían a ISO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Trebuchet MS"/>
              </a:rPr>
              <a:t>Consenso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Se toman en cuenta los puntos de vista de todos los interesados: fabricantes, vendedores y usuarios, grupos de consumidores, laboratorios de prueba, gobiernos, organizaciones de investigación y profesionales de la ingeniería.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Trebuchet MS"/>
              </a:rPr>
              <a:t>Toda la industria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Soluciones globales para satisfacer industrias y consumidores de todo el mundo. 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Trebuchet MS"/>
              </a:rPr>
              <a:t>Voluntario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La estandardización internacional es del mercado y por lo tanto basada en la implicación voluntaria de todos los intereses en el mercado.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ómo opera la estandarización ISO? (1/4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332000" y="1682640"/>
            <a:ext cx="6164280" cy="4337280"/>
          </a:xfrm>
          <a:prstGeom prst="rect">
            <a:avLst/>
          </a:prstGeom>
          <a:ln w="38160">
            <a:solidFill>
              <a:srgbClr val="000066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ómo opera la estandarización ISO? (2/4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Muchos estándares requieren revisión periódica por muchos factores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Evolución técnic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Nuevos métodos y material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Nuevos requerimientos de seguridad y calidad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ISO estableció la regla general de revisar los estándares a intervalos de a lo más 5 año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A la fecha el trabajo de ISO ha resultado en alrededor de 12.000 estándares internacionales.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ómo opera la estandarización ISO? (3/4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Para temas de Tecnologías de Información ISO trabaja en conjunto con IEC (</a:t>
            </a:r>
            <a:r>
              <a:rPr b="1" lang="es-ES" sz="2800" spc="-1" strike="noStrike">
                <a:solidFill>
                  <a:srgbClr val="003300"/>
                </a:solidFill>
                <a:latin typeface="Trebuchet MS"/>
              </a:rPr>
              <a:t>International Electrotechnical Commission - http://www.iec.ch/).</a:t>
            </a: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instancia se conoce como JTC1- </a:t>
            </a: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Joint Technical Committee 1, Information Technology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Sus estándares se reconocen por el prefijo ISO/IEC.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ómo opera la estandarización ISO? (4/4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El representante de Chile ante ISO es el Instituto Nacional de Normalización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cc00"/>
                </a:solidFill>
                <a:uFillTx/>
                <a:latin typeface="Trebuchet MS"/>
                <a:hlinkClick r:id="rId1"/>
              </a:rPr>
              <a:t>http://www.inn.cl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Chile es miembro Observador, por lo que puede abstenerse de participar en las votaciones, pero va a pasar a ser miembro Participante en </a:t>
            </a:r>
            <a:r>
              <a:rPr b="1" lang="es-ES" sz="2800" spc="-1" strike="noStrike">
                <a:solidFill>
                  <a:srgbClr val="003300"/>
                </a:solidFill>
                <a:latin typeface="Trebuchet MS"/>
              </a:rPr>
              <a:t>JTC 1/SC 34 - Document Description and Processing Languages (http://www.jtc1sc34.org/#wg1)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Ejemplos en Chil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00"/>
                </a:solidFill>
                <a:latin typeface="Trebuchet MS"/>
              </a:rPr>
              <a:t>Homologación ISO 9000:2000 como NCh ISO 9000:2001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Homologación idéntica de estándar ISO/IEC 9126-1  a norma chilena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NCh 2812-1 Ingeniería de software - Calidad de producto - Parte 1: Modelo de calidad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Estándar voluntario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Homologación idéntica de estándar ISO/IEC 17799 a norma chilena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NCh 2777 Tecnología de la información - Código de práctica para la gestión de seguridad de la información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Estándar voluntario para la mayoría de las instituciones pero obligatorio para empresas que prestan servicios de certificación electrónica. 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Generalidades sobre ISO 9000:2000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Revisión de ISO 9001:2000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es ISO 9000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Un conjunto de normas aprobadas y editadas por primera vez en 1987, y reeditadas en 1994 y 2000 por el Comité Técnico 176 para la </a:t>
            </a: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Gestión de la Calidad</a:t>
            </a: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Generalidades sobre ISO 9000:2000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visión de ISO 9001:2000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rebuchet MS"/>
              </a:rPr>
              <a:t>Metodolog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xposición y lectur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rebuchet MS"/>
              </a:rPr>
              <a:t>Evalu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ontrol al final del curs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¿Por qué se habla de certificación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S0 9000:2000 tiene 3 parte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676080" indent="-2599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ISO 9000: Fundamentos y vocabular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76080" indent="-2599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ISO 9001: Requisit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76080" indent="-2599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ISO 9004: Directrices para la mejora del desempeñ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SO 9001:2000 es un estándar cuyo cumplimiento en una organización es certificable por terceras partes de confianza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se certifica? (1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La certificación es para el Sistema de Gestión de la Calidad (SGC), con los alcances definidos para la organización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Toda la empres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Solamente algunos proces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se certifica? (2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l SGC describe las formas de operar de una organización para alcanzar la calidad de sus product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	</a:t>
            </a: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Por eso, como ISO 9001:2000 tiene requisitos para procesos,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rebuchet MS"/>
              </a:rPr>
              <a:t>¡no certifica personas ni productos!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pasa con los servicios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 ISO 90001:2000, cuando se habla de productos también se entiende que se refiere a servicios, si corresponde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beneficios conllevan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Mejor control de la gest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Mejor percepción de los problemas de procedimien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so de la norma como herramienta promocio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Mejor percepción de los problemas de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Mayor facilidad para eliminar los problemas de procedimien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umento de la eficaci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onservación de los clientes actual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umento de satisfacción del client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yuda a captar nuevos trabajador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umento de la presencia en el mercad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ién certifica? (1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mpresas auditoras reconocidas para realizar dicha labor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l reconocimiento internacional de las certificaciones depende del reconocimiento de la empresa que otorga el certificad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Chile son acreditadas por el IN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INN acredita empresas auditoras para realizar las inspecciones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mpresas auditoras inspeccionan empresas para verificar el SGC y entregar certificad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ién certifica? (2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mpresas acreditadas por INN para certificar ISO 9001 en Chil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CESMEC Ltda., División Certificación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SGS ICS Chile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Instituto Colombiano de Normas Técnicas y Certificación, ICONTEC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IRAM (Argentina), Certificación de Sistem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00"/>
                </a:solidFill>
                <a:latin typeface="Trebuchet MS"/>
              </a:rPr>
              <a:t>B.V.Q.I. Chile -&gt; Ha certificado varias empresas de software y TI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AENOR (España), División de Certificación de Sistem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LGAI CHILE S.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LATU Sistemas S.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Quality Management Institute, QMI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TÜV Rheinland Chile S.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SILOB Chile Ltd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Det Norske Verit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Una vez certificado, qué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l SGC debe ser seguido y mantenid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Las empresas auditoras realizan inspecciones de verificación y de re certificación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rebuchet MS"/>
              </a:rPr>
              <a:t>¡La certificación se puede perder!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Datos sobre Chile y el Mundo (1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31" name="Picture 161" descr=""/>
          <p:cNvPicPr/>
          <p:nvPr/>
        </p:nvPicPr>
        <p:blipFill>
          <a:blip r:embed="rId1"/>
          <a:stretch/>
        </p:blipFill>
        <p:spPr>
          <a:xfrm>
            <a:off x="252360" y="2637000"/>
            <a:ext cx="8712360" cy="117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Datos sobre Chile y el Mundo (2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1042920" y="1693800"/>
            <a:ext cx="7058160" cy="481968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6"/>
          <p:cNvSpPr/>
          <p:nvPr/>
        </p:nvSpPr>
        <p:spPr>
          <a:xfrm>
            <a:off x="1258920" y="2492280"/>
            <a:ext cx="194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ahoma"/>
              </a:rPr>
              <a:t>Chile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ahoma"/>
              </a:rPr>
              <a:t>1.124 empresas, 0.14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visión de ISO 9001:2000 con su guía ISO 90003:2004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 Subsidios para llevar a cabo el proyec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242" name="Object 4"/>
          <p:cNvGraphicFramePr/>
          <p:nvPr/>
        </p:nvGraphicFramePr>
        <p:xfrm>
          <a:off x="163440" y="3755880"/>
          <a:ext cx="8815320" cy="157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440" y="3755880"/>
                    <a:ext cx="8815320" cy="15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Rectangle 5"/>
          <p:cNvSpPr/>
          <p:nvPr/>
        </p:nvSpPr>
        <p:spPr>
          <a:xfrm>
            <a:off x="838080" y="2300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Costo de un PROFO para ISO 9000 y CM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ahoma"/>
              </a:rPr>
              <a:t>Valores p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or empresa</a:t>
            </a:r>
            <a:r>
              <a:rPr b="0" lang="es-CL" sz="1800" spc="-1" strike="noStrike">
                <a:solidFill>
                  <a:srgbClr val="000066"/>
                </a:solidFill>
                <a:latin typeface="Tahoma"/>
              </a:rPr>
              <a:t>,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 en UF y cofinanciamiento   60% - 40%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Agente operador: TECNOPYME (ACTI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  <a:ea typeface="Times New Roman"/>
              </a:rPr>
              <a:t> </a:t>
            </a:r>
            <a:br>
              <a:rPr sz="3200"/>
            </a:br>
            <a:r>
              <a:rPr b="1" lang="es-CL" sz="3200" spc="-1" strike="noStrike">
                <a:solidFill>
                  <a:srgbClr val="003300"/>
                </a:solidFill>
                <a:latin typeface="Trebuchet MS"/>
                <a:ea typeface="Times New Roman"/>
              </a:rPr>
              <a:t>Costos estimados por consultores en Chil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00"/>
                </a:solidFill>
                <a:latin typeface="Trebuchet MS"/>
              </a:rPr>
              <a:t>*, **: Precio base para empresas PyME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154080" y="2136600"/>
          <a:ext cx="8704080" cy="20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2136600"/>
                    <a:ext cx="870408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rebuchet MS"/>
              </a:rPr>
              <a:t>Sistemas de Gestión de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Revisión de ISO 9001:2000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¿Qué es la calidad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_tradnl" sz="3200" spc="-1" strike="noStrike">
                <a:solidFill>
                  <a:srgbClr val="000066"/>
                </a:solidFill>
                <a:latin typeface="Trebuchet MS"/>
              </a:rPr>
              <a:t>ISO 8402 define calidad como la totalidad de las características de un producto o servicio para satisfacer las necesidades explícitas e implícitas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¿Cómo podemos alcanzar la calidad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Haciendo las cosas bien al primer inten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i no hacemos las cosas bien la primera vez, removiendo los defectos de manera temprana en el ciclo de produ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eviniendo defect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Haciendo que los individuos se hagan responsables por su propia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to puede requerir que pensemos de una manera diferente sobre lo que hacemos y cómo lo hacem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obando esto en el produc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igiendo la mejor forma de hacer las cos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Satisfacción de las necesidades explícitas e implícit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Trebuchet MS"/>
              </a:rPr>
              <a:t>¡Su cliente!</a:t>
            </a:r>
            <a:endParaRPr b="0" lang="en-US" sz="4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Trebuchet MS"/>
              </a:rPr>
              <a:t>¡Su negocio!</a:t>
            </a:r>
            <a:endParaRPr b="0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95280" y="2062080"/>
            <a:ext cx="4691160" cy="39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omprador extern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660960" indent="-2541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rovee recurs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60960" indent="-2541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cepta el produc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liente intern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660960" indent="-2541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l próximo en el proces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60960" indent="-2541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quipo de marketing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 mercad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jecutivos en la compañ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 la misma organización en cuanto a generar valor y optimizar recursos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¿Qué requiere su cliente en términos de calidad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lientes extern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Valor por el dinero que gast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Que se logren los objetivos plantead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mple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ago jus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Trabajo segur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uando ellos son clientes internos: un buen producto del trabaj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oci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Gananc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Negocios de largo plaz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ocie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Buena ética de negoci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Que los requerimientos legales y sociales se cumpla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¿Cómo entregamos un producto satisfactorio a nuestro cliente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tendiendo los requerimient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dquiriendo un compromis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sarrollando el producto a través de pasos y enlaces en nuestro propio proceso de negoci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n el tiemp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 través de clientes intern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Usando proces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Tomando conciencia de que la calidad y satisfacción del cliente es potencialmente afectada por todas las actividades, pasos, enlaces y proceso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00"/>
                </a:solidFill>
                <a:latin typeface="Trebuchet MS"/>
              </a:rPr>
              <a:t>	</a:t>
            </a:r>
            <a:r>
              <a:rPr b="1" lang="es-ES_tradnl" sz="2000" spc="-1" strike="noStrike">
                <a:solidFill>
                  <a:srgbClr val="ff9900"/>
                </a:solidFill>
                <a:latin typeface="Trebuchet MS"/>
              </a:rPr>
              <a:t>¡La calidad del productos es altamente determinada por la calidad del proceso utilizado para construirlo!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 ¿Qué se quiere evitar con este enfoque? (1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Que nuestro cliente externo piense que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no nos preocup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demasiado car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despreocupad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irresponsabl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no entendemos sus necesidad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poco confiabl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inconsistent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..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 ¿Qué se quiere evitar con este enfoque? (2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Y que a nivel intern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Perdamos dinero, tiempo y recurs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Vivamos estresad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ausemos problemas a otras personas de manera innecesari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Bajemos la moral del equipo ante los fracasos, demoras y sobre trabaj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Motiva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5" name="Puzzle3"/>
          <p:cNvSpPr/>
          <p:nvPr/>
        </p:nvSpPr>
        <p:spPr>
          <a:xfrm rot="5277600">
            <a:off x="5950080" y="2964960"/>
            <a:ext cx="2433600" cy="359568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            </a:t>
            </a: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Certifi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                       </a:t>
            </a: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de l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                    </a:t>
            </a: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proces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uzzle2"/>
          <p:cNvSpPr/>
          <p:nvPr/>
        </p:nvSpPr>
        <p:spPr>
          <a:xfrm rot="5277600">
            <a:off x="2766600" y="3228840"/>
            <a:ext cx="3886200" cy="327636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c66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ac6600"/>
                </a:solidFill>
                <a:latin typeface="Arial"/>
              </a:rPr>
              <a:t>Mejora de los Proces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uzzle4"/>
          <p:cNvSpPr/>
          <p:nvPr/>
        </p:nvSpPr>
        <p:spPr>
          <a:xfrm rot="5277600">
            <a:off x="3041280" y="514440"/>
            <a:ext cx="2341800" cy="418932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Calidad de los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uzzle1"/>
          <p:cNvSpPr/>
          <p:nvPr/>
        </p:nvSpPr>
        <p:spPr>
          <a:xfrm rot="5277600">
            <a:off x="4581720" y="1267560"/>
            <a:ext cx="3933720" cy="249732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Orientación al Valo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j0149481"/>
          <p:cNvPicPr/>
          <p:nvPr/>
        </p:nvPicPr>
        <p:blipFill>
          <a:blip r:embed="rId1"/>
          <a:stretch/>
        </p:blipFill>
        <p:spPr>
          <a:xfrm>
            <a:off x="4383000" y="2608200"/>
            <a:ext cx="2144880" cy="217980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8"/>
          <p:cNvSpPr/>
          <p:nvPr/>
        </p:nvSpPr>
        <p:spPr>
          <a:xfrm>
            <a:off x="782640" y="3257640"/>
            <a:ext cx="2160720" cy="1079280"/>
          </a:xfrm>
          <a:prstGeom prst="wedgeRoundRectCallout">
            <a:avLst>
              <a:gd name="adj1" fmla="val 175421"/>
              <a:gd name="adj2" fmla="val -17060"/>
              <a:gd name="adj3" fmla="val 16667"/>
            </a:avLst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c6600"/>
                </a:solidFill>
                <a:latin typeface="Arial"/>
              </a:rPr>
              <a:t>¿Competitividad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c6600"/>
                </a:solidFill>
                <a:latin typeface="Arial"/>
              </a:rPr>
              <a:t>¿Mercado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br>
              <a:rPr sz="3200"/>
            </a:b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¿Cuáles son los Principios para la Gestión de la Calidad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Enfoque al client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Liderazg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Participación del perso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Trabajo basado en proces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Sistema para la gest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Mejora continu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Manejo de hechos para la toma de decis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Relaciones mutuamente beneficiosas con el proveedor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br>
              <a:rPr sz="3600"/>
            </a:b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¿Cómo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do necesidades y expectativ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Estableciendo política y objetivos de la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do procesos y responsabilidad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do y proporcionando recurs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Estableciendo métodos para medir eficacia y eficienci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Aplicando esas medidas para determinar eficacia y eficienci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do medidas para prevenir no conformidades y eliminar sus caus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Estableciendo y aplicando un proceso de mejora continu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Barreras comunes para este enfoqu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No hay suficiente tiemp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No hay suficiente diner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sólo otra iniciativa en torno a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Realmente no conduce a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Burocratiza las tare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¿Cómo empezamos entonce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Obteniendo un firme compromiso </a:t>
            </a: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en la organiz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Manejándolo como un proyecto en sí mismo, con responsables, presupuesto, metas y plaz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Tomando conciencia de que va a requerir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Adecuar los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proces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Capacitar al personal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Elegir un estándar o modelo</a:t>
            </a: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 para medirl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br>
              <a:rPr sz="3600"/>
            </a:b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Papel de la alta direc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Liderazgo 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+ 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Acciones 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= 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Ambiente adecuado para operar eficazmente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63640" y="2599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El proceso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114" name="Picture 3" descr="bd06929_"/>
          <p:cNvPicPr/>
          <p:nvPr/>
        </p:nvPicPr>
        <p:blipFill>
          <a:blip r:embed="rId1"/>
          <a:stretch/>
        </p:blipFill>
        <p:spPr>
          <a:xfrm>
            <a:off x="179280" y="5013360"/>
            <a:ext cx="3313080" cy="955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j0231444"/>
          <p:cNvPicPr/>
          <p:nvPr/>
        </p:nvPicPr>
        <p:blipFill>
          <a:blip r:embed="rId2"/>
          <a:stretch/>
        </p:blipFill>
        <p:spPr>
          <a:xfrm>
            <a:off x="4067280" y="3645000"/>
            <a:ext cx="2395440" cy="2085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j0237945"/>
          <p:cNvPicPr/>
          <p:nvPr/>
        </p:nvPicPr>
        <p:blipFill>
          <a:blip r:embed="rId3"/>
          <a:stretch/>
        </p:blipFill>
        <p:spPr>
          <a:xfrm>
            <a:off x="2556000" y="1628640"/>
            <a:ext cx="1511280" cy="1251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j0297275"/>
          <p:cNvPicPr/>
          <p:nvPr/>
        </p:nvPicPr>
        <p:blipFill>
          <a:blip r:embed="rId4"/>
          <a:stretch/>
        </p:blipFill>
        <p:spPr>
          <a:xfrm>
            <a:off x="7164360" y="479736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j0238060"/>
          <p:cNvPicPr/>
          <p:nvPr/>
        </p:nvPicPr>
        <p:blipFill>
          <a:blip r:embed="rId5"/>
          <a:stretch/>
        </p:blipFill>
        <p:spPr>
          <a:xfrm>
            <a:off x="6012000" y="1413000"/>
            <a:ext cx="1657080" cy="1455480"/>
          </a:xfrm>
          <a:prstGeom prst="rect">
            <a:avLst/>
          </a:prstGeom>
          <a:ln w="0">
            <a:noFill/>
          </a:ln>
        </p:spPr>
      </p:pic>
      <p:sp>
        <p:nvSpPr>
          <p:cNvPr id="119" name="Line 8"/>
          <p:cNvSpPr/>
          <p:nvPr/>
        </p:nvSpPr>
        <p:spPr>
          <a:xfrm flipH="1">
            <a:off x="5940000" y="2924280"/>
            <a:ext cx="576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3851280" y="2997360"/>
            <a:ext cx="93672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2124000" y="3789360"/>
            <a:ext cx="2016360" cy="57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11"/>
          <p:cNvSpPr/>
          <p:nvPr/>
        </p:nvSpPr>
        <p:spPr>
          <a:xfrm flipV="1">
            <a:off x="3706920" y="5589720"/>
            <a:ext cx="4334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6588000" y="5156280"/>
            <a:ext cx="50328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7307280" y="5948280"/>
            <a:ext cx="103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Mercados y Domini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4859280" y="5805360"/>
            <a:ext cx="103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Proceso Softwar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15" descr="j0197662"/>
          <p:cNvPicPr/>
          <p:nvPr/>
        </p:nvPicPr>
        <p:blipFill>
          <a:blip r:embed="rId6"/>
          <a:stretch/>
        </p:blipFill>
        <p:spPr>
          <a:xfrm>
            <a:off x="7307280" y="3068640"/>
            <a:ext cx="1031760" cy="1039680"/>
          </a:xfrm>
          <a:prstGeom prst="rect">
            <a:avLst/>
          </a:prstGeom>
          <a:ln w="0">
            <a:noFill/>
          </a:ln>
        </p:spPr>
      </p:pic>
      <p:sp>
        <p:nvSpPr>
          <p:cNvPr id="127" name="Line 16"/>
          <p:cNvSpPr/>
          <p:nvPr/>
        </p:nvSpPr>
        <p:spPr>
          <a:xfrm flipH="1">
            <a:off x="6587640" y="3860640"/>
            <a:ext cx="57636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7380360" y="4148280"/>
            <a:ext cx="103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Talento Human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18" descr="j0082287"/>
          <p:cNvPicPr/>
          <p:nvPr/>
        </p:nvPicPr>
        <p:blipFill>
          <a:blip r:embed="rId7"/>
          <a:stretch/>
        </p:blipFill>
        <p:spPr>
          <a:xfrm>
            <a:off x="755640" y="2924280"/>
            <a:ext cx="1195560" cy="12081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9"/>
          <p:cNvSpPr/>
          <p:nvPr/>
        </p:nvSpPr>
        <p:spPr>
          <a:xfrm>
            <a:off x="466560" y="1773360"/>
            <a:ext cx="18241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Modelos de Proces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Proces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6959520" y="765000"/>
            <a:ext cx="18241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Modelos de Referencia de Proces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O Estándar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21"/>
          <p:cNvSpPr/>
          <p:nvPr/>
        </p:nvSpPr>
        <p:spPr>
          <a:xfrm>
            <a:off x="611280" y="4508640"/>
            <a:ext cx="216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Procesos Organizacional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Software Process Improvement (SPI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4365720"/>
            <a:ext cx="836280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00"/>
                </a:solidFill>
                <a:latin typeface="Trebuchet MS"/>
              </a:rPr>
              <a:t>Software Process Improvement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00"/>
                </a:solidFill>
                <a:latin typeface="Trebuchet MS"/>
              </a:rPr>
              <a:t>Enfoque contínuo hacia la mejora del proceso como estrategia clave para la competitividad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37" name="Picture 4" descr="mejora1"/>
          <p:cNvPicPr/>
          <p:nvPr/>
        </p:nvPicPr>
        <p:blipFill>
          <a:blip r:embed="rId1"/>
          <a:stretch/>
        </p:blipFill>
        <p:spPr>
          <a:xfrm>
            <a:off x="900000" y="2127240"/>
            <a:ext cx="7489800" cy="2282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Componentes principales de una iniciativa SPI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7199280" y="443700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Proceso Software Mejorad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11" descr=""/>
          <p:cNvPicPr/>
          <p:nvPr/>
        </p:nvPicPr>
        <p:blipFill>
          <a:blip r:embed="rId1"/>
          <a:stretch/>
        </p:blipFill>
        <p:spPr>
          <a:xfrm>
            <a:off x="0" y="1844640"/>
            <a:ext cx="8686800" cy="3811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es la estandarización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Es la actividad que tiene por objeto establecer, ante problemas reales o potenciales, disposiciones destinadas a usos comunes y repetidos, con el fin de obtener un nivel de ordenamiento óptimo en un contexto dado, que puede ser tecnológico, político o económic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La normalización persigue fundamentalmente tres </a:t>
            </a:r>
            <a:r>
              <a:rPr b="0" lang="es-ES" sz="2400" spc="-1" strike="noStrike">
                <a:solidFill>
                  <a:srgbClr val="ffcc66"/>
                </a:solidFill>
                <a:latin typeface="Trebuchet MS"/>
              </a:rPr>
              <a:t>objetivos</a:t>
            </a: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Trebuchet MS"/>
              </a:rPr>
              <a:t>Simplificación</a:t>
            </a: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: Se trata de reducir los modelos quedándose únicamente con los más necesarios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Trebuchet MS"/>
              </a:rPr>
              <a:t>Unificación</a:t>
            </a: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: Para permitir el intercambio a nivel internacional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Trebuchet MS"/>
              </a:rPr>
              <a:t>Especificación</a:t>
            </a: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: Se persigue evitar errores de identificación creando un lenguaje claro y preciso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80280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Por qué utilizar estándares o modelos en el mundo del software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on indispensables cuando muchas personas, productos y herramientas deben coexistir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ferenciadores de mercad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ermiten la comunicación entre los desarrolladores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Facilitan la implementación de los procesos de desarrollo y mantenimiento del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Facilitan la capacitación del personal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oveen una base para evaluar los diferentes procesos y productos de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yordy</cp:lastModifiedBy>
  <dcterms:modified xsi:type="dcterms:W3CDTF">2008-09-23T16:34:00Z</dcterms:modified>
  <cp:revision>572</cp:revision>
  <dc:subject/>
  <dc:title>ISO 9000 aplicado a software</dc:title>
</cp:coreProperties>
</file>