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move the slid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ED46-19B2-4191-AF2E-674A2123C47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4CF9-2868-4B42-B4AF-E3E68E2997D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9C1E-3AF0-4D21-96FD-7196558C655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9435-D3EB-4048-9BF4-E640F901640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60ED-2079-4756-A586-1EE5B9EC742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8DDA-83FE-4E1F-82C4-1CAD7745BAD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24FB-1249-4F96-A10C-3F277FA7083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NOTE: items a-e with the participan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MM: SPE (b-e), DP (a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1395-3558-4676-A2C5-EC012415005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6FDD-C66C-424A-85D8-9A9CCB296D4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9390-113B-4331-AF3A-CC022A089DF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E40E-17D5-4963-A5C9-D7BCB368922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ISO 9004 gives additional guidan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0D8D-8305-427E-82C1-45E4712E6E3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A144-2B98-4070-BFA2-3D88718A111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NOTE: items a-e with the participan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MM: SPE (b-e), DP (a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3F9B-8FC7-4FA2-A641-E58B9893BE6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445F-95F8-49EC-927C-39929F17DD0B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A431-C6BB-4B21-B0A4-6F74D3D6D620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Later we will define a policy state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E0A8-9A81-4238-A883-7DD111BA74B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693D-F841-4DC2-9D78-1F94F5ECB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426D-4D81-44E1-95A9-6CBC5C54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A015-BF6F-4350-8912-8EB9E820D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5DF4-E429-4A08-9CEF-EF6767E04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ABBA2-82F3-433C-8619-43CC52811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77E1D-27DB-4604-ABFD-70700F80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B6FFA4-2428-41A8-8C97-0AB3FAA3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62517-E05D-4442-8917-25D5CA55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C4050-960C-45C4-8C9E-C512D130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CBCAAD-BBDF-4607-AFF1-0F204F0A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B9C5D8-EFD1-4301-9DF2-69DDF539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C1EF-339E-459B-813E-5E7F41BD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F97CE-9231-47CB-85F0-3760EA88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0BDFD8-0B4E-4EB5-8CD2-DBCDDC25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1F43DD-FD5E-45D4-80F8-B92A4E76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554340-BE82-49F6-A771-C48DA1F99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94162-9071-4497-A36E-F23EE35CF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791A-E41C-4E5C-AC9F-8EBC3373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C49C-D21A-484F-BBC8-66B15EA2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1E42-B94D-4533-9CD7-49EB0462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3433-56D7-4DC5-9C9E-98414569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214B-6A23-49D3-853F-2AF9E215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964A-97D0-463C-9F61-C5AFC888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FE52-B210-42AC-A7AB-646671B0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7C8F-4366-44C9-8CEA-48D796DB68B7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6866-2DD8-4C2E-8466-451370C017EB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DE29-0BA2-4E74-96F5-492646EB03C0}" type="slidenum">
              <a:rPr b="1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BAF9-E4DB-4AD5-B0B0-7C0962CAF122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200" spc="-1" strike="noStrike">
                <a:solidFill>
                  <a:srgbClr val="000066"/>
                </a:solidFill>
                <a:latin typeface="Trebuchet MS"/>
              </a:rPr>
              <a:t>ISO 9000</a:t>
            </a:r>
            <a:br>
              <a:rPr sz="5400"/>
            </a:br>
            <a:r>
              <a:rPr b="1" lang="es-ES_tradnl" sz="4800" spc="-1" strike="noStrike">
                <a:solidFill>
                  <a:srgbClr val="000066"/>
                </a:solidFill>
                <a:latin typeface="Trebuchet MS"/>
              </a:rPr>
              <a:t>Aplicaciones para Software</a:t>
            </a:r>
            <a:endParaRPr b="1" lang="en-US" sz="48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03280" y="5013000"/>
            <a:ext cx="6400800" cy="12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Julio Ariel Hurtado Alegrí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Diplomado en Gestión de Calidad de Software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Departamento de Ciencias de la Computación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iversidad de Chile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Sugerencias para definir una política de calidad (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2/2)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ntrene y oriente a todo el personal para asegurarse de que la política es entendid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nvite a la discusión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Busque el compromiso de tod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cluya la política en todo los documentos y entrenamientos clave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Use la política como una línea de base de referencia para las revisiones de la gest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ea estratégico y agresiv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mplo: Política de calidad de la empresa AQSOF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AQSOFT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Nosotros satisfacemos las expectativas de todos nuestros clientes, cada vez – sin importar si es un cliente de AQSOFT o un cliente interno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El objetivo de AQSOFT</a:t>
            </a: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es implementar procedimientos para evitar defectos durante el proceso de diseño y desarrollo, más que detectarlos y corregirlos después de la implementación. </a:t>
            </a: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AQSOFT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 está comprometida además con el concepto de mejora continua de la calidad, con el objeto de alcanzar mayor calidad durante la fase de desarrollo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mplo: Política de calidad de la empresa Dybox (1/2)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00"/>
                </a:solidFill>
                <a:latin typeface="Trebuchet MS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rebuchet MS"/>
              </a:rPr>
              <a:t>En Dybox nuestro fin es lograr un posicionamiento como proveedor de soluciones de calidad, a la vanguardia en tecnología, en base al crecimiento sustentable de la empresa y nuestro principal activo, las personas.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Trebuchet MS"/>
              </a:rPr>
              <a:t>Entregamos valor al cliente, satisfaciendo sus requerimientos explícitos e implícitos, analizando su problema desde donde se origina para entregar una solución integral.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mplo: Política de calidad de la empresa Dybox (2/2)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905120"/>
            <a:ext cx="8218440" cy="461952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Para lograr esto, se definen los siguientes puntos: 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1.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Abrir espacios para la investigación de nuevas tecnologías, técnicas, métodos y herramientas de desarrollo. 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2.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Integrar al cliente como un participante activo en el proceso productivo e identificar adecuadamente su problema, definiendo en conjunto la mejor solución posible que satisfaga sus requerimientos y expectativas. 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3.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Asegurar la excelencia profesional de las personas de Dybox, por la vía del desarrollo y gestión de sus competencias. 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4.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Permitir la creación de vías de comunicación abiertas, que hagan partícipe a las personas de Dybox en la mejora de procesos, aprovechando sus capacidades y creatividad. 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5.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Incentivar un ambiente laboral agradable, en un clima de respeto, compromiso y cooperación mutua. 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6.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Velar por el mejoramiento y correcto funcionamiento del Sistema de Gestión de la Calidad, reflejando este interés hacia nuestros clientes y la industria. 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7.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Mejorar de forma continua nuestro proceso de producción, entregando productos y servicios de excelencia.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8229600" cy="13842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mplo: Política de calidad de la empresa KEPLER Technology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656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KEPLER Technology se compromete con la mejora continua y el esfuerzo conjunto de todo su personal para la satisfacción de las necesidades y expectativas de sus clientes relacionadas con el logro de proyectos exitoso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Desarrollamos proyectos cuya calidad supera la media de mercado, implantando en todos ellos prácticas de calidad y observando siempre los principios de la empresa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rcicio 3: Política y objetivos de la calidad de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1" i="1" lang="es-ES" sz="4000" spc="-1" strike="noStrike">
                <a:solidFill>
                  <a:srgbClr val="ff9900"/>
                </a:solidFill>
                <a:latin typeface="Trebuchet MS"/>
              </a:rPr>
              <a:t>Sea Wicker Store 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Redacte una Política de la Calidad para la empresa Sea Wicker Store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Adecuada al propósito de la empres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Con compromiso de cumplir los requisitos y mejorar continuamente el SGC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Que sirva como marco de referencia para los objetivos de la calidad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6. Gestión de los recurso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6.1 Provisión de recurs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6.2 Recursos human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6633"/>
                </a:solidFill>
                <a:latin typeface="Trebuchet MS"/>
              </a:rPr>
              <a:t>Generalidades</a:t>
            </a:r>
            <a:endParaRPr b="0" lang="en-US" sz="24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6633"/>
                </a:solidFill>
                <a:latin typeface="Trebuchet MS"/>
              </a:rPr>
              <a:t>Competencia, toma de conciencia y formación</a:t>
            </a:r>
            <a:endParaRPr b="0" lang="en-US" sz="2400" spc="-1" strike="noStrike">
              <a:solidFill>
                <a:srgbClr val="996633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6.3 Infraestructur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6.4 Ambiente de trabaj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Las personas: ¿Cómo determinar la calificación necesaria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1. Identificar habilidades necesarias en la organiz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2. Identificar habilidades disponibl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3. Determinar la diferencia entre lo necesario y lo disponib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4. Acortar esa brech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5. Evaluar los efectos de dichas accion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omo las organizaciones y los clientes tienen necesidades cambiantes, la educación continua se transforma en una actividad para la organización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Los planes de entrenamiento se deben revisar periódicamente para asegurar que van en la línea de las necesidades del negocio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Tipos de entrenamiento para el personal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Dominio funcional del product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Proceso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Cultura y valor del negoci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…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Por qué podría haber un déficit de ciertas habilidades en la Organización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ersonal es nuevo en la organiza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ersonal es asignado a nuevas actividades en la organiza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ersonal no ha desarrollado satisfactoriamente sus actividades actuale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l proceso definido ha sido actualizad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Nuevas herramientas y métodos están siendo usado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De la clase anterior…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n Sistema de gestión de la calidad (SGC) incluye todas las fases en el ciclo de vida de un producto y sus procesos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e estructura a partir de la definición de las responsabilidades y autoridades, organización, recursos, el desarrollo y mantención de procedimientos de opera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ocumentación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Manual de calidad – para la organiza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Procedimientos – para las person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Instrucciones de trabajo – para los detalles requerid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gistros – evidencia y memoria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La infraestructura y el ambiente de trabaj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Trebuchet MS"/>
              </a:rPr>
              <a:t>La organización debe determinar, proporcionar y mantener la infraestructura necesaria para lograr la conformidad con los requisitos del producto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Trebuchet MS"/>
              </a:rPr>
              <a:t>Igualmente, debe determinar y gestionar el ambiente de trabajo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Sugerencias a considerar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tablecer y mantener procedimientos para identificar necesidades de entrenamiento, infraestructura y ambiente de trabaj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Proveer entrenamiento para todo el personal que realiza actividades que afectan la 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rcicio 4: Recursos necesarios para operar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1" i="1" lang="es-ES" sz="4000" spc="-1" strike="noStrike">
                <a:solidFill>
                  <a:srgbClr val="ff9900"/>
                </a:solidFill>
                <a:latin typeface="Trebuchet MS"/>
              </a:rPr>
              <a:t>Sea Wicker Store 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La empresa está dividida en tres áreas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Relación con client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Operacion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Desarroll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¿Cuál es el perfil que debe tener el personal en términos de educación, formación, habilidades y experiencia?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rcicio 5: Recursos necesarios para operar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1" i="1" lang="es-ES" sz="4000" spc="-1" strike="noStrike">
                <a:solidFill>
                  <a:srgbClr val="ff9900"/>
                </a:solidFill>
                <a:latin typeface="Trebuchet MS"/>
              </a:rPr>
              <a:t>Sea Wicker Store 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¿Qué otro tipo de recursos son necesarios en términos de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infraestructura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ambiente de trabajo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rcicio 6: Procesos relevantes en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1" i="1" lang="es-ES" sz="4000" spc="-1" strike="noStrike">
                <a:solidFill>
                  <a:srgbClr val="ff9900"/>
                </a:solidFill>
                <a:latin typeface="Trebuchet MS"/>
              </a:rPr>
              <a:t>Sea Wicker Store 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¿Cuáles son los procesos más importantes para el trabajo de la empresa, vista desde cada una de sus áreas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Relación con client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Operacion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Desarroll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Mantenimien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7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7. Realización del product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1 Planificación de la realización d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2 Procesos relacionados con el client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3 Diseño y desarroll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4 Compra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5 Producción y prestación del servici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6 Control de los dispositivos de seguimiento y de medición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7.1 Planificación de la realización del product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La Organización debe planificar y desarrollar los procesos necesarios para la realización del producto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l plan de un nuevo proyecto debería incluir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oles, responsabilidades y calificaciones necesari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iseño y desarrollo de actividades a desarrollar, incluyendo revisiones, verificaciones y validacion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cursos requerid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Ventanas de tiempo para comienzos y cumplimiento de hit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ondiciones bajo las cuales el plan es actualizad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Actualización de la planificación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Los cambios no pueden preverse pero deben ser manejados; si no lo son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El diseño y el desarrollo se transforman en vulnerables al desempeño del personal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Puede ser imposible rastrear qué cambios han sido aceptados o implementado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Si los planes no se actualizan durante el diseño y el desarrollo, los planes pueden no representar lo que es necesario hacer para satisfacer los requerimiento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Se pueden producir errores de interpretación acerca de las actividades; incluso éstas pueden ser olvidada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Trebuchet MS"/>
              </a:rPr>
              <a:t>¡Si los planes no se actualizan no hay un plan real!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1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tor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ulio Ariel Hurtado jhurtado@dcc.uchile.cl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asado en el material previo d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erónica Achá Alvarez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primeras versiones de este material se basaron en el curso </a:t>
            </a:r>
            <a:r>
              <a:rPr b="0" i="1" lang="es-CL" sz="1400" spc="-1" strike="noStrike">
                <a:solidFill>
                  <a:srgbClr val="000000"/>
                </a:solidFill>
                <a:latin typeface="Trebuchet MS"/>
              </a:rPr>
              <a:t>ISO 9001 INTERPRETADO PARA ORGANIZACIONES DE SOFTWARE</a:t>
            </a: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 dictado en Chile por Ronald Radice (rradice@stt.com) en septiembre de 1998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versiones a partir de 2008 incluyen la experiencia ganada en la implementación de procesos en las PyMEs de software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900000" y="4435560"/>
            <a:ext cx="1117800" cy="5205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4"/>
          <p:cNvSpPr/>
          <p:nvPr/>
        </p:nvSpPr>
        <p:spPr>
          <a:xfrm>
            <a:off x="2190600" y="4003560"/>
            <a:ext cx="579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sta presentación está bajo una licencia Creative Commons del tipo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1" lang="es-ES" sz="1200" spc="-1" strike="noStrike">
                <a:solidFill>
                  <a:srgbClr val="ffffff"/>
                </a:solidFill>
                <a:latin typeface="Trebuchet MS"/>
              </a:rPr>
              <a:t>Atribución-NoComercial-LicenciarIgual 2.0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, y por tanto algunos derechos están reservados. Para un resumen de la licencia visite la siguiente dirección: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http://www.creativecommons.cl/cc/deeds/by-nc-sa.html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n síntesis, usted es libre de copiar, distribuir, exhibir y ejecutar esta presentación, y de generar otras presentaciones basadas en ésta, siempre que se mantenga y muestre el nombre y email del autor, de manera explícita en cada reproducción u obra derivada, y no se remueva esta diapositiva de la presentació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rebuchet MS"/>
              </a:rPr>
              <a:t>Revisión de ISO 9001:2000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 con las recomendaciones de ISO 90003:2004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5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5.</a:t>
            </a: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Responsabilidad de la direc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5.1 Compromiso de la direc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5.2 Enfoque al cliente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5.3 Política de la calidad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5.4 Planifica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Objetivos de la calidad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Planificación del SGC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5.5 Responsabilidad, autoridad y comunica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Responsabilidad y autoridad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Representante de la dirección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Comunicación interna 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5.6 Revisión por la direc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Generalidades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Información para la revisión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Resultados de la revisión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600"/>
            </a:b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La Dirección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poya la iniciativ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rovee apoyo visib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e y documenta la polític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segura que la política es entendida en todos los niveles de la organiz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e autoridades y responsabilidad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signa personal entrenado y calificad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Nombra el representante de la Direc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rovee los recursos necesari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jecuta revisiones de la cal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iesgo de no tener revisiones de la Dirección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La Dirección puede ser vista com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No preocupada realmente por la calidad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Problema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</a:t>
            </a: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</a:t>
            </a: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n 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l SGC quedan ocultos a la Direc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Las acciones correctivas se toman (demasiado) tarde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iesgo potencial de perder diner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i los niveles directivos correctos no están en las revision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Puede ocurrir erosión de la moral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e puede desintegrar el SGC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es una política de la calidad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na definición documentada de los objetivos y compromisos de la Gerencia para alcanzar la calidad en la organización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00"/>
                </a:solidFill>
                <a:latin typeface="Trebuchet MS"/>
              </a:rPr>
              <a:t>La política es el marco de referencia, los objetivos se establecen en coherencia con ese marc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Proporcionan un punto de referencia para dirigir la organiz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Determinan los resultados desead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Ayudan a dirigir el uso de recurs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Política y objetivos de la calidad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La política de calidad debería ser relevante para las metas de la organización, y las expectativas y necesidades de los cliente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Una política documentada es necesaria pero no suficiente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Debe ser conocida, entendida y valorad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Debe ser practicad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Debe ser integral a la organización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Sugerencias para definir una política de calidad (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1/2)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Mantenga la política breve pero clar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Establezca los compromisos de la Gerenci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Provea un conjunto de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objetivo</a:t>
            </a: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ncluya una mención de cómo la organización intenta alcanzar esos objetiv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 hay múltiples mensajes sobre la calidad, asegúrese de que son consistentes entre si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cluya la política en el manual de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l nivel gerencial más alto debe firmar la polític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1:56:17Z</dcterms:created>
  <dc:creator>Verónica Achá</dc:creator>
  <dc:description/>
  <dc:language>en-US</dc:language>
  <cp:lastModifiedBy>yordy</cp:lastModifiedBy>
  <dcterms:modified xsi:type="dcterms:W3CDTF">2008-09-23T16:35:19Z</dcterms:modified>
  <cp:revision>480</cp:revision>
  <dc:subject/>
  <dc:title>ISO 9000 aplicado a software</dc:title>
</cp:coreProperties>
</file>