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8CA-D6BE-42DE-907F-F5A62FB1CE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3EB-9FAB-4D93-85AC-0685BA497C6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3E94-613A-4995-ACB5-6B49CD28B1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E5B-B441-470A-9BD8-1694E124AF7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8DF-F936-4917-B751-80B84F00CD2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2CD-296B-42CC-A844-9FD9E54E317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0E4-3E1D-4757-B473-7519E681E78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181-29BF-410B-BFD9-A071ACC43D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4EA6-1528-41EC-A6A4-35D6A16592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720C-231A-4048-AFA0-31A96DA37E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21F-A8E7-4ABA-A439-6945D1ACA78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AAA3-C06C-4144-BA71-44D0DF9D853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E87-06D8-482E-949D-EF3FC201B53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23F-61DD-435F-A4BB-0727DEBBFC2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9EC-91CE-4A13-A161-18FD5423A3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3437-D949-412A-9E23-64ADAA10AE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F45-D66D-472E-A22F-9D91E9C1E6E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203-972D-4FF7-AEA2-49044CC8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4B7-B233-4A45-A271-81C0168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0F0-BFDD-4676-8C93-245A2E7A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F0E-743C-4F57-A5EE-F56BF1EC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A29DA-A365-4F63-8114-0A56E085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577A9-02A8-4972-A4D1-97FF8D1F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F621-B5CB-4598-8EF4-B9B6B97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A6D72-0221-41E1-B0EB-79F30977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A019A-E85F-4C83-8F62-DD17D88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43CB-1AA4-41E8-AF91-2CAC5A2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FEA1-1523-4FC4-AB17-AA23D3F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0C3-02F2-4FC7-88D0-121816A4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69D0A-3715-4FE1-A53A-74AE1C1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A90EB-ED21-4D0C-9307-3025A58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C409-E986-408D-8AB5-BCBB8AD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1F318-E82A-4DBD-BEB6-B1A2225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0A598-D826-4220-91E8-BF1BEE6E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EAF-0A58-4FF2-A883-4F8ACED6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C62-276E-45DC-818F-E09E152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205-C960-4565-9638-549643C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C5C-FEB4-447C-BDF4-047488C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A8-028A-473C-B559-595B949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ADD-4132-4110-B805-453E403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9D7-3244-4523-8788-3F17CC7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66B-E4A2-471E-8687-D952CED6612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A20-235B-44F4-84E4-A6045857DA4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C6D-9785-4091-B010-6AEEF8783BB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5FC-C37A-4FAD-9067-3332C0369B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on condiciones controlada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soldadura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locidad de descarga de páginas en un sitio web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sempeño para la entrega de resultados de consultas a una base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eza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4076640"/>
            <a:ext cx="7993080" cy="2016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00Z</dcterms:modified>
  <cp:revision>517</cp:revision>
  <dc:subject/>
  <dc:title>ISO 9000 aplicado a software</dc:title>
</cp:coreProperties>
</file>