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F32F-02BA-45F6-9542-B673CE4A96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34DE-3127-4139-BC72-0B22E7F422F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130D-F5E1-407D-8B6D-C64A8DDDFDB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D12E-3FD6-4BED-BE78-10FF4BF4CB5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A331-261B-44DE-9408-B034C81A0AB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9CC5-9391-468B-B30A-F594276390F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7BA8-3456-4CD2-8F5C-9461133163F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3419-B263-4D57-BE63-A821FA7FD6A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20CD-615A-44CB-B1F7-D059234FD89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D5B2-3E91-46E9-AB1D-7B0BDAEA1DB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6474-5C10-4EE3-BE16-6EAF8A7E9B7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26F7-6F33-4FB4-B3C7-DA287D8B22D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AC76-32D2-41C3-8673-DC50080E67B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A221-52C0-491F-AFD8-6334DDEAD3B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5CB2-D966-4840-AD23-E067309DF98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AU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mmendations, if the auditee requested them and the auditors ag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710A-9AA6-4541-B3A9-7AB002F7644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59FB-7E37-49B1-83BE-4140FA1361D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08CD-5FD0-4504-A847-F536CF788FA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E0E-84FE-42A1-B963-EE887F7B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E357-F407-4674-AF6C-4B0B14F4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ABD-49EA-4FB1-952A-08929117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DF9-A44B-494D-96BE-556BFA2E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2E970-5B09-4E17-BF63-C98782CE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3B756-0C1A-4783-95A2-D61322FF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0EB7E-E431-42E6-8835-4D5419E9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68CAB-3A3C-447D-BDED-9A4D39AA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0551B-785E-4443-A631-64A89744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A6008-31F0-4038-BD61-51A56472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3960C-E062-4DA2-9FC4-12A3D5C3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1B6-38E6-4647-A3B9-EA62AC2C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BFC07-FE86-474B-92E8-E6CE1BBF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DD7FD-550C-482A-88F7-F87426A9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01207-2C4F-411A-86C1-55F5C444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A55E9-569C-4437-8CAB-5B46DCDE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E6607-026E-43C5-8045-8F7DEC2E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030-0DA0-424B-A2F1-7F8CE58E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DAA-C0BF-428C-B97A-1BCF9AA8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482-0D64-4399-90AA-C96C14DB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4E5-18C8-4DE4-92D9-83EE51AF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F5B-0E99-4FE8-B288-49BC7225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3B2-E7E8-4928-8F11-32364490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FD91-10C9-4DAA-ADFC-9DCECD3E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A719-BDEC-4AD3-90C9-72240DF3D8E5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1E1E-79CC-4D46-980F-F91F8E16A63F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C2CE-AB13-49A8-8995-7CEE9792D78C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C171-AF3E-4939-9D3E-45EBF31BBE0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Procesos de Análisis y adquisición de requerimientos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523880" y="1981080"/>
            <a:ext cx="6172200" cy="3049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Análisis y adquisición de requerimientos (S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523880" y="236232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IR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Determinar y establecer un conjunto completo, consistente y coherente de requisitos exigidos a un software dentro de un proyect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1679400" y="3068640"/>
            <a:ext cx="6132240" cy="2722320"/>
            <a:chOff x="1679400" y="3068640"/>
            <a:chExt cx="6132240" cy="2722320"/>
          </a:xfrm>
        </p:grpSpPr>
        <p:sp>
          <p:nvSpPr>
            <p:cNvPr id="143" name="Oval 6"/>
            <p:cNvSpPr/>
            <p:nvPr/>
          </p:nvSpPr>
          <p:spPr>
            <a:xfrm>
              <a:off x="1679400" y="4972320"/>
              <a:ext cx="1468800" cy="71100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99"/>
                </a:gs>
              </a:gsLst>
              <a:lin ang="27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1757160" y="5013720"/>
              <a:ext cx="13730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6633"/>
                  </a:solidFill>
                  <a:latin typeface="Arial"/>
                </a:rPr>
                <a:t>Ingreso de requisitos a la línea de bas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2435040" y="3238920"/>
              <a:ext cx="1468800" cy="709560"/>
              <a:chOff x="2435040" y="3238920"/>
              <a:chExt cx="1468800" cy="709560"/>
            </a:xfrm>
          </p:grpSpPr>
          <p:sp>
            <p:nvSpPr>
              <p:cNvPr id="146" name="Oval 9"/>
              <p:cNvSpPr/>
              <p:nvPr/>
            </p:nvSpPr>
            <p:spPr>
              <a:xfrm>
                <a:off x="2435040" y="323892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99"/>
                  </a:gs>
                </a:gsLst>
                <a:lin ang="27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Text Box 10"/>
              <p:cNvSpPr/>
              <p:nvPr/>
            </p:nvSpPr>
            <p:spPr>
              <a:xfrm>
                <a:off x="2503800" y="339480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Recolec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8" name="Group 11"/>
            <p:cNvGrpSpPr/>
            <p:nvPr/>
          </p:nvGrpSpPr>
          <p:grpSpPr>
            <a:xfrm>
              <a:off x="6006960" y="3286440"/>
              <a:ext cx="1468800" cy="709200"/>
              <a:chOff x="6006960" y="3286440"/>
              <a:chExt cx="1468800" cy="709200"/>
            </a:xfrm>
          </p:grpSpPr>
          <p:sp>
            <p:nvSpPr>
              <p:cNvPr id="149" name="Oval 12"/>
              <p:cNvSpPr/>
              <p:nvPr/>
            </p:nvSpPr>
            <p:spPr>
              <a:xfrm>
                <a:off x="6006960" y="3286440"/>
                <a:ext cx="1468800" cy="70920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99"/>
                  </a:gs>
                </a:gsLst>
                <a:lin ang="27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Text Box 13"/>
              <p:cNvSpPr/>
              <p:nvPr/>
            </p:nvSpPr>
            <p:spPr>
              <a:xfrm>
                <a:off x="6075720" y="3441960"/>
                <a:ext cx="137304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Análisis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14"/>
            <p:cNvGrpSpPr/>
            <p:nvPr/>
          </p:nvGrpSpPr>
          <p:grpSpPr>
            <a:xfrm>
              <a:off x="5270760" y="5081400"/>
              <a:ext cx="1468800" cy="709560"/>
              <a:chOff x="5270760" y="5081400"/>
              <a:chExt cx="1468800" cy="709560"/>
            </a:xfrm>
          </p:grpSpPr>
          <p:sp>
            <p:nvSpPr>
              <p:cNvPr id="152" name="Oval 15"/>
              <p:cNvSpPr/>
              <p:nvPr/>
            </p:nvSpPr>
            <p:spPr>
              <a:xfrm>
                <a:off x="5270760" y="508140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99"/>
                  </a:gs>
                </a:gsLst>
                <a:lin ang="27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Text Box 16"/>
              <p:cNvSpPr/>
              <p:nvPr/>
            </p:nvSpPr>
            <p:spPr>
              <a:xfrm>
                <a:off x="5339520" y="523728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Negocia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4" name="Line 17"/>
            <p:cNvSpPr/>
            <p:nvPr/>
          </p:nvSpPr>
          <p:spPr>
            <a:xfrm>
              <a:off x="3957480" y="3535920"/>
              <a:ext cx="200304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4424400" y="3198960"/>
              <a:ext cx="87768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Line 19"/>
            <p:cNvSpPr/>
            <p:nvPr/>
          </p:nvSpPr>
          <p:spPr>
            <a:xfrm flipH="1">
              <a:off x="6389640" y="4080600"/>
              <a:ext cx="383400" cy="98100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Text Box 20"/>
            <p:cNvSpPr/>
            <p:nvPr/>
          </p:nvSpPr>
          <p:spPr>
            <a:xfrm>
              <a:off x="6583680" y="4241520"/>
              <a:ext cx="122796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infactibles, inconsistentes o incoherent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V="1">
              <a:off x="6159600" y="4016160"/>
              <a:ext cx="398880" cy="9345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Text Box 22"/>
            <p:cNvSpPr/>
            <p:nvPr/>
          </p:nvSpPr>
          <p:spPr>
            <a:xfrm>
              <a:off x="5341320" y="4319640"/>
              <a:ext cx="8766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 flipH="1">
              <a:off x="3208320" y="5429160"/>
              <a:ext cx="198900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24"/>
            <p:cNvSpPr/>
            <p:nvPr/>
          </p:nvSpPr>
          <p:spPr>
            <a:xfrm flipV="1">
              <a:off x="2486520" y="3991320"/>
              <a:ext cx="439920" cy="9208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Text Box 25"/>
            <p:cNvSpPr/>
            <p:nvPr/>
          </p:nvSpPr>
          <p:spPr>
            <a:xfrm>
              <a:off x="1679400" y="4118760"/>
              <a:ext cx="101088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Incompletitud de la líne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de bas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Line 26"/>
            <p:cNvSpPr/>
            <p:nvPr/>
          </p:nvSpPr>
          <p:spPr>
            <a:xfrm flipH="1">
              <a:off x="2828520" y="3844440"/>
              <a:ext cx="3195720" cy="11494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Text Box 27"/>
            <p:cNvSpPr/>
            <p:nvPr/>
          </p:nvSpPr>
          <p:spPr>
            <a:xfrm>
              <a:off x="3798000" y="4040280"/>
              <a:ext cx="8089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Text Box 28"/>
            <p:cNvSpPr/>
            <p:nvPr/>
          </p:nvSpPr>
          <p:spPr>
            <a:xfrm>
              <a:off x="3863520" y="5029200"/>
              <a:ext cx="808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Line 29"/>
            <p:cNvSpPr/>
            <p:nvPr/>
          </p:nvSpPr>
          <p:spPr>
            <a:xfrm>
              <a:off x="2174040" y="3068640"/>
              <a:ext cx="343800" cy="2865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Text Box 30"/>
          <p:cNvSpPr/>
          <p:nvPr/>
        </p:nvSpPr>
        <p:spPr>
          <a:xfrm>
            <a:off x="6539040" y="5715000"/>
            <a:ext cx="216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uente: Modelo EVA – CEI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. Brav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sarrolle un procedimiento para la especificación de requerimiento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Título incluyendo seguimiento o códig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F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ivel de revis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esignación de autoridad y responsabi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ista de distribu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Propósi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plicabi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escripción del proce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Cuando sea apropiado: técnicas estadísticas a utilizar y factores ambienta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Firma autorizad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equisitos de registro de calidad asoci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9: Desarrolle un procedimiento para la especificación de requerimiento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no conformidades potenciales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acciones (apropiadas) para eliminar sus causas y prevenir su ocurrenci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istema de gestión de la calidad: Requisi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900000" y="1341360"/>
            <a:ext cx="7272360" cy="49690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851000" y="141300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SG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1044720" y="1700280"/>
            <a:ext cx="7056360" cy="4464000"/>
          </a:xfrm>
          <a:prstGeom prst="ellipse">
            <a:avLst/>
          </a:prstGeom>
          <a:solidFill>
            <a:srgbClr val="008000">
              <a:alpha val="3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328560" y="227664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Medición, análisis y mej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Oval 10"/>
          <p:cNvSpPr/>
          <p:nvPr/>
        </p:nvSpPr>
        <p:spPr>
          <a:xfrm>
            <a:off x="1763640" y="2924280"/>
            <a:ext cx="2808360" cy="1800000"/>
          </a:xfrm>
          <a:prstGeom prst="ellipse">
            <a:avLst/>
          </a:prstGeom>
          <a:solidFill>
            <a:srgbClr val="ffff99">
              <a:alpha val="20000"/>
            </a:srgbClr>
          </a:solidFill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Responsabilida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de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direc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Oval 11"/>
          <p:cNvSpPr/>
          <p:nvPr/>
        </p:nvSpPr>
        <p:spPr>
          <a:xfrm>
            <a:off x="3203640" y="4005360"/>
            <a:ext cx="2808360" cy="1800000"/>
          </a:xfrm>
          <a:prstGeom prst="ellipse">
            <a:avLst/>
          </a:prstGeom>
          <a:solidFill>
            <a:srgbClr val="ffff99">
              <a:alpha val="20000"/>
            </a:srgbClr>
          </a:solidFill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Gestión de 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recur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Oval 12"/>
          <p:cNvSpPr/>
          <p:nvPr/>
        </p:nvSpPr>
        <p:spPr>
          <a:xfrm>
            <a:off x="4211640" y="2781360"/>
            <a:ext cx="2808360" cy="1800000"/>
          </a:xfrm>
          <a:prstGeom prst="ellipse">
            <a:avLst/>
          </a:prstGeom>
          <a:solidFill>
            <a:srgbClr val="ffff99">
              <a:alpha val="20000"/>
            </a:srgbClr>
          </a:solidFill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Realización d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produ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Objetivo del diagnóstico de la ca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eterminar la conformidad o no conformidad del SGC con los requisitos especific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valuar la efectividad del SGC establecido para el logro de los objetivos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Verificar el cumplimiento del programa de calidad de acuerdo con las regulaciones establecid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ar al auditado la oportunidad de perfeccionar su SGC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son las auditorí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xámenes sistemáticos e independientes que se planifican y ejecutan usando procedimientos escritos y listas de chequeo para determinar si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sigue el sistema de gestión de calidad plane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fectivamente se ha implementando el pla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han alcanzando los objetivos de calidad defini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ueden ser internas o extern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Definicion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Evidenci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Registros, declaraciones de hech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Criterios de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Conjunto de políticas, procedimientos o requisitos utilizados como referenci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Hallazgos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Resultados de la evaluación de la evidencia de la auditoría recopilada rente a los criterios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Conclusiones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Resultado de una auditoría que proporciona el equipo auditor tras considerar los objetivos de la auditoría y todos los hallazg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Conformidad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cumplimiento de un requisit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No conformidad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incumplimiento de un requisit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Defecto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incumplimiento de un requisito asociado a un uso previsto o especificad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Inspección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evaluación de la conformidad por medio de observación y dictamen, acompañada cuando sea apropiado de medición, ensayo/prueba, comparación de patron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son las auditorías internas? (1/3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auditorías internas o de primera parte son auditorías que ocurren antes de la auditoría para registro y entre las auditorías de supervisión, usando a auditores de calidad entren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odos los elementos y procesos del SGC deben ser auditados y evaluados internamente de manera regular, considerand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gramar la auditorí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alizar la auditoría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por personal independiente a las actividades o áreas auditadas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formar los result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plicar acciones correc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son las auditorías internas? (2/3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visar: documentos aplicables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onfirmar: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laboración de documentos según códigos, normas, requisitos y especifica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probación, distribución, modificación, utilización y conservación de la document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Verificar y evalua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Fiabilidad e integridad de la inform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onformidad con la política general, planes, procedimientos y regula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Utilización eficaz de los recurs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plicación y seguimiento de procedimientos e instruc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umplimiento de los objetivos y propósitos de calidad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fectividad del SGC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son las auditorías internas? (3/3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requie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Hacerlas visi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lanificarlas con el jefe de proye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cluirlas en la planificación y el desarrollo del proyecto de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ignar auditores que sean independientes al proyecto audit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fina y asigne responsables para las acciones correc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ga las acciones correc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Use ISO 10011, la cual provee lineamientos para auditar sistemas de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igne auditores que tengan experiencia en desarrollo de softwar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Documentación de auditoría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cedimiento organizativ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bjetivo y alcanc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é debe hacers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ién lo hará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Cuán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ónd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Cóm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ocumentos que se utiliza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Materiales y equip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Cómo se controla y registr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Gestión de programa de auditorí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Función independiente, por personas calificadas y con experienci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stablecer procedimientos y salvaguardar la confidenci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alizarlas por requisito regulatorio, cambios en el SGC, control de cumplimiento y efectividad del SGC, verificar implantación de acciones correctivas, etc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4533840" cy="233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Auditorías extern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ipo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Segunda part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: un cliente o alguien de otro grupo requiere una auditoría del proveedor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Tercera part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: un proveedor decide alcanzar el registro de satisfacción con los requisitos de ISO 9000 y encarga una auditoría para registro a una tercera parte (incluye las auditorías de seguimiento)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un plan de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e los objetivos y alcances de la auditorí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el plan que el auditor seguirá durante el proceso, indican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Miembros del equip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Fech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Unidades que serán audit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Tiempo estimado para las principales activ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Cronograma de reuniones con personal de la organiza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erimientos de confidencial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istribución del reporte final y fecha de entreg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pasa durante l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visan la documentación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vistan al personal sobre la política de calidad, el SGC, y los registros de calidad relacionados a las actividades que desarrollan, y la forma como hacen su trabaj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eguntan al personal sobre ciertos documentos y registros de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 todas las cláusulas de ISO 9001 y verifican que el SGC los cumple;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las auditorías de revisión sólo toman un sub conjunto de dichas cláusul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ostienen reuniones de pre y post auditoría con los gerentes para establecer las expectativas y presentar los resultad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hace seguimiento de las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hace define una muestra par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recomienda tomar de 3 a 7 muestras de documentos (no típicos) de cada clas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uando encuentre una desviación, tome muestras adicionales para comprobar si es algo genéric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probabilidad de encontrar desviaciones, sin considerar el número total de documentos en la empresa, considerando una tasa estimada de no conformidades del 50% es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64000" y="1905120"/>
          <a:ext cx="2705400" cy="4144680"/>
        </p:xfrm>
        <a:graphic>
          <a:graphicData uri="http://schemas.openxmlformats.org/drawingml/2006/table">
            <a:tbl>
              <a:tblPr/>
              <a:tblGrid>
                <a:gridCol w="1435320"/>
                <a:gridCol w="1270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uest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b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7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86,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93,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96,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98,4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&gt; 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 es le proceso de rastreo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rebuchet MS"/>
              </a:rPr>
              <a:t>Punto profundo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: seleccione un área aparentemente débi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rebuchet MS"/>
              </a:rPr>
              <a:t>Seguimiento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: comience al principio o al final del proceso, siga desde un documento dado hasta los asociados, o vaya desde los procedimientos a los reportes y de los reportes a los procedimient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hace la comprobación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Control de procesos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: revise los documentos para evaluar el cumplimiento con especificaciones, procedimientos e instruccion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Verificar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e se siguen los pasos establecidos en el Manual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e los documentos se completan como es debi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e se hacen las actualizacion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principales cosas que un auditor externo buscará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niveles alto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Tienen un plan de calidad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on distribuid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atisface el SGC los requerimientos de ISO 9001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otros niveles revisarán el SGC contra las cláusulas de ISO 9001 y tratará de determinar su nivel de aplic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stá el gerente de calidad firmando y fechando el reporte de evaluación del proveedor para indicar su aprobación o rechaz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xiste un programa de auditorías en que se identifique que cada sección del Manual sea auditada al menos una vez al añ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Mantiene el gerente de calidad un registro de control de desviaciones donde se identifica el Nº de desviación, fecha, etc.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mejorar continuamente la eficacia del SGC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 de lista de verificación para auditorí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1503360" y="2284560"/>
            <a:ext cx="6138720" cy="228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En qué consisten las entrevist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busca verificar si el personal conoce sus responsabilidades establecidas en el Manual de la Calidad, y conocer que es lo que está realmente haciendo y por quié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ipos de pregunta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usted una corrección en la especificación de requisit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la evaluación del personal subcontratad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unque no cuenta con una especificación para usar el software de gestión de configuración, usted sabe como acceder a una pieza de código para trabajar en ella, ¿No es así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informan los resultado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porte de las no conformidad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ay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existe suficiente evidencia de que la organización no satisface los requisitos del estánda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en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se descubren algunas debilidades, por ejemp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antigua versión del documento en us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Un defecto potencial de desempeño o en la documentación fue observado y se puede transformar en un problem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notó un problema de calibr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inconsistencia en la documen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identificó que una parte de la cláusula no se practica de manera extendid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 de contenido de reporte de no-conform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Número (y revisión, si es necesario)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ema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Organización / proceso auditad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Auditor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Quién fue contactado cuando se encontró una no-conform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cita del requerimiento de la ISO 9001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cómo el hallazgo fue determinado y verificad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aracterísticas específicas del hallazg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ndicadores de estado de cada hallazg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Acción tomada cuando la no-conformidad es cerrad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tan larga es un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ípicamente puede tomar entre 3 y 5 días, pero puede ser más larga o más cort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duración varía según el alcance, tamaño de la organización, número de auditores y criticidad de los product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responsabilidades de la organización bajo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nformar al personal sobre los objetivos y alcance de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ender los objetivos de la auditoría y con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signar personal para acompañar al auditor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oveer acceso a las personas, documentos y evidencias obje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oveer soporte logístico: salas, teléfono, impresora, fotocopiador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omprometer al grupo que va a trabajar con los auditor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ooperar y no interferir con los auditor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sponder a las no conformidades con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responsabilidades de los auditore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ermanecer sensibles a los propósitos de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inimizar la des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vitar conflicto y debates, siendo verás y objetiv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er el trabajo de manera profesional, evitando juicios personales y comentarios no relevant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er el trabajo comple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ablecer hechos, presentando no conformidades que demuestren desviaciones o irregularidades, particularmente las crític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 recomendar acciones correc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deben manejar las acciones correctiv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las causas de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omar acciones para corregir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y cómo se puede prevenir el problema para que no vuelva a ocurri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una acción preliminar puede ser tomad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las acciones de solución son necesarias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ar la historia para detectar desde cuando la no conformidad exis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ar preparados para tener la auditoría de seguimiento preferentemente a las dos semanas siguientes de la fecha de terminación de las acciones correc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hay en el reporte final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sumen ejecutivo de los alcances, objetivos, hallazgos y detalles del plan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efectividad del SGC en relación con los objetivos definidos para la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y explicación de cada no conform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querimiento de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las fortalezas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dentificación de los documentos utilizados durante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juicio sobre el grado de cumplimiento de la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lista de distribución del reporte de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Documentación de las auditorí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grama calendari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 de auditorí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ista de cheque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forme de 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lla de no conformidad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lla de solicitud de acciones correctiv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formes de auditorías de seguimien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Control de las 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correc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tomar acciones para eliminar la causa de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revisar las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que no se repit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los resultados de las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dich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preven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acciones (apropiadas)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determinar no conformidades potenciales y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prevenir ocurrencia de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resultados de l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a considerar para control de producto no-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procedimientos para controlar y asegurar el uso no intencionado o instalación de productos no conformes, cuando éstos son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que y separe productos no conform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e y registre todas las instancias de no conform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tifique a todos los interesados en las no conformidades, incluyendo 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Riesgo de no revisar el uso o reparación propues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 realizar una revisión de problemas con el cliente cuando se requieren revisiones por contrato, es una violación al contra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TA: Este requerimiento no es aplicable a menos que aparezca en el contra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as acciones correctivas no son verificadas, la deficiencia puede persistir aun cuando se perciba como resuelt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acciones correctivas por si mismas pueden introducir nuevos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sobre las acciones correctiv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se todas las fuentes de información sobre no conformidades para eliminar las posibles caus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fina los procedimientos a seguir para la prevención efectiv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jecute las acciones y asegúrese de que son ef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administración debe involucrarse en las acciones preventivas ya que se puede requerir recursos especial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termine cuáles problemas son candidatos para acciones preven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as acciones preventivas no son iniciadas y no se asegura su efectividad, no se podrá prevenir la ocurrencia de la no conformidad con otro client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Modelo de desarrollo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9 procesos: 5 de Ingeniería de Software y 4 de Gestión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dquisición y análisis de requerimientos (SR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nálisis y diseño de arquitectura (SAA&amp;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mplementación de componentes (SCI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esting de componentes (SCT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stalación de software (SC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Planificación de proyectos (SPP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guimiento y control de proyectos (SPT&amp;O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de configuración (SCM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seguramiento de calidad (SQ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32" name="Text Box 4"/>
          <p:cNvSpPr/>
          <p:nvPr/>
        </p:nvSpPr>
        <p:spPr>
          <a:xfrm rot="5400000">
            <a:off x="7090200" y="2965680"/>
            <a:ext cx="191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Ingeniería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5"/>
          <p:cNvSpPr/>
          <p:nvPr/>
        </p:nvSpPr>
        <p:spPr>
          <a:xfrm rot="10800000">
            <a:off x="6933960" y="266400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6"/>
          <p:cNvSpPr/>
          <p:nvPr/>
        </p:nvSpPr>
        <p:spPr>
          <a:xfrm rot="5400000">
            <a:off x="7246080" y="5020920"/>
            <a:ext cx="175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Gestión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 rot="10800000">
            <a:off x="6933960" y="46483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7:29Z</dcterms:modified>
  <cp:revision>564</cp:revision>
  <dc:subject/>
  <dc:title>ISO 9000 aplicado a software</dc:title>
</cp:coreProperties>
</file>