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91F-A55D-4D11-81BA-72FFD74E683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131E-306F-4F8D-9795-372D8AE97C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AU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mmendations, if the auditee requested them and the auditors ag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D79F-10AF-47C6-8850-B268E9F074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FB75-4769-4FEC-8CEF-5761EAC0E64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3C2D-A95D-4E8C-A1CB-902B65000F4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E008-2572-4D0C-81D4-3E855CF17F9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3C4-E977-4429-9082-2B6A5130600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3CD-D23F-4FD0-81E8-D5E2D1EF453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13A-4409-4A66-8BC6-76E7BA44E5F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ADCA-75B8-45E9-B20E-F4CAB89F4F3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229B-00F7-4A19-8F8C-E3AE49ACB17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6D44-CD2C-4738-BA9E-340E69AE1A6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C2C-5AC6-450D-8A42-B2502A79EA7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BBB4-1829-473E-835B-FEAD8CAAD0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9F5B-8C29-49CA-B29C-25ADC5EE687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1FD5-823A-4DD3-892E-234D51BF60B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939-5C15-47B0-86CD-265DA55FFC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152A-C699-46C3-B18F-F0D0CE4BED0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DE9-3BCA-4B27-9712-69E1972C39F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BFFE-0B64-48A9-87EC-BCC53B34888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515-26D9-4288-896B-09D245ACEC9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B72-FDCC-4328-ACBA-613169FA5AF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3D26-4491-4E06-8C10-552FD05D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FE6-CA41-46E1-92E0-59865626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07D-53CB-49E9-80C7-B58F9CE1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3DA4-8CD6-4E19-996D-CF3C333C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4563E-E4E9-4FCA-84AE-8F373CF4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18A44-5692-4BC3-9A91-BD581E6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FC857-1005-40C6-B8B7-B6AD2F8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F0C16-8516-4243-9BA6-74D4633D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A067F-23D9-456B-B41E-C76AFE72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794A5-D36C-4B06-989B-71C04AEA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7B6B2-AF1D-480E-B226-F4DD28C3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78EF-97D2-4720-8214-5F1DB93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CFE16-D7FB-43BD-8B0D-9B624B35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A2B8-E2D2-4DB7-A6CC-3897A66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940B9-5963-4B2F-B7DC-98E9676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09BD6-9850-477E-A20C-4BB1A4404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0C2F-7161-4A84-A045-CAE9F1B4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163B-98DE-4F5B-A43A-8AF0ABDC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CCA-5305-4FBF-8C28-E7570EA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823-255D-4B5E-9E18-F7A1FB2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BC6-03C9-4901-97CD-C97248C7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DB3-2145-414F-95DC-BAAF806D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FD1-1715-4755-ADC1-B96A7024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10E-AC6A-4136-B88D-350D9E40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60D5-3719-4302-B953-C2B923ACBDA5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3949-0047-4311-85C6-9730874A262F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EBA3-6066-4325-BFAD-8BBD73D275F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C4E-5C48-4B8C-8A85-E5C9A28BE22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hay en el reporte final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sumen ejecutivo de los alcances, objetivos, hallazgos y detalles del plan de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efectividad del SGC en relación con los objetivos definidos para la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y explicación de cada no conform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requerimiento de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declaración de las fortalezas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Identificación de los documentos utilizados durante la audito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 juicio sobre el grado de cumplimiento de la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a lista de distribución del reporte de auditoría</a:t>
            </a: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WS va a desarrollar un software para control de asistencia del personal de plantas de proceso de empresas salmoner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l software no es muy sofisticado así que será usado por lo(a)s operario(a)s cada vez ingresen o salgan de la sala de proceso, donde deberán marcar su entrada o salid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atributos / subatributos son los más relevantes desde el punto de vista de ello(a)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10. Perfil de Calidad para SWS-Asistenci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905120"/>
          <a:ext cx="822960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daptabilidad a la platafor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Instal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82f47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pasa durante l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Revisan la documentación del SGC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vistan al personal sobre la política de calidad, el SGC, y los registros de calidad relacionados a las actividades que desarrollan, y la forma como hacen su trabajo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Preguntan al personal sobre ciertos documentos y registros de calidad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Toman todas las cláusulas de ISO 9001 y verifican que el SGC los cumple;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las auditorías de revisión sólo toman un sub conjunto de dichas cláusul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ostienen reuniones de pre y post auditoría con los gerentes para establecer las expectativas y presentar los resultad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hace seguimiento de las acciones corr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uáles son las principales cosas que un auditor externo buscará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niveles alto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Tienen un plan de calidad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on distribuid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Satisface el SGC los requerimientos de ISO 9001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otros niveles revisarán el SGC contra las cláusulas de ISO 9001 y tratará de determinar su nivel de aplic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stá el gerente de calidad firmando y fechando el reporte de evaluación del proveedor para indicar su aprobación o rechaz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Existe un programa de auditorías en que se identifique que cada sección del Manual sea auditada al menos una vez al añ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Mantiene el gerente de calidad un registro de control de desviaciones donde se identifica el Nº de desviación, fecha, etc.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En qué consisten las entrevist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busca verificar si el personal conoce sus responsabilidades establecidas en el Manual de la Calidad, y conocer que es lo que está realmente haciendo y por quié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ipos de preguntas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usted una corrección en la especificación de requisitos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¿Cómo hace la evaluación del personal subcontratad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unque no cuenta con una especificación para usar el software de gestión de configuración, usted sabe como acceder a una pieza de código para trabajar en ella, ¿No es así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informan los resultado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porte de las no conformidad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ay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existe suficiente evidencia de que la organización no satisface los requisitos del estánda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enores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: donde se descubren algunas debilidades, por ejempl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antigua versión del documento en us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observó un defecto potencial de desempeño o en la documentación y se puede transformar en un problem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notó un problema de calibr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encontró una inconsistencia en la documen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identificó que una parte de la cláusula no se practica de manera extendida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tan larga es una auditoría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Típicamente puede tomar entre 3 y 5 días, pero puede ser más larga o más cort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 duración varía según el alcance, tamaño de la organización, número de auditores y criticidad de los product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Cómo se deben manejar las acciones correctivas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las causas de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Tomar acciones para corregir las no conform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y cómo se puede prevenir el problema para que no vuelva a ocurri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una acción preliminar puede ser tomad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terminar si las acciones de solución son necesarias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visar la historia para detectar desde cuando la no conformidad exis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tar preparados para tener la auditoría de seguimiento preferentemente a las dos semanas siguientes de la fecha de terminación de las acciones correctiv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40Z</dcterms:modified>
  <cp:revision>460</cp:revision>
  <dc:subject/>
  <dc:title>ISO 9000 aplicado a software</dc:title>
</cp:coreProperties>
</file>