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7234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72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584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998280" y="728280"/>
            <a:ext cx="4862520" cy="36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Trebuchet MS"/>
              </a:rPr>
              <a:t>Click to move the slide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584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01ACF-3C27-4284-864B-C9914C04E7F3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60C13-B3FA-441D-82F2-5C4C8E779F2D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995400" y="72720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CAUTION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Recommendations, if the auditee requested them and the auditors agre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FEFB1-A9D5-4F5E-9239-BB70DDBD139F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996840" y="728640"/>
            <a:ext cx="4864320" cy="364824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14400" y="4619160"/>
            <a:ext cx="502920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056F2-1FEF-4E51-A409-91958026C26A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996840" y="728640"/>
            <a:ext cx="4864320" cy="364824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14400" y="4619160"/>
            <a:ext cx="5029200" cy="43750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 algn="just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FF45F-A8C9-4B8C-9418-8A6C6EBE393C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996840" y="728640"/>
            <a:ext cx="4864320" cy="364824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14400" y="4619160"/>
            <a:ext cx="502920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E9C1A-8219-43FC-9E74-9146C4CA1723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996840" y="728640"/>
            <a:ext cx="4864320" cy="364824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14400" y="4619160"/>
            <a:ext cx="502920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35B6E-935F-45F7-B230-C4191C27090F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996840" y="728640"/>
            <a:ext cx="4864320" cy="364824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14400" y="4619160"/>
            <a:ext cx="502920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EE432-3FDE-452B-BE42-154378C8767E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996840" y="728640"/>
            <a:ext cx="4864320" cy="364824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14400" y="4619160"/>
            <a:ext cx="502920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B0506-D250-4CAB-933E-631CC6FE6DDD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996840" y="728640"/>
            <a:ext cx="4864320" cy="364824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14400" y="4619160"/>
            <a:ext cx="502920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59F90-E548-4BF0-A40B-036DE55D98FB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996840" y="728640"/>
            <a:ext cx="4864320" cy="364824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14400" y="4619160"/>
            <a:ext cx="502920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1EF3B-78CD-4AD5-BCC2-E43C18955087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996840" y="728640"/>
            <a:ext cx="4864320" cy="364824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14400" y="4619160"/>
            <a:ext cx="502920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F7027-6525-4858-92DC-29EB556E6E3A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996840" y="728640"/>
            <a:ext cx="4864320" cy="364824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14400" y="4619160"/>
            <a:ext cx="502920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A1990-6BBD-45C3-8453-C89B13FE28EA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996840" y="728640"/>
            <a:ext cx="4864320" cy="364824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14400" y="4619160"/>
            <a:ext cx="502920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246B7-FAD1-41D3-936F-FD5633B40BC8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996840" y="728640"/>
            <a:ext cx="4864320" cy="364824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14400" y="4619160"/>
            <a:ext cx="502920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D0CDA-39EA-42B1-A131-E585FCA8BB39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996840" y="728640"/>
            <a:ext cx="4864320" cy="364824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14400" y="4619160"/>
            <a:ext cx="502920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945F6-3349-45F4-B620-EC4B0E9633E7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996840" y="728640"/>
            <a:ext cx="4864320" cy="364824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14400" y="4619160"/>
            <a:ext cx="502920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77020-08FC-4BCE-8CBD-D67130A5C1D1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996840" y="728640"/>
            <a:ext cx="4864320" cy="364824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14400" y="4619160"/>
            <a:ext cx="502920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05258-3902-4D9D-A101-7F4C49C9B1A8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995400" y="72720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EA63B-671A-4A52-A4A2-17C4E7C74D73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995400" y="72720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FBB69-3E97-4921-99C3-55EEDCB0BEE5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995400" y="72720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093CF-3E4E-49DC-91CF-7DFC5871D750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995400" y="72720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71D97-2573-4D47-8396-4B0D166101C5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995400" y="72720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D6BEC-B72B-403D-96B7-D8A1C90A8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A0DD3-62C4-4591-A27B-05FCA959E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0F769-BDDC-4F00-AA49-CF87D1099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BC0CF-3B61-4C2F-A5A0-F73118BC5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7E2B75-07A0-450F-BC93-66D1DE3B8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6BF205-2DA9-469A-A745-63B2823ED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D005F1-206E-44F5-8798-F82D97077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45FA71-94DB-49B2-B59C-803C9D27B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5109F3-F1A4-442F-A3A7-D0A9DE2D1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663064-98C2-4DCF-9631-845049B81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826AA2-8CD3-456E-AFC7-E968EF40E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ED727-268D-45F3-82EB-08003A858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B500CF-378C-4957-B283-4B152C1F6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61980F-A063-40E5-9843-066F20B18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C64A9E-B67B-4E22-9E4C-5F585A34D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81763E-F803-4836-A16D-1C69107C5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85F46D-2243-4BD0-BEE2-E6C40E228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6396C-2D58-40E1-A2F0-18408045F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FB9A5-02DF-48D3-B829-7E5B048B0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D6246-CE45-4E32-A138-B580D6A8A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9C34D-1C30-496C-8E56-734FF8B9D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15C11-0844-4E54-9606-1F4E27870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6CD72-68F5-4470-8FCF-646D084AD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2FC59-5A07-4830-88CF-5D0753347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Trebuchet MS"/>
              </a:rPr>
              <a:t>Click to edit the title text format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1" marL="735480" indent="-282960">
              <a:spcBef>
                <a:spcPts val="7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3" marL="1584000" indent="-226080">
              <a:spcBef>
                <a:spcPts val="799"/>
              </a:spcBef>
              <a:buClr>
                <a:srgbClr val="996633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s-ES" sz="12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s-ES" sz="12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3DF1A-A11A-40A3-9A89-C0CD968EAAC7}" type="slidenum">
              <a:rPr b="1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7"/>
          <p:cNvSpPr/>
          <p:nvPr/>
        </p:nvSpPr>
        <p:spPr>
          <a:xfrm>
            <a:off x="8229600" y="650700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92749-B914-42FA-9972-1991BB1D85C8}" type="slidenum">
              <a:rPr b="1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Text Box 8"/>
          <p:cNvSpPr/>
          <p:nvPr/>
        </p:nvSpPr>
        <p:spPr>
          <a:xfrm>
            <a:off x="8229600" y="650700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6A96E-AA70-49DD-89E5-7049F4D8474D}" type="slidenum">
              <a:rPr b="1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Trebuchet MS"/>
              </a:rPr>
              <a:t>Click to edit the title text format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1" marL="735480" indent="-282960">
              <a:spcBef>
                <a:spcPts val="7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3" marL="1584000" indent="-226080">
              <a:spcBef>
                <a:spcPts val="799"/>
              </a:spcBef>
              <a:buClr>
                <a:srgbClr val="996633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98CFE-9557-4F0C-A57B-FEA5F2751786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0" spc="-1" strike="noStrike">
                <a:solidFill>
                  <a:srgbClr val="000066"/>
                </a:solidFill>
                <a:latin typeface="Trebuchet MS"/>
              </a:rPr>
              <a:t>ISO 9000</a:t>
            </a:r>
            <a:br>
              <a:rPr sz="4400"/>
            </a:br>
            <a:r>
              <a:rPr b="0" lang="es-ES_tradnl" sz="4000" spc="-1" strike="noStrike">
                <a:solidFill>
                  <a:srgbClr val="000066"/>
                </a:solidFill>
                <a:latin typeface="Trebuchet MS"/>
              </a:rPr>
              <a:t>Aplicaciones para Software</a:t>
            </a:r>
            <a:endParaRPr b="1" lang="en-US" sz="40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22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Julio Ariel Hurtado Alegría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Diplomado en Gestión de Calidad de Software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Departamento de Ciencias de la Computación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Universidad de Chile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¿Qué hay en el reporte final?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Un resumen ejecutivo de los alcances, objetivos, hallazgos y detalles del plan de auditoría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Una declaración de efectividad del SGC en relación con los objetivos definidos para la calidad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Una declaración y explicación de cada no conformidad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Un requerimiento de acciones correctivas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Una declaración de las fortalezas del SGC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Identificación de los documentos utilizados durante la auditoría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Un juicio sobre el grado de cumplimiento de la auditoría</a:t>
            </a: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Una lista de distribución del reporte de auditoría</a:t>
            </a: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3300"/>
                </a:solidFill>
                <a:latin typeface="Trebuchet MS"/>
              </a:rPr>
              <a:t>ISO 9000 Aplicaciones para Software</a:t>
            </a:r>
            <a:endParaRPr b="1" lang="en-US" sz="40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solidFill>
            <a:srgbClr val="010199"/>
          </a:solidFill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00"/>
                </a:solidFill>
                <a:latin typeface="Trebuchet MS"/>
              </a:rPr>
              <a:t>Programa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Introducción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Generalidades sobre ISO 9000:2000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Sistemas de Gestión de la Calidad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Revisión de ISO 9001:2000 con las recomendaciones de ISO 90003:2004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Auditorías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9900"/>
                </a:solidFill>
                <a:latin typeface="Trebuchet MS"/>
              </a:rPr>
              <a:t>Estándar de productos: ISO/IEC 9126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ISO/IEC 9126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ISO/IEC 9126 es un estándar de calidad de productos compuesto por 4 partes.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22200" indent="-32220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00"/>
                </a:solidFill>
                <a:latin typeface="Trebuchet MS"/>
              </a:rPr>
              <a:t>ISO/IEC 9126 Parte 1 describe un modelo de dos partes para calidad de productos de software: 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lvl="1" marL="698400" indent="-26856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00"/>
                </a:solidFill>
                <a:latin typeface="Trebuchet MS"/>
              </a:rPr>
              <a:t>a) calidad interna y externa, y 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698400" indent="-26856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00"/>
                </a:solidFill>
                <a:latin typeface="Trebuchet MS"/>
              </a:rPr>
              <a:t>b) calidad en uso. 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marL="322200" indent="-32220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El objetivo es abarcar todos los aspectos que pueden afectar a la calidad de los productos de software.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22200" indent="-32220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00"/>
                </a:solidFill>
                <a:latin typeface="Trebuchet MS"/>
              </a:rPr>
              <a:t>Existe un equivalente chileno - NCh 2812-1.c2002 - que es una homologación idéntica de la norma original hecha por el INN.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ISO/IEC 9126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00"/>
                </a:solidFill>
                <a:latin typeface="Trebuchet MS"/>
              </a:rPr>
              <a:t>El estándar internacional posee otras tres partes con carácter de reportes técnicos (aún no son estándares propiamente tales):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ISO/IEC TR 9126-2 </a:t>
            </a:r>
            <a:r>
              <a:rPr b="0" lang="es-ES" sz="2400" spc="-1" strike="noStrike">
                <a:solidFill>
                  <a:srgbClr val="333300"/>
                </a:solidFill>
                <a:latin typeface="Trebuchet MS"/>
              </a:rPr>
              <a:t>Software engineering - Product quality - Part 2: External metrics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ISO/IEC TR 9126-3 </a:t>
            </a:r>
            <a:r>
              <a:rPr b="0" lang="es-ES" sz="2400" spc="-1" strike="noStrike">
                <a:solidFill>
                  <a:srgbClr val="333300"/>
                </a:solidFill>
                <a:latin typeface="Trebuchet MS"/>
              </a:rPr>
              <a:t>Software engineering - Product quality - Part 3: Internal metrics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ISO/IEC TR 9126-4 </a:t>
            </a:r>
            <a:r>
              <a:rPr b="0" lang="es-ES" sz="2400" spc="-1" strike="noStrike">
                <a:solidFill>
                  <a:srgbClr val="333300"/>
                </a:solidFill>
                <a:latin typeface="Trebuchet MS"/>
              </a:rPr>
              <a:t>Software engineering - Product quality - Part 4: Quality in use metrics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250560" y="1904760"/>
            <a:ext cx="8569080" cy="4763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45" name="Text Box 2"/>
          <p:cNvSpPr/>
          <p:nvPr/>
        </p:nvSpPr>
        <p:spPr>
          <a:xfrm>
            <a:off x="855720" y="2275200"/>
            <a:ext cx="2928600" cy="703800"/>
          </a:xfrm>
          <a:prstGeom prst="rect">
            <a:avLst/>
          </a:prstGeom>
          <a:solidFill>
            <a:srgbClr val="1cb7d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rebuchet MS"/>
              </a:rPr>
              <a:t>Necesidad de calidad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rebuchet MS"/>
              </a:rPr>
              <a:t>del usuari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Text Box 3"/>
          <p:cNvSpPr/>
          <p:nvPr/>
        </p:nvSpPr>
        <p:spPr>
          <a:xfrm>
            <a:off x="774360" y="4047120"/>
            <a:ext cx="2864520" cy="703800"/>
          </a:xfrm>
          <a:prstGeom prst="rect">
            <a:avLst/>
          </a:prstGeom>
          <a:solidFill>
            <a:srgbClr val="1cb7d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rebuchet MS"/>
              </a:rPr>
              <a:t>Requisitos de calida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rebuchet MS"/>
              </a:rPr>
              <a:t>extern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Text Box 4"/>
          <p:cNvSpPr/>
          <p:nvPr/>
        </p:nvSpPr>
        <p:spPr>
          <a:xfrm>
            <a:off x="853920" y="5845680"/>
            <a:ext cx="2864520" cy="703800"/>
          </a:xfrm>
          <a:prstGeom prst="rect">
            <a:avLst/>
          </a:prstGeom>
          <a:solidFill>
            <a:srgbClr val="1cb7d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rebuchet MS"/>
              </a:rPr>
              <a:t>Requisitos de calida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rebuchet MS"/>
              </a:rPr>
              <a:t>intern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Text Box 5"/>
          <p:cNvSpPr/>
          <p:nvPr/>
        </p:nvSpPr>
        <p:spPr>
          <a:xfrm>
            <a:off x="6927120" y="2137320"/>
            <a:ext cx="1194120" cy="703800"/>
          </a:xfrm>
          <a:prstGeom prst="rect">
            <a:avLst/>
          </a:prstGeom>
          <a:solidFill>
            <a:srgbClr val="ffa5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rebuchet MS"/>
              </a:rPr>
              <a:t>Calidad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rebuchet MS"/>
              </a:rPr>
              <a:t>en us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Text Box 6"/>
          <p:cNvSpPr/>
          <p:nvPr/>
        </p:nvSpPr>
        <p:spPr>
          <a:xfrm>
            <a:off x="6977520" y="3897720"/>
            <a:ext cx="1177560" cy="703800"/>
          </a:xfrm>
          <a:prstGeom prst="rect">
            <a:avLst/>
          </a:prstGeom>
          <a:solidFill>
            <a:srgbClr val="ffa5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rebuchet MS"/>
              </a:rPr>
              <a:t>Calida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rebuchet MS"/>
              </a:rPr>
              <a:t>extern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Text Box 7"/>
          <p:cNvSpPr/>
          <p:nvPr/>
        </p:nvSpPr>
        <p:spPr>
          <a:xfrm>
            <a:off x="7007400" y="5839200"/>
            <a:ext cx="1128600" cy="703800"/>
          </a:xfrm>
          <a:prstGeom prst="rect">
            <a:avLst/>
          </a:prstGeom>
          <a:solidFill>
            <a:srgbClr val="ffa5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rebuchet MS"/>
              </a:rPr>
              <a:t>Calida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rebuchet MS"/>
              </a:rPr>
              <a:t>intern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Line 8"/>
          <p:cNvSpPr/>
          <p:nvPr/>
        </p:nvSpPr>
        <p:spPr>
          <a:xfrm>
            <a:off x="4170240" y="2529000"/>
            <a:ext cx="2490840" cy="0"/>
          </a:xfrm>
          <a:prstGeom prst="line">
            <a:avLst/>
          </a:prstGeom>
          <a:ln w="28440">
            <a:solidFill>
              <a:srgbClr val="ff415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Line 9"/>
          <p:cNvSpPr/>
          <p:nvPr/>
        </p:nvSpPr>
        <p:spPr>
          <a:xfrm>
            <a:off x="4143240" y="4260960"/>
            <a:ext cx="2490840" cy="0"/>
          </a:xfrm>
          <a:prstGeom prst="line">
            <a:avLst/>
          </a:prstGeom>
          <a:ln w="28440">
            <a:solidFill>
              <a:srgbClr val="ff415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Line 10"/>
          <p:cNvSpPr/>
          <p:nvPr/>
        </p:nvSpPr>
        <p:spPr>
          <a:xfrm>
            <a:off x="4143240" y="6054840"/>
            <a:ext cx="2490840" cy="0"/>
          </a:xfrm>
          <a:prstGeom prst="line">
            <a:avLst/>
          </a:prstGeom>
          <a:ln w="28440">
            <a:solidFill>
              <a:srgbClr val="ff415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Line 11"/>
          <p:cNvSpPr/>
          <p:nvPr/>
        </p:nvSpPr>
        <p:spPr>
          <a:xfrm>
            <a:off x="7510320" y="2946240"/>
            <a:ext cx="0" cy="843120"/>
          </a:xfrm>
          <a:prstGeom prst="line">
            <a:avLst/>
          </a:prstGeom>
          <a:ln w="38160">
            <a:solidFill>
              <a:srgbClr val="18869b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Line 12"/>
          <p:cNvSpPr/>
          <p:nvPr/>
        </p:nvSpPr>
        <p:spPr>
          <a:xfrm>
            <a:off x="7516800" y="4802040"/>
            <a:ext cx="0" cy="843120"/>
          </a:xfrm>
          <a:prstGeom prst="line">
            <a:avLst/>
          </a:prstGeom>
          <a:ln w="38160">
            <a:solidFill>
              <a:srgbClr val="18869b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Line 13"/>
          <p:cNvSpPr/>
          <p:nvPr/>
        </p:nvSpPr>
        <p:spPr>
          <a:xfrm>
            <a:off x="2271600" y="3078000"/>
            <a:ext cx="0" cy="622440"/>
          </a:xfrm>
          <a:prstGeom prst="line">
            <a:avLst/>
          </a:prstGeom>
          <a:ln w="38160">
            <a:solidFill>
              <a:srgbClr val="80b5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3300"/>
                </a:solidFill>
                <a:latin typeface="Trebuchet MS"/>
              </a:rPr>
              <a:t>ISO/IEC 9126: </a:t>
            </a: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Calidad en el ciclo de vida del software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58" name="Text Box 15"/>
          <p:cNvSpPr/>
          <p:nvPr/>
        </p:nvSpPr>
        <p:spPr>
          <a:xfrm>
            <a:off x="4249080" y="2646000"/>
            <a:ext cx="24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f3f3f"/>
                </a:solidFill>
                <a:latin typeface="Trebuchet MS"/>
              </a:rPr>
              <a:t>Uso y retroalimentación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Text Box 16"/>
          <p:cNvSpPr/>
          <p:nvPr/>
        </p:nvSpPr>
        <p:spPr>
          <a:xfrm>
            <a:off x="4816440" y="4365360"/>
            <a:ext cx="115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f3f3f"/>
                </a:solidFill>
                <a:latin typeface="Trebuchet MS"/>
              </a:rPr>
              <a:t>Validación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Text Box 17"/>
          <p:cNvSpPr/>
          <p:nvPr/>
        </p:nvSpPr>
        <p:spPr>
          <a:xfrm>
            <a:off x="4858560" y="6138360"/>
            <a:ext cx="128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f3f3f"/>
                </a:solidFill>
                <a:latin typeface="Trebuchet MS"/>
              </a:rPr>
              <a:t>Verificación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Text Box 18"/>
          <p:cNvSpPr/>
          <p:nvPr/>
        </p:nvSpPr>
        <p:spPr>
          <a:xfrm>
            <a:off x="250560" y="3132000"/>
            <a:ext cx="1803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f3f3f"/>
                </a:solidFill>
                <a:latin typeface="Trebuchet MS"/>
              </a:rPr>
              <a:t>Contribuye en la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f3f3f"/>
                </a:solidFill>
                <a:latin typeface="Trebuchet MS"/>
              </a:rPr>
              <a:t>especificación de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Text Box 19"/>
          <p:cNvSpPr/>
          <p:nvPr/>
        </p:nvSpPr>
        <p:spPr>
          <a:xfrm>
            <a:off x="228600" y="4915080"/>
            <a:ext cx="1803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f3f3f"/>
                </a:solidFill>
                <a:latin typeface="Trebuchet MS"/>
              </a:rPr>
              <a:t>Contribuye en la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f3f3f"/>
                </a:solidFill>
                <a:latin typeface="Trebuchet MS"/>
              </a:rPr>
              <a:t>especificación de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Text Box 20"/>
          <p:cNvSpPr/>
          <p:nvPr/>
        </p:nvSpPr>
        <p:spPr>
          <a:xfrm>
            <a:off x="7542000" y="3288960"/>
            <a:ext cx="76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f3f3f"/>
                </a:solidFill>
                <a:latin typeface="Trebuchet MS"/>
              </a:rPr>
              <a:t>Indica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Text Box 21"/>
          <p:cNvSpPr/>
          <p:nvPr/>
        </p:nvSpPr>
        <p:spPr>
          <a:xfrm>
            <a:off x="7548120" y="5035320"/>
            <a:ext cx="76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f3f3f"/>
                </a:solidFill>
                <a:latin typeface="Trebuchet MS"/>
              </a:rPr>
              <a:t>Indica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Line 22"/>
          <p:cNvSpPr/>
          <p:nvPr/>
        </p:nvSpPr>
        <p:spPr>
          <a:xfrm>
            <a:off x="2276640" y="4875120"/>
            <a:ext cx="0" cy="622440"/>
          </a:xfrm>
          <a:prstGeom prst="line">
            <a:avLst/>
          </a:prstGeom>
          <a:ln w="38160">
            <a:solidFill>
              <a:srgbClr val="80b5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3300"/>
                </a:solidFill>
                <a:latin typeface="Trebuchet MS"/>
              </a:rPr>
              <a:t>Ámbitos de uso de </a:t>
            </a:r>
            <a:r>
              <a:rPr b="1" lang="es-ES" sz="3600" spc="-1" strike="noStrike">
                <a:solidFill>
                  <a:srgbClr val="003300"/>
                </a:solidFill>
                <a:latin typeface="Trebuchet MS"/>
              </a:rPr>
              <a:t>ISO/IEC 9126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Validar la integridad de una definición de requisitos;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29040" indent="-32904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Identificar los requisitos del software;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29040" indent="-32904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Identificar los objetivos del diseño del software;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29040" indent="-32904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Identificar los objetivos de la prueba de software;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29040" indent="-32904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Identificar el criterio de aseguramiento de calidad;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29040" indent="-32904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Identificar el criterio de aceptación para un producto de software completo.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29040" indent="-32904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Priorizar los recursos en los aspectos más importantes en términos de calidad.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29040" indent="-32904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Etc.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3300"/>
                </a:solidFill>
                <a:latin typeface="Trebuchet MS"/>
              </a:rPr>
              <a:t>Atributos de la norma para </a:t>
            </a: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calidad externa e interna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457200" y="1905120"/>
          <a:ext cx="8229600" cy="49370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65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3300"/>
                          </a:solidFill>
                          <a:latin typeface="Trebuchet MS"/>
                        </a:rPr>
                        <a:t>Funcionalida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333300"/>
                          </a:solidFill>
                          <a:latin typeface="Trebuchet MS"/>
                        </a:rPr>
                        <a:t>Adecuació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333300"/>
                          </a:solidFill>
                          <a:latin typeface="Trebuchet MS"/>
                        </a:rPr>
                        <a:t>Precisió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333300"/>
                          </a:solidFill>
                          <a:latin typeface="Trebuchet MS"/>
                        </a:rPr>
                        <a:t>Interoperabilidad (compatibilidad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333300"/>
                          </a:solidFill>
                          <a:latin typeface="Trebuchet MS"/>
                        </a:rPr>
                        <a:t>Seguridad de acces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333300"/>
                          </a:solidFill>
                          <a:latin typeface="Trebuchet MS"/>
                        </a:rPr>
                        <a:t>Conformidad de funcionalida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3300"/>
                          </a:solidFill>
                          <a:latin typeface="Trebuchet MS"/>
                        </a:rPr>
                        <a:t>Eficienci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333300"/>
                          </a:solidFill>
                          <a:latin typeface="Trebuchet MS"/>
                        </a:rPr>
                        <a:t>Manejo del tiempo.</a:t>
                      </a:r>
                      <a:r>
                        <a:rPr b="0" lang="es-ES" sz="1400" spc="-1" strike="noStrike">
                          <a:solidFill>
                            <a:srgbClr val="333300"/>
                          </a:solidFill>
                          <a:latin typeface="Trebuchet MS"/>
                        </a:rPr>
                        <a:t>	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333300"/>
                          </a:solidFill>
                          <a:latin typeface="Trebuchet MS"/>
                        </a:rPr>
                        <a:t>Manejo de los recursos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333300"/>
                          </a:solidFill>
                          <a:latin typeface="Trebuchet MS"/>
                        </a:rPr>
                        <a:t>Conformidad de eficienci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</a:tr>
              <a:tr h="165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3300"/>
                          </a:solidFill>
                          <a:latin typeface="Trebuchet MS"/>
                        </a:rPr>
                        <a:t>Confiabilida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333300"/>
                          </a:solidFill>
                          <a:latin typeface="Trebuchet MS"/>
                        </a:rPr>
                        <a:t>Madurez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333300"/>
                          </a:solidFill>
                          <a:latin typeface="Trebuchet MS"/>
                        </a:rPr>
                        <a:t>Tolerancia a falla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333300"/>
                          </a:solidFill>
                          <a:latin typeface="Trebuchet MS"/>
                        </a:rPr>
                        <a:t>Recuperació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333300"/>
                          </a:solidFill>
                          <a:latin typeface="Trebuchet MS"/>
                        </a:rPr>
                        <a:t>Conformidad de confiabilida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3300"/>
                          </a:solidFill>
                          <a:latin typeface="Trebuchet MS"/>
                        </a:rPr>
                        <a:t>Mantenibilida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333300"/>
                          </a:solidFill>
                          <a:latin typeface="Trebuchet MS"/>
                        </a:rPr>
                        <a:t>Facilidad de análisi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333300"/>
                          </a:solidFill>
                          <a:latin typeface="Trebuchet MS"/>
                        </a:rPr>
                        <a:t>Facilidad para introducir cambio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333300"/>
                          </a:solidFill>
                          <a:latin typeface="Trebuchet MS"/>
                        </a:rPr>
                        <a:t>Estabilida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333300"/>
                          </a:solidFill>
                          <a:latin typeface="Trebuchet MS"/>
                        </a:rPr>
                        <a:t>Facilidad de prueb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333300"/>
                          </a:solidFill>
                          <a:latin typeface="Trebuchet MS"/>
                        </a:rPr>
                        <a:t>Conformidad de mantenibilida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</a:tr>
              <a:tr h="165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3300"/>
                          </a:solidFill>
                          <a:latin typeface="Trebuchet MS"/>
                        </a:rPr>
                        <a:t>Facilidad de us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333300"/>
                          </a:solidFill>
                          <a:latin typeface="Trebuchet MS"/>
                        </a:rPr>
                        <a:t>Facilidad de comprensión.</a:t>
                      </a:r>
                      <a:r>
                        <a:rPr b="0" lang="es-ES" sz="1400" spc="-1" strike="noStrike">
                          <a:solidFill>
                            <a:srgbClr val="333300"/>
                          </a:solidFill>
                          <a:latin typeface="Trebuchet MS"/>
                        </a:rPr>
                        <a:t>	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333300"/>
                          </a:solidFill>
                          <a:latin typeface="Trebuchet MS"/>
                        </a:rPr>
                        <a:t>Facilidad de aprendizaje.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333300"/>
                          </a:solidFill>
                          <a:latin typeface="Trebuchet MS"/>
                        </a:rPr>
                        <a:t>Operatividad.</a:t>
                      </a:r>
                      <a:r>
                        <a:rPr b="0" lang="es-ES" sz="1400" spc="-1" strike="noStrike">
                          <a:solidFill>
                            <a:srgbClr val="333300"/>
                          </a:solidFill>
                          <a:latin typeface="Trebuchet MS"/>
                        </a:rPr>
                        <a:t>	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333300"/>
                          </a:solidFill>
                          <a:latin typeface="Trebuchet MS"/>
                        </a:rPr>
                        <a:t>Atractiv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333300"/>
                          </a:solidFill>
                          <a:latin typeface="Trebuchet MS"/>
                        </a:rPr>
                        <a:t>Conformidad de facilidad de us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3300"/>
                          </a:solidFill>
                          <a:latin typeface="Trebuchet MS"/>
                        </a:rPr>
                        <a:t>Portabilida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333300"/>
                          </a:solidFill>
                          <a:latin typeface="Trebuchet MS"/>
                        </a:rPr>
                        <a:t>Adaptabilidad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333300"/>
                          </a:solidFill>
                          <a:latin typeface="Trebuchet MS"/>
                        </a:rPr>
                        <a:t>Instalabilidad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333300"/>
                          </a:solidFill>
                          <a:latin typeface="Trebuchet MS"/>
                        </a:rPr>
                        <a:t>Co-existenci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333300"/>
                          </a:solidFill>
                          <a:latin typeface="Trebuchet MS"/>
                        </a:rPr>
                        <a:t>Compatibilidad o facilidad de reemplazo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333300"/>
                          </a:solidFill>
                          <a:latin typeface="Trebuchet MS"/>
                        </a:rPr>
                        <a:t>Conformidad de portabilida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</a:tr>
            </a:tbl>
          </a:graphicData>
        </a:graphic>
      </p:graphicFrame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3300"/>
                </a:solidFill>
                <a:latin typeface="Trebuchet MS"/>
              </a:rPr>
              <a:t>Atributos de la norma para </a:t>
            </a: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calidad externa e interna</a:t>
            </a:r>
            <a:r>
              <a:rPr b="1" lang="es-MX" sz="3200" spc="-1" strike="noStrike">
                <a:solidFill>
                  <a:srgbClr val="003300"/>
                </a:solidFill>
                <a:latin typeface="Trebuchet MS"/>
              </a:rPr>
              <a:t>: </a:t>
            </a:r>
            <a:br>
              <a:rPr sz="3200"/>
            </a:br>
            <a:r>
              <a:rPr b="1" lang="es-MX" sz="3200" spc="-1" strike="noStrike">
                <a:solidFill>
                  <a:srgbClr val="003300"/>
                </a:solidFill>
                <a:latin typeface="Trebuchet MS"/>
              </a:rPr>
              <a:t>(1) Funcionalidad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Es la capacidad del producto de software para entregar funciones que cumplan con las necesidades explícitas e implícitas cuando el software se usa bajo condiciones específicas.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¿Las funciones implementadas están adecuadas a los objetivos del software?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¿Las tareas ejecutadas por las funciones existentes generan resultados deseados o correctos?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3300"/>
                </a:solidFill>
                <a:latin typeface="Trebuchet MS"/>
              </a:rPr>
              <a:t>Atributos de la norma para </a:t>
            </a: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calidad externa e interna</a:t>
            </a:r>
            <a:r>
              <a:rPr b="1" lang="es-MX" sz="3200" spc="-1" strike="noStrike">
                <a:solidFill>
                  <a:srgbClr val="003300"/>
                </a:solidFill>
                <a:latin typeface="Trebuchet MS"/>
              </a:rPr>
              <a:t>: </a:t>
            </a:r>
            <a:br>
              <a:rPr sz="3200"/>
            </a:br>
            <a:r>
              <a:rPr b="1" lang="es-MX" sz="3200" spc="-1" strike="noStrike">
                <a:solidFill>
                  <a:srgbClr val="003300"/>
                </a:solidFill>
                <a:latin typeface="Trebuchet MS"/>
              </a:rPr>
              <a:t>(2) Confiabilidad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Es la capacidad del producto de software para evitar fallas como resultado de errores de software.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lvl="1" marL="735480" indent="-28296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¿El software presenta fallas en uso normal de este y con qué frecuencia ‘se cae’?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35480" indent="-28296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¿Cómo se comporta el software frente a un uso anormal del software, por ejemplo, ingresando valores inválidos, realizando acciones incorrectas?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35480" indent="-28296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¿En caso de producirse una falla, se recupera rápidamente?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3300"/>
                </a:solidFill>
                <a:latin typeface="Trebuchet MS"/>
              </a:rPr>
              <a:t>Atributos de la norma para </a:t>
            </a: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calidad externa e interna</a:t>
            </a:r>
            <a:r>
              <a:rPr b="1" lang="es-MX" sz="3200" spc="-1" strike="noStrike">
                <a:solidFill>
                  <a:srgbClr val="003300"/>
                </a:solidFill>
                <a:latin typeface="Trebuchet MS"/>
              </a:rPr>
              <a:t>: </a:t>
            </a:r>
            <a:br>
              <a:rPr sz="3200"/>
            </a:br>
            <a:r>
              <a:rPr b="1" lang="es-MX" sz="3200" spc="-1" strike="noStrike">
                <a:solidFill>
                  <a:srgbClr val="003300"/>
                </a:solidFill>
                <a:latin typeface="Trebuchet MS"/>
              </a:rPr>
              <a:t>(3) Facilidad de uso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Es la capacidad del producto de software para ser fácil de comprender, aprender y usar por el usuario y ser atractivo para él, bajo condiciones específicas de uso.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1" marL="713160" indent="-27432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¿Un usuario nuevo puede comprender el sentido del software para empezar a usarlo?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13160" indent="-27432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¿se requieren manuales para usarlo?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3300"/>
                </a:solidFill>
                <a:latin typeface="Trebuchet MS"/>
              </a:rPr>
              <a:t>De la clase anterior…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8. Medición, análisis y mejora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8.5 Mejora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Auditorías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3300"/>
                </a:solidFill>
                <a:latin typeface="Trebuchet MS"/>
              </a:rPr>
              <a:t>Atributos de la norma para </a:t>
            </a: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calidad externa e interna</a:t>
            </a:r>
            <a:r>
              <a:rPr b="1" lang="es-MX" sz="3200" spc="-1" strike="noStrike">
                <a:solidFill>
                  <a:srgbClr val="003300"/>
                </a:solidFill>
                <a:latin typeface="Trebuchet MS"/>
              </a:rPr>
              <a:t>: </a:t>
            </a:r>
            <a:br>
              <a:rPr sz="3200"/>
            </a:br>
            <a:r>
              <a:rPr b="1" lang="es-MX" sz="3200" spc="-1" strike="noStrike">
                <a:solidFill>
                  <a:srgbClr val="003300"/>
                </a:solidFill>
                <a:latin typeface="Trebuchet MS"/>
              </a:rPr>
              <a:t>(4) Eficiencia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Es la capacidad del producto de software para entregar un desempeño apropiado, en relación con la cantidad de recursos utilizados, bajo condiciones establecidas.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¿Cuánto demora el despliegue de la información de consultas?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3300"/>
                </a:solidFill>
                <a:latin typeface="Trebuchet MS"/>
              </a:rPr>
              <a:t>Atributos de la norma para </a:t>
            </a: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calidad externa e interna</a:t>
            </a:r>
            <a:r>
              <a:rPr b="1" lang="es-MX" sz="3200" spc="-1" strike="noStrike">
                <a:solidFill>
                  <a:srgbClr val="003300"/>
                </a:solidFill>
                <a:latin typeface="Trebuchet MS"/>
              </a:rPr>
              <a:t>: </a:t>
            </a:r>
            <a:br>
              <a:rPr sz="3200"/>
            </a:br>
            <a:r>
              <a:rPr b="1" lang="es-MX" sz="3200" spc="-1" strike="noStrike">
                <a:solidFill>
                  <a:srgbClr val="003300"/>
                </a:solidFill>
                <a:latin typeface="Trebuchet MS"/>
              </a:rPr>
              <a:t>(5) Mantenibilidad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Es la capacidad del producto de software para ser modificado. Estas modificaciones pueden incluir correcciones, mejoras o adaptaciones del software a los cambios en el ambiente, en requisitos y en especificaciones funcionales.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¿Existe documentación que facilite entender el software?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¿El código está auto documentado?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3300"/>
                </a:solidFill>
                <a:latin typeface="Trebuchet MS"/>
              </a:rPr>
              <a:t>Atributos de la norma para </a:t>
            </a: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calidad externa e interna</a:t>
            </a:r>
            <a:r>
              <a:rPr b="1" lang="es-MX" sz="3200" spc="-1" strike="noStrike">
                <a:solidFill>
                  <a:srgbClr val="003300"/>
                </a:solidFill>
                <a:latin typeface="Trebuchet MS"/>
              </a:rPr>
              <a:t>: </a:t>
            </a:r>
            <a:br>
              <a:rPr sz="3200"/>
            </a:br>
            <a:r>
              <a:rPr b="1" lang="es-MX" sz="3200" spc="-1" strike="noStrike">
                <a:solidFill>
                  <a:srgbClr val="003300"/>
                </a:solidFill>
                <a:latin typeface="Trebuchet MS"/>
              </a:rPr>
              <a:t>(6) Portabilidad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Es la capacidad del producto de software para ser transferido desde un ambiente a otro.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¿Existen manuales de instalación?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¿Están identificados todos los archivos, documentos, etc. para reinstalar el software en otro computador?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3300"/>
                </a:solidFill>
                <a:latin typeface="Trebuchet MS"/>
              </a:rPr>
              <a:t>Atributos para calidad en uso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Es la capacidad del producto de software para permitir a usuarios específicos lograr objetivos con efectividad, productividad, seguridad de uso y satisfacción.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25800" indent="-32580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Se mide en términos de los resultados del uso del software más que de las propiedades del software.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25800" indent="-32580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ISO/IEC 9126 propone 4 atributos de calidad en uso, estos son: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lvl="1" marL="705600" indent="-27144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Efectividad.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05600" indent="-27144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Productividad.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05600" indent="-27144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Seguridad de uso.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05600" indent="-27144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Satisfacción.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3300"/>
                </a:solidFill>
                <a:latin typeface="Trebuchet MS"/>
              </a:rPr>
              <a:t>Perfil de Calidad usando </a:t>
            </a:r>
            <a:br>
              <a:rPr sz="3600"/>
            </a:br>
            <a:r>
              <a:rPr b="1" lang="es-MX" sz="3600" spc="-1" strike="noStrike">
                <a:solidFill>
                  <a:srgbClr val="003300"/>
                </a:solidFill>
                <a:latin typeface="Trebuchet MS"/>
              </a:rPr>
              <a:t>ISO/IEC 9126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Un perfil de calidad permite focalizar la definición o evaluación de calidad de un producto de software en los criterios de calidad más importantes según el contexto requerido. 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En un perfil están definidos: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lvl="1" marL="713160" indent="-27432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Los atributos y sub características relevantes para el producto de software.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13160" indent="-27432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Las métricas que se usarán en la medición.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13160" indent="-27432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Los rangos de aceptación de esas métricas.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gradFill rotWithShape="0">
            <a:gsLst>
              <a:gs pos="0">
                <a:srgbClr val="182f47"/>
              </a:gs>
              <a:gs pos="100000">
                <a:srgbClr val="336699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ff"/>
                </a:solidFill>
                <a:latin typeface="Trebuchet MS"/>
              </a:rPr>
              <a:t>Ejercicio 10. Perfil de Calidad para SWS-Asistencia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gradFill rotWithShape="0">
            <a:gsLst>
              <a:gs pos="0">
                <a:srgbClr val="182f47"/>
              </a:gs>
              <a:gs pos="100000">
                <a:srgbClr val="336699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rebuchet MS"/>
              </a:rPr>
              <a:t>SWS va a desarrollar un software para control de asistencia del personal de plantas de proceso de empresas salmoneras.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rebuchet MS"/>
              </a:rPr>
              <a:t>El software no es muy sofisticado así que será usado por lo(a)s operario(a)s cada vez ingresen o salgan de la sala de proceso, donde deberán marcar su entrada o salida.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rebuchet MS"/>
              </a:rPr>
              <a:t>¿Qué atributos / subatributos son los más relevantes desde el punto de vista de ello(a)s?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gradFill rotWithShape="0">
            <a:gsLst>
              <a:gs pos="0">
                <a:srgbClr val="182f47"/>
              </a:gs>
              <a:gs pos="100000">
                <a:srgbClr val="336699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ff"/>
                </a:solidFill>
                <a:latin typeface="Trebuchet MS"/>
              </a:rPr>
              <a:t>Ejercicio 10. Perfil de Calidad para SWS-Asistencia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457200" y="1905120"/>
          <a:ext cx="8229600" cy="49370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65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Funcionalida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Adecuació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Precisió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Interoperabilidad (compatibilidad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Seguridad de acces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Conformidad de funcionalida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182f47"/>
                        </a:gs>
                        <a:gs pos="100000">
                          <a:srgbClr val="3366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Eficienci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Manejo del tiempo.</a:t>
                      </a:r>
                      <a:r>
                        <a:rPr b="0" lang="es-ES" sz="14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	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Manejo de los recursos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Conformidad de eficienci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182f47"/>
                        </a:gs>
                        <a:gs pos="100000">
                          <a:srgbClr val="336699"/>
                        </a:gs>
                      </a:gsLst>
                      <a:lin ang="5400000"/>
                    </a:gradFill>
                  </a:tcPr>
                </a:tc>
              </a:tr>
              <a:tr h="165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Confiabilida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Tolerancia a falla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Recuperació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Conformidad de confiabilida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182f47"/>
                        </a:gs>
                        <a:gs pos="100000">
                          <a:srgbClr val="3366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Mantenibilida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Facilidad de análisi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Facilidad para introducir cambio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Estabilida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Facilidad de prueb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Conformidad de mantenibilida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182f47"/>
                        </a:gs>
                        <a:gs pos="100000">
                          <a:srgbClr val="336699"/>
                        </a:gs>
                      </a:gsLst>
                      <a:lin ang="5400000"/>
                    </a:gradFill>
                  </a:tcPr>
                </a:tc>
              </a:tr>
              <a:tr h="165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Facilidad de us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Facilidad de comprensión.</a:t>
                      </a:r>
                      <a:r>
                        <a:rPr b="0" lang="es-ES" sz="14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	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Facilidad de aprendizaje.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Operatividad.</a:t>
                      </a:r>
                      <a:r>
                        <a:rPr b="0" lang="es-ES" sz="14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	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Conformidad de facilidad de us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182f47"/>
                        </a:gs>
                        <a:gs pos="100000">
                          <a:srgbClr val="3366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Portabilida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Adaptabilidad a la plataform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Instalabilida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Co-existenci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Compatibilidad o facilidad de reemplazo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Conformidad de portabilida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182f47"/>
                        </a:gs>
                        <a:gs pos="100000">
                          <a:srgbClr val="336699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1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2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684360" y="1267920"/>
            <a:ext cx="777240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2296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Autor: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Julio Ariel Hurtado jhurtado@dcc.uchile.cl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Basado en el material previo de: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Verónica Achá Alvarez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rebuchet MS"/>
              </a:rPr>
              <a:t>Las primeras versiones de este material se basaron en el curso </a:t>
            </a:r>
            <a:r>
              <a:rPr b="0" i="1" lang="es-CL" sz="1400" spc="-1" strike="noStrike">
                <a:solidFill>
                  <a:srgbClr val="000000"/>
                </a:solidFill>
                <a:latin typeface="Trebuchet MS"/>
              </a:rPr>
              <a:t>ISO 9001 INTERPRETADO PARA ORGANIZACIONES DE SOFTWARE</a:t>
            </a:r>
            <a:r>
              <a:rPr b="0" lang="es-CL" sz="1400" spc="-1" strike="noStrike">
                <a:solidFill>
                  <a:srgbClr val="000000"/>
                </a:solidFill>
                <a:latin typeface="Trebuchet MS"/>
              </a:rPr>
              <a:t> dictado en Chile por Ronald Radice (rradice@stt.com) en septiembre de 1998.</a:t>
            </a:r>
            <a:endParaRPr b="0" lang="en-US" sz="14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rebuchet MS"/>
              </a:rPr>
              <a:t>Las versiones a partir de 2008 incluyen la experiencia ganada en la implementación de procesos en las PyMEs de software.</a:t>
            </a:r>
            <a:endParaRPr b="0" lang="en-US" sz="14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00"/>
              </a:solidFill>
              <a:latin typeface="Trebuchet MS"/>
            </a:endParaRPr>
          </a:p>
        </p:txBody>
      </p:sp>
      <p:pic>
        <p:nvPicPr>
          <p:cNvPr id="217" name="Picture 3" descr=""/>
          <p:cNvPicPr/>
          <p:nvPr/>
        </p:nvPicPr>
        <p:blipFill>
          <a:blip r:embed="rId1"/>
          <a:stretch/>
        </p:blipFill>
        <p:spPr>
          <a:xfrm>
            <a:off x="900000" y="4435560"/>
            <a:ext cx="1117800" cy="520560"/>
          </a:xfrm>
          <a:prstGeom prst="rect">
            <a:avLst/>
          </a:prstGeom>
          <a:ln w="0">
            <a:noFill/>
          </a:ln>
        </p:spPr>
      </p:pic>
      <p:sp>
        <p:nvSpPr>
          <p:cNvPr id="218" name="Text Box 4"/>
          <p:cNvSpPr/>
          <p:nvPr/>
        </p:nvSpPr>
        <p:spPr>
          <a:xfrm>
            <a:off x="2190600" y="4003560"/>
            <a:ext cx="57978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rebuchet MS"/>
              </a:rPr>
              <a:t>Esta presentación está bajo una licencia Creative Commons del tipo</a:t>
            </a:r>
            <a:r>
              <a:rPr b="1" lang="en-GB" sz="1200" spc="-1" strike="noStrike">
                <a:solidFill>
                  <a:srgbClr val="000000"/>
                </a:solidFill>
                <a:latin typeface="Trebuchet MS"/>
              </a:rPr>
              <a:t> “</a:t>
            </a:r>
            <a:r>
              <a:rPr b="1" lang="es-ES" sz="1200" spc="-1" strike="noStrike">
                <a:solidFill>
                  <a:srgbClr val="ffffff"/>
                </a:solidFill>
                <a:latin typeface="Trebuchet MS"/>
              </a:rPr>
              <a:t>Atribución-NoComercial-LicenciarIgual 2.0</a:t>
            </a:r>
            <a:r>
              <a:rPr b="1" lang="en-GB" sz="1200" spc="-1" strike="noStrike">
                <a:solidFill>
                  <a:srgbClr val="000000"/>
                </a:solidFill>
                <a:latin typeface="Trebuchet MS"/>
              </a:rPr>
              <a:t>”</a:t>
            </a:r>
            <a:r>
              <a:rPr b="0" lang="en-GB" sz="1200" spc="-1" strike="noStrike">
                <a:solidFill>
                  <a:srgbClr val="000000"/>
                </a:solidFill>
                <a:latin typeface="Trebuchet MS"/>
              </a:rPr>
              <a:t>, y por tanto algunos derechos están reservados. Para un resumen de la licencia visite la siguiente dirección:</a:t>
            </a:r>
            <a:r>
              <a:rPr b="1" lang="en-GB" sz="12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rebuchet MS"/>
              </a:rPr>
              <a:t>http://www.creativecommons.cl/cc/deeds/by-nc-sa.html</a:t>
            </a:r>
            <a:r>
              <a:rPr b="1" lang="en-GB" sz="12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rebuchet MS"/>
              </a:rPr>
              <a:t>En síntesis, usted es libre de copiar, distribuir, exhibir y ejecutar esta presentación, y de generar otras presentaciones basadas en ésta, siempre que se mantenga y muestre el nombre y email del autor, de manera explícita en cada reproducción u obra derivada, y no se remueva esta diapositiva de la presentación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3300"/>
                </a:solidFill>
                <a:latin typeface="Trebuchet MS"/>
              </a:rPr>
              <a:t>ISO 9000 Aplicaciones para Software</a:t>
            </a:r>
            <a:endParaRPr b="1" lang="en-US" sz="40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solidFill>
            <a:srgbClr val="010199"/>
          </a:solidFill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00"/>
                </a:solidFill>
                <a:latin typeface="Trebuchet MS"/>
              </a:rPr>
              <a:t>Programa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Introducción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Generalidades sobre ISO 9000:2000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Sistemas de Gestión de la Calidad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Revisión de ISO 9001:2000 con las recomendaciones de ISO 90003:2004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9900"/>
                </a:solidFill>
                <a:latin typeface="Trebuchet MS"/>
              </a:rPr>
              <a:t>Auditorías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Estándar de productos: ISO/IEC 9126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¿Qué pasa durante la auditoría?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Revisan la documentación del SGC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Entrevistan al personal sobre la política de calidad, el SGC, y los registros de calidad relacionados a las actividades que desarrollan, y la forma como hacen su trabajo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Preguntan al personal sobre ciertos documentos y registros de calidad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Toman todas las cláusulas de ISO 9001 y verifican que el SGC los cumple; 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00"/>
                </a:solidFill>
                <a:latin typeface="Trebuchet MS"/>
              </a:rPr>
              <a:t>las auditorías de revisión sólo toman un sub conjunto de dichas cláusulas</a:t>
            </a:r>
            <a:endParaRPr b="0" lang="en-US" sz="1800" spc="-1" strike="noStrike">
              <a:solidFill>
                <a:srgbClr val="3333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Sostienen reuniones de pre y post auditoría con los gerentes para establecer las expectativas y presentar los resultados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Se hace seguimiento de las acciones correctivas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¿Cuáles son las principales cosas que un auditor externo buscará?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En los niveles altos: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¿Tienen un plan de calidad?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¿Son distribuidos?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¿Satisface el SGC los requerimientos de ISO 9001?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En otros niveles revisarán el SGC contra las cláusulas de ISO 9001 y tratará de determinar su nivel de aplicación: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¿Está el gerente de calidad firmando y fechando el reporte de evaluación del proveedor para indicar su aprobación o rechazo?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¿Existe un programa de auditorías en que se identifique que cada sección del Manual sea auditada al menos una vez al año?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¿Mantiene el gerente de calidad un registro de control de desviaciones donde se identifica el Nº de desviación, fecha, etc.?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¿En qué consisten las entrevistas?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Se busca verificar si el personal conoce sus responsabilidades establecidas en el Manual de la Calidad, y conocer que es lo que está realmente haciendo y por quién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Tipos de preguntas: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¿Cómo hace usted una corrección en la especificación de requisitos?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¿Cómo hace la evaluación del personal subcontratado?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Aunque no cuenta con una especificación para usar el software de gestión de configuración, usted sabe como acceder a una pieza de código para trabajar en ella, ¿No es así?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¿Cómo se informan los resultados?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Reporte de las no conformidades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00"/>
                </a:solidFill>
                <a:latin typeface="Trebuchet MS"/>
              </a:rPr>
              <a:t>Mayores</a:t>
            </a: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: donde existe suficiente evidencia de que la organización no satisface los requisitos del estándar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00"/>
                </a:solidFill>
                <a:latin typeface="Trebuchet MS"/>
              </a:rPr>
              <a:t>Menores</a:t>
            </a: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: donde se descubren algunas debilidades, por ejemplo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6633"/>
                </a:solidFill>
                <a:latin typeface="Trebuchet MS"/>
              </a:rPr>
              <a:t>Se encontró una antigua versión del documento en uso</a:t>
            </a:r>
            <a:endParaRPr b="0" lang="en-US" sz="2000" spc="-1" strike="noStrike">
              <a:solidFill>
                <a:srgbClr val="996633"/>
              </a:solidFill>
              <a:latin typeface="Trebuchet MS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6633"/>
                </a:solidFill>
                <a:latin typeface="Trebuchet MS"/>
              </a:rPr>
              <a:t>Se observó un defecto potencial de desempeño o en la documentación y se puede transformar en un problema</a:t>
            </a:r>
            <a:endParaRPr b="0" lang="en-US" sz="2000" spc="-1" strike="noStrike">
              <a:solidFill>
                <a:srgbClr val="996633"/>
              </a:solidFill>
              <a:latin typeface="Trebuchet MS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6633"/>
                </a:solidFill>
                <a:latin typeface="Trebuchet MS"/>
              </a:rPr>
              <a:t>Se notó un problema de calibración</a:t>
            </a:r>
            <a:endParaRPr b="0" lang="en-US" sz="2000" spc="-1" strike="noStrike">
              <a:solidFill>
                <a:srgbClr val="996633"/>
              </a:solidFill>
              <a:latin typeface="Trebuchet MS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6633"/>
                </a:solidFill>
                <a:latin typeface="Trebuchet MS"/>
              </a:rPr>
              <a:t>Se encontró una inconsistencia en la documentación</a:t>
            </a:r>
            <a:endParaRPr b="0" lang="en-US" sz="2000" spc="-1" strike="noStrike">
              <a:solidFill>
                <a:srgbClr val="996633"/>
              </a:solidFill>
              <a:latin typeface="Trebuchet MS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6633"/>
                </a:solidFill>
                <a:latin typeface="Trebuchet MS"/>
              </a:rPr>
              <a:t>Se identificó que una parte de la cláusula no se practica de manera extendida</a:t>
            </a:r>
            <a:endParaRPr b="0" lang="en-US" sz="2000" spc="-1" strike="noStrike">
              <a:solidFill>
                <a:srgbClr val="996633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¿Qué tan larga es una auditoría?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Típicamente puede tomar entre 3 y 5 días, pero puede ser más larga o más corta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La duración varía según el alcance, tamaño de la organización, número de auditores y criticidad de los productos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¿Cómo se deben manejar las acciones correctivas?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Determinar las causas de las no conformidades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Tomar acciones para corregir las no conformidades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Determinar si y cómo se puede prevenir el problema para que no vuelva a ocurrir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Determinar si una acción preliminar puede ser tomada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Determinar si las acciones de solución son necesarias 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Revisar la historia para detectar desde cuando la no conformidad existe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Estar preparados para tener la auditoría de seguimiento preferentemente a las dos semanas siguientes de la fecha de terminación de las acciones correctivas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8T21:56:17Z</dcterms:created>
  <dc:creator>Verónica Achá</dc:creator>
  <dc:description/>
  <dc:language>en-US</dc:language>
  <cp:lastModifiedBy>yordy</cp:lastModifiedBy>
  <dcterms:modified xsi:type="dcterms:W3CDTF">2008-09-23T16:36:40Z</dcterms:modified>
  <cp:revision>460</cp:revision>
  <dc:subject/>
  <dc:title>ISO 9000 aplicado a software</dc:title>
</cp:coreProperties>
</file>