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0233-BCCA-4E0B-AB6C-E0571C64571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DA9C-BBF6-4CA9-A8D1-A8ECDA1F36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ISO 9004 gives additional guid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3BF8-3E09-42F4-A4F9-C0D286184E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21CB-AFCD-4171-8864-2050C816F0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AABE-E759-4C78-AC65-64F6323049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E14A-7127-4319-AFAE-C4FC4F4525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A5E-98F8-4950-AA66-FBC51A38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0C8F-408E-46CF-AE96-5A8BB5E2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90B-2F2A-422E-BBA4-6653E161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753-0420-41CE-8E52-2DA7B31A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F8381-FC1E-44FE-B54A-D28ECB70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82188-70EE-4FCA-901A-57A67C33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396E6-55D0-4A4F-8BBD-93CE4C21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6F5C0-C003-4390-A549-376C41EF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E7D4A-CC7D-4607-A479-63B72AE6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33092-E2F7-4640-9846-3F2F23C3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C4BFC-19D2-4B98-B5D1-7DF0BDD1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A4F-5FEE-4C89-A76C-966E17D3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6EB5B-4FC5-43A8-83DC-35EB3A2F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C593C-B863-4727-9272-EA92EC80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2420A-3431-469F-BB99-8C6C5E77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F7542-20B9-4328-BC95-A208DE8C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E1A8F-75F2-4742-9F09-1A0B97A8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9D3-0BF2-4D88-97F5-031D59FC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AD4-4C7E-4E4E-80AC-AEEBC3D4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7E5-72F1-4AD5-85DE-333204F1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465-722B-4B8C-943B-5D4AA324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3B0-19E9-4438-A46E-D4389E39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698-B7CE-4BC0-A9C3-BB3762DD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2F78-60F0-4787-9C6D-461170C5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E135-085B-4830-AE7F-577661CE134E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06A0-E8AC-44B7-8E62-811962649713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19DD-A484-4D12-A40E-F5E6483BEF5A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0455-75B1-4D95-877D-B280D353EB3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5400"/>
            </a:br>
            <a:r>
              <a:rPr b="1" lang="es-ES_tradnl" sz="48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La infraestructura y el ambiente de trabaj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La organización debe determinar, proporcionar y mantener la infraestructura necesaria para lograr la conformidad con los requisitos del product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Igualmente, debe determinar y gestionar el ambiente de trabaj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ugerencias a considerar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ablecer y mantener procedimientos para identificar necesidades de entrenamiento, infraestructura y ambiente de trabaj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veer entrenamiento para todo el personal que realiza actividades que afectan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4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ITIS LTDA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2800" cy="440352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itis Ltda es una empresa pequeña donde hay dos tipos de talento human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Fiel y en general de media capac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Volátil de alta capac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proceso ha sido adecuado a este contraste, para soportar mejor el aprendizaje y las transiciones de entrada del nuevo personal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corporó prácticas de aprendizaje por experiencia documentando las lecciones aprendidas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Está desarrollando una infraestructura de gestión de conocimient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En un tercer ciclo de mejora de procesos implementará el área OT (Organizational Training) de CMMI a un nivel de capacidad 3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55268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5: Recursos humanos en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u organización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uales las  necesidades actuales de recursos humanos para soportar un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Para cubrir cada necesidad defina estrategi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6: Haga un mapa de procesos de para organiz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es son los procesos más importantes para el trabajo de la empresa, vista desde cada una de su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Gest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structura de la norma ISO/IEC12207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56000" y="1314360"/>
            <a:ext cx="368928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os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329080" cy="48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structura del estandar ISO/IEC 15504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37440" cy="506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1 Provisión de recursos: </a:t>
            </a:r>
            <a:r>
              <a:rPr b="0" lang="es-ES_tradnl" sz="1600" spc="-1" strike="noStrike">
                <a:solidFill>
                  <a:srgbClr val="333300"/>
                </a:solidFill>
                <a:latin typeface="Trebuchet MS"/>
              </a:rPr>
              <a:t>para satisfacer los requerimientos y sostener el SGC</a:t>
            </a: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2 Recursos human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Generalidades: formación, entrenamiento, habilidades y experiencia </a:t>
            </a:r>
            <a:r>
              <a:rPr b="0" lang="es-ES_tradnl" sz="1800" spc="-1" strike="noStrike">
                <a:solidFill>
                  <a:srgbClr val="996633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 ISO/IEC 12207 human resource management , People CMM.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Competencia, toma de conciencia y formación: notaciones, métodos, lenguajes, herramientas, técnicas usadas para desarrollo y gestión. </a:t>
            </a:r>
            <a:r>
              <a:rPr b="0" lang="es-ES_tradnl" sz="1800" spc="-1" strike="noStrike">
                <a:solidFill>
                  <a:srgbClr val="996633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 CMMI – Organizational Training 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3 Infraestructura: edificaciones, equipos y servicios de soporte (herramientas, gestión de conocimiento), herramientas y soporte físico: red, protocolos, seguridad, asistencia técnica. IS0/IEC                                                    12207 Infraestructure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6.4 Ambiente de trabajo: PP, CMMI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Las personas: ¿Cómo determinar la calificación necesaria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1. Identificar habilidades necesarias en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2. Identificar habilidades disponib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3. Determinar la diferencia entre lo necesario y lo dispon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4. Acortar esa br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 Evaluar los efectos de dichas acc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o las organizaciones y los clientes tienen necesidades cambiantes, la educación continua se transforma en una actividad para la organización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os planes de entrenamiento se deben revisar periódicamente para asegurar que van en la línea de las necesidades del negoci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Tipos de entrenamiento para el personal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Dominio funcional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ce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ultura y valor del negoci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écnicas y práctic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podría haber un déficit de ciertas habilidades en la Organiz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nuevo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asignado a nuevas actividades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no ha desarrollado satisfactoriamente sus actividades actual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proceso definido ha sido actualiz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Nuevas herramientas y métodos están siendo us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organización evolucion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09-29T22:03:10Z</dcterms:modified>
  <cp:revision>485</cp:revision>
  <dc:subject/>
  <dc:title>ISO 9000 aplicado a software</dc:title>
</cp:coreProperties>
</file>