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B5E0-8A8A-49A5-A94B-566A29F4D3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5D05-CE91-404D-BCE0-C16B3F870C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4C15-3CFE-4396-9AA0-879B95CF82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2BDB-8CC9-47B3-BC0B-9C8EAB8F70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4D81-716B-41C2-B579-2C696B15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7FD-4721-486A-B0B7-6D3CAFE4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841-6252-482B-AF9C-ECB12390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791-A98C-41C5-A3CC-E4C50897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5E2CF-5567-41C0-9C24-B4181209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7477B-AF90-41F0-98C0-27011D0C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C200D-06C4-45F6-9A8D-247D1C2E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02B72-4A44-48BB-8BC9-25D4C555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B75BE-C96C-443E-B16C-ECC6CE49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4C0E4-8341-4CC1-9099-F68836D8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947C3-10F0-4DCA-9102-4D4718AE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C22-5B77-48CE-80FE-6CCD72C5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7C706-D414-4362-A001-FEE98FB6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1C0BF-6A49-44A4-B0A8-0578F304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84971-97EF-478E-9AD4-694F8F4E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95B7F-D2EF-4D2B-AC14-A58115A2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20E9C-8163-4A43-9E5F-46055D99A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EAAC-ECC1-4AA4-884A-49317C26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BAF-D641-4603-AA07-B8C8E364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8EE-6ADA-4880-AACA-B713B588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FB2-6086-4899-BAEF-1DA3F239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A32-9518-4932-9F57-BEFDFF6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AEE-18E6-4522-83E2-F01B7EED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C18-1E1F-42A6-BCB3-DC993078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8DD6-6726-49B2-93DC-5D760C53992A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B8DB-2EDE-495F-80EE-FFEFC7D8C389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4026-0D92-41E4-B7F6-76F57D25678D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F48E-1F1C-44A6-8AFD-758A4E9B8E3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36" name="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39" name="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fina el proceso de adquisición y análisis de requerimientos en su empresa piloto 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Use el patrón de proceso dado en clase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recolec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05120"/>
          <a:ext cx="8229600" cy="49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9. Perfil de Calidad para su empresa ejempl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atributos / sub.-atributos son los más relevantes desde el punto de vista de los diferentes interesados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6T03:07:09Z</dcterms:modified>
  <cp:revision>519</cp:revision>
  <dc:subject/>
  <dc:title>ISO 9000 aplicado a software</dc:title>
</cp:coreProperties>
</file>