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B6F-0E6F-4F57-BABC-298E1CEC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030-1083-4C86-A2C3-83B2E54D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354-5ACD-45C3-8C00-5561A88E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3C6-CCAD-47DA-A572-BBFA4033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1F6-F3FA-4531-8A6A-6DC4A1EB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E9B-3862-4B31-B567-0E5EFE45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84F-44E4-4FA9-A2C1-FE96F928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13B-0830-42E2-98AA-DC6CEA8F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DEC-A9D3-4361-91DE-76F0D79D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42F-0522-49CE-B9AF-A10FBBB1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969-5A32-4E2F-B627-FB91619C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9C5-1BF3-4191-9519-D9E84DCD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886A-0EF2-4C02-9057-EFD78A308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versaciones de Evalu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oderosa herramienta para mejorar la productividad y motivación de los trabaj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versaciones de Evalu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532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s conversaciones individuales se realizaron en un total de 26 dependencias de la SET, abar-cando a un total de 160 funcio-n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cada conversación, sin conse-cuencias administrativas, el eva-luador le explicó al evaluado los aspectos más positivos y negativos de su trabajo, y lo que se esperaba de él a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su vez, el evaluado expresó su opinión sobre la institución y su traba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948360" y="214200"/>
          <a:ext cx="2011320" cy="6643800"/>
        </p:xfrm>
        <a:graphic>
          <a:graphicData uri="http://schemas.openxmlformats.org/drawingml/2006/table">
            <a:tbl>
              <a:tblPr/>
              <a:tblGrid>
                <a:gridCol w="2011320"/>
              </a:tblGrid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z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ah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verg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u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Rom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Va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e Pl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y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erto Pl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ce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an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Cristob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Pedro de Macor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cion de Insp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Los resultados, en verdad, excedieron todas las expectativas…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fue la opinión de los evaluadores… en una escala de 5= Muy Bien a 1= Muy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opinión de los evalu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716360" y="1628640"/>
          <a:ext cx="4176720" cy="1914840"/>
        </p:xfrm>
        <a:graphic>
          <a:graphicData uri="http://schemas.openxmlformats.org/drawingml/2006/table">
            <a:tbl>
              <a:tblPr/>
              <a:tblGrid>
                <a:gridCol w="3424320"/>
                <a:gridCol w="75240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versación de evalua-ción tuvo en lo general un resulta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reacción del evaluado frente a este procedimiento f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708360" y="3716280"/>
          <a:ext cx="5184720" cy="2644920"/>
        </p:xfrm>
        <a:graphic>
          <a:graphicData uri="http://schemas.openxmlformats.org/drawingml/2006/table">
            <a:tbl>
              <a:tblPr/>
              <a:tblGrid>
                <a:gridCol w="4392720"/>
                <a:gridCol w="79200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versación de evaluación tuvo en lo general, en mi opinión, un re-sulta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ctitud y objetividad del evalua-dor durante este procedimiento f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artir de esta conversación, tengo más claro lo que se espera de mi trabajo y mi desempeño: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En conclusión: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municación entre las personas, ha-blando objetivamente y sin ocultamiento, en un ambiente de confianza y buenas intenciones, es la mejor herramienta para mejorar los ambientes laborales y la productividad de las organiz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s una práctica que pudiera aplicarse periódicamente, en tod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8:49:40Z</dcterms:created>
  <dc:creator>mwaissbluth</dc:creator>
  <dc:description/>
  <dc:language>en-US</dc:language>
  <cp:lastModifiedBy>mwaissbluth</cp:lastModifiedBy>
  <dcterms:modified xsi:type="dcterms:W3CDTF">2003-09-15T19:06:18Z</dcterms:modified>
  <cp:revision>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3244632</vt:r8>
  </property>
  <property fmtid="{D5CDD505-2E9C-101B-9397-08002B2CF9AE}" pid="3" name="_AuthorEmail">
    <vt:lpwstr>mariow@dii.uchile.cl</vt:lpwstr>
  </property>
  <property fmtid="{D5CDD505-2E9C-101B-9397-08002B2CF9AE}" pid="4" name="_AuthorEmailDisplayName">
    <vt:lpwstr>Mario Waissbluth</vt:lpwstr>
  </property>
  <property fmtid="{D5CDD505-2E9C-101B-9397-08002B2CF9AE}" pid="5" name="_EmailSubject">
    <vt:lpwstr>Material de diplomado</vt:lpwstr>
  </property>
</Properties>
</file>