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026-6ECE-488F-A505-2F753F58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EA8-5AA7-476D-BFAE-0BDD9C68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4D7-959E-4755-AB84-C1E72527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C06-0B72-492B-9A50-004D9F12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3E0-897A-414F-A59A-8306EF3D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F3F-8C07-4D84-9B85-C9DAE695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0E5-8F9A-48AD-8569-25E0D3FD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134-91AE-49A6-8900-D3637D58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78B-E0A1-4DFA-A532-19FC7483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D7A-A6A8-4243-B98E-282BB48C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D76-632D-48E9-8298-AC7E4B6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5CE-F0EB-4374-8177-B17C1427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00C0-19F3-4F9B-B97D-0691D9278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oderosa herramienta para mejorar la productividad y motivación de los trabaj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s conversaciones individuales se realizaron en un total de 26 dependencias de la SET, abar-cando a un total de 160 funcio-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ada conversación, sin conse-cuencias administrativas, el eva-luador le explicó al evaluado los aspectos más positivos y negativos de su trabajo, y lo que se esperaba de él a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su vez, el evaluado expresó su opinión sobre la institución y su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948360" y="214200"/>
          <a:ext cx="2011320" cy="6643800"/>
        </p:xfrm>
        <a:graphic>
          <a:graphicData uri="http://schemas.openxmlformats.org/drawingml/2006/table">
            <a:tbl>
              <a:tblPr/>
              <a:tblGrid>
                <a:gridCol w="2011320"/>
              </a:tblGrid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ah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verg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u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Rom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V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e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y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erto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ce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an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Cristob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Pedro de Maco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on de 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Los resultados, en verdad, excedieron todas las expectativas…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fue la opinión de los evaluadores… en una escala de 5= Muy Bien a 1= Muy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pinión de los evalu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16360" y="1628640"/>
          <a:ext cx="4176720" cy="1914840"/>
        </p:xfrm>
        <a:graphic>
          <a:graphicData uri="http://schemas.openxmlformats.org/drawingml/2006/table">
            <a:tbl>
              <a:tblPr/>
              <a:tblGrid>
                <a:gridCol w="3424320"/>
                <a:gridCol w="7524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-ción tuvo en lo general un re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acción del evaluado frente a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08360" y="3716280"/>
          <a:ext cx="5184720" cy="2644920"/>
        </p:xfrm>
        <a:graphic>
          <a:graphicData uri="http://schemas.openxmlformats.org/drawingml/2006/table">
            <a:tbl>
              <a:tblPr/>
              <a:tblGrid>
                <a:gridCol w="4392720"/>
                <a:gridCol w="7920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ción tuvo en lo general, en mi opinión, un re-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ctitud y objetividad del evalua-dor durante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artir de esta conversación, tengo más claro lo que se espera de mi trabajo y mi desempeño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n conclusión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unicación entre las personas, ha-blando objetivamente y sin ocultamiento, en un ambiente de confianza y buenas intenciones, es la mejor herramienta para mejorar los ambientes laborales y la productividad de las organiz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s una práctica que pudiera aplicarse periódicamente, en tod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8:49:40Z</dcterms:created>
  <dc:creator>mwaissbluth</dc:creator>
  <dc:description/>
  <dc:language>en-US</dc:language>
  <cp:lastModifiedBy>mwaissbluth</cp:lastModifiedBy>
  <dcterms:modified xsi:type="dcterms:W3CDTF">2003-09-15T19:06:18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324463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Subject">
    <vt:lpwstr>Material de diplomado</vt:lpwstr>
  </property>
</Properties>
</file>