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5D9-6D24-4825-9683-0509ACC5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5F2-8FF2-4A21-B31F-7992006D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080-7790-42D2-9621-DD98C012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130-7EFE-4E04-86B0-69C0DF16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811-4F56-47B7-BB98-8076754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80E-9FF2-4C81-986D-5AF3BC94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76B-00A9-4CA5-B37C-89B2614E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3E7-13EF-4FF7-A99B-0E013D4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920-5FE7-426D-8E71-4EBC8F31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860-6875-4D91-9B22-2374A90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31B-8827-43C5-98F6-1403F71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218-795E-46EC-A5B9-4CD01AC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2497-74A5-4526-8042-DCCEA2F65E1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port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iebres P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705800" cy="2663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plomado en Gerencia 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blica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Álvaro V. Ramírez Alu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457200"/>
          <a:ext cx="8001000" cy="56800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ordin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duplicidad de funciones, ineficiencia, múltiples respuestas, se manifestaba en el cl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goísmo en la información (falta de oportunidad y calidad de la información; parcelas; campos de inseguridad e información es po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érdida de la misión institucional (procesos y no fines; falta rigurosidad en funciones; socialización efica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ébil trabajo en equipo (poner en común y sentido en lo que se hace - misión; falta liderazgo y proactividad; sólo problemas no solu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ceso de burocracia (mantener lo esencial y cambiar lo fundamen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ébil gestión de RRHH  (falta de polític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457200"/>
          <a:ext cx="8001000" cy="50626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cro y mic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gencia por sobre lo importante (faltan metas cla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con los proyectos (indiferencia; sin mirada de 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ic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precaria de los roles (sin participación de actores relevantes; traslape de roles y falta de clar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idades y compromisos (operativa b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ásic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usencia de trabajo en equipo (individual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erarquía de urgencia e importancia (vivimos apagando incendi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01000" cy="507060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plir lo acordado (no se respetan los compromisos y no se genera ac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do era para ayer (temas de planificación; pérdida de prioridades y merman calidad de trabaj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ista gorda (falta cultura de evaluación y liderazgo para decis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s en la inform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flujos de información mal diseñados; desconfianza; falta de transpare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centivos y motivación insuficiente (ejemplo: PMG; sólo garrote no zanaho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blemas de planificación (reuniones de trabajo; prioridades; distribución de tar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457200"/>
          <a:ext cx="8001000" cy="30304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(integral de mis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del servicio; parceladas; no hay interrela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acer por hacer: Rutinas, por que siempre se ha hecho así.. No buscar alternativas; ley de mínimo esfue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anificación VS urgencias: Respuesta a requerimientos internos y ex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16:30Z</dcterms:created>
  <dc:creator>Alvaro Ramírez</dc:creator>
  <dc:description/>
  <dc:language>en-US</dc:language>
  <cp:lastModifiedBy>Alvaro Ramirez</cp:lastModifiedBy>
  <dcterms:modified xsi:type="dcterms:W3CDTF">2008-07-22T21:07:11Z</dcterms:modified>
  <cp:revision>28</cp:revision>
  <dc:subject/>
  <dc:title>Presentación de PowerPoint</dc:title>
</cp:coreProperties>
</file>