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569BF-7429-4B6B-ACCD-0311A62FCC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D2BED-5B48-4D46-A1EA-B0C3EB3420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3B664-5D07-496F-B36C-7D53389C99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788049-DADF-456D-9072-93CADCF87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6F5F8-B4AF-4BA1-8AE2-3E9F821B6C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428D0F-627A-4D2E-947B-C7401E05CA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A37B4-31AF-41C8-A1F4-26E1CFB205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AFA80-6C6B-4D41-87EE-1370580A97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1E36C-C79E-4DAE-9AAB-1B5E9678F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4030F-2DFC-4A2F-A096-93A54BD2D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69EF-ADE4-4CF5-90E5-5D483FE28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C3DACE-9E93-48F6-B1D4-27F36544E6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24AC32-12F4-4F73-9B3B-73432A824D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Taller AO</a:t>
            </a:r>
            <a:br>
              <a:rPr sz="4400"/>
            </a:b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9 de agos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Organización del Trabaj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Se reúnen en grupos para trabajar (14:30-15:45). Alguien debe tomar nota y entregar al final del trabajo (subir a UCURSO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odelo de Negoci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10 preguntas/afirmaciones originales redactadas (se pueden dividir ámbit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ntrevistables (tipos), al menos 1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800" spc="-1" strike="noStrike">
                <a:solidFill>
                  <a:srgbClr val="000000"/>
                </a:solidFill>
                <a:latin typeface="Arial"/>
              </a:rPr>
              <a:t>Puesta en común y Comentarios Generales sobre planificación (15:45-16:30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52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000000"/>
                </a:solidFill>
                <a:latin typeface="Arial"/>
              </a:rPr>
              <a:t>Comentar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125000"/>
            <a:ext cx="8229600" cy="547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Muchos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os normativo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 Buscar más estadísticas/indicadores/estudios/procesos. Usar Prensa. No se observan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evaluaciones DIPRE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(programa, comprehensiva del gasto, impacto…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cuestionario debe ser aprobad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antes de aplicar. Habrá algunos ítems obligadamente inmodificab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Considera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más tiempo para entrevistas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El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iagrama sistémic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 se puede trabajar desde antes (varios borradores). Se pondrá énfasis en el diagrama sistémico (capacidad de revelar lo esencial y hacer síntesi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Subir </a:t>
            </a:r>
            <a:r>
              <a:rPr b="1" lang="es-CL" sz="2400" spc="-1" strike="noStrike">
                <a:solidFill>
                  <a:srgbClr val="000000"/>
                </a:solidFill>
                <a:latin typeface="Arial"/>
              </a:rPr>
              <a:t>documentación a UCURSO</a:t>
            </a: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, cada grupo se debe crear una sección (dejarla de uso restringido; incluso con clave si en algún caso es necesari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000000"/>
                </a:solidFill>
                <a:latin typeface="Arial"/>
              </a:rPr>
              <a:t>Dudas… por el FOR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09T16:02:44Z</dcterms:created>
  <dc:creator>Jinostroza</dc:creator>
  <dc:description/>
  <dc:language>en-US</dc:language>
  <cp:lastModifiedBy>Jinostroza</cp:lastModifiedBy>
  <dcterms:modified xsi:type="dcterms:W3CDTF">2008-08-09T19:01:32Z</dcterms:modified>
  <cp:revision>3</cp:revision>
  <dc:subject/>
  <dc:title>Taller AO</dc:title>
</cp:coreProperties>
</file>