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2DA-F0DA-4B45-9414-54C5A759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D59-BB92-4A8A-80C7-3E438C96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967-E095-4E39-8F9B-8E6F38A7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2D9-DAC0-463F-ADB6-032D6A7F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4D7-75F7-4B5A-8AD4-85BD6B7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AF3-0A53-4A2F-8F6E-EAC6D231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D6C-3349-44D6-B88E-1B5B8EA1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8CE-28BE-4050-8A34-0CFFF23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4FC-46CD-494B-8F61-9CCCD29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948-1E52-43FA-9532-E130104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56D-7284-4D5C-9337-B9A3DE54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C05-7D39-4148-B9D1-D3E007BA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53A1-8D5D-45B1-B6FB-EACF5264E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9 de ag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ganización del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únen en grupos para trabajar (14:30-15:45). Alguien debe tomar nota y entregar al final del trabajo (subir a UCUR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lo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preguntas/afirmaciones originales redactadas (se pueden dividir ámb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bles (tipos), al meno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sta en común y Comentarios Generales sobre planificación (15:45-16:3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os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os normativ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Buscar más estadísticas/indicadores/estudios/procesos. Usar Prensa. No se observa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ones DIPR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programa, comprehensiva del gasto, impacto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estionario debe ser aproba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tes de aplicar. Habrá algunos ítems obligadamente inmodific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ás tiempo para entrevist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grama sistém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 puede trabajar desde antes (varios borradores). Se pondrá énfasis en el diagrama sistémico (capacidad de revelar lo esencial y hacer sínt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ación a UCURS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ada grupo se debe crear una sección (dejarla de uso restringido; incluso con clave si en algún caso es necesa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das… por el F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6:02:44Z</dcterms:created>
  <dc:creator>Jinostroza</dc:creator>
  <dc:description/>
  <dc:language>en-US</dc:language>
  <cp:lastModifiedBy>Jinostroza</cp:lastModifiedBy>
  <dcterms:modified xsi:type="dcterms:W3CDTF">2008-08-09T19:01:32Z</dcterms:modified>
  <cp:revision>3</cp:revision>
  <dc:subject/>
  <dc:title>Taller AO</dc:title>
</cp:coreProperties>
</file>