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62CC-4DA8-4D4B-A5E6-76218CD12F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9600-D295-41F8-A292-4740861CDF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A762-C8C8-4CF9-AD4C-F5C74EA123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artner.com/silentlocalechooser.jsp?locale=wcw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AIXubjbO6Rk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www.youtube.com/watch?v=FLxB4pHH_GY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youtube.com/watch?v=LHFcGgoS1W8" TargetMode="External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hyperlink" Target="http://es.youtube.com/watch?v=CzYzVXxbAoA&amp;feature=related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gartner.com/silentlocalechooser.jsp?locale=wcw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b61"/>
                </a:solidFill>
                <a:latin typeface="Book Antiqua"/>
              </a:rPr>
              <a:t>Introduc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2865600"/>
            <a:ext cx="871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cnologías de Información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obierno Electró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ploma en Gerencia Pública – POLI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3889440" cy="13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22" name="_s605191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605192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Proyectos en Chi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605193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605194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genda Digita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605195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605196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cepto de e-go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605197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605198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electrónic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negoc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605199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605200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vance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605201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obiern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Electrón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35" name="_s606225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606224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Factores crít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éxi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606215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606216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dquisiciones 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606217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606218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eneficios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606219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606220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l pl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stratégic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606221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606222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Administració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proyec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606223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las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Calendari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6 de Julio: Clas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1 de Octubre : Clases 2 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5 de Octubre: Clases 4 y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 de Noviembre: Clases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1 de Noviembre: Clases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2 de Noviembre: Clase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de Diciembre: Clas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6b61"/>
                </a:solidFill>
                <a:latin typeface="Book Antiqua"/>
              </a:rPr>
              <a:t>Metodología</a:t>
            </a:r>
            <a:br>
              <a:rPr sz="4000"/>
            </a:b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todología del programa consiste en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isión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most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osiciones de especialistas inv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de referencia con base en la 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valua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evaluación del curso se realizará a través los siguientes mecanis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areas asociados a los tópicos revisados durante el cu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bajo de aplicación asociado al caso que se desarrolla durante todo el diplo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1341360"/>
          <a:ext cx="835344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3534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162920" cy="451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239240" cy="4894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42920" y="1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T explica más del 50% de la ganancia de productividad de la economía norteamericana desde el año 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3105" t="5316" r="15874" b="3741"/>
          <a:stretch/>
        </p:blipFill>
        <p:spPr>
          <a:xfrm>
            <a:off x="395280" y="1341360"/>
            <a:ext cx="8748720" cy="5256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500600" y="6613560"/>
            <a:ext cx="16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: www.nasdaq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054400" y="2133720"/>
            <a:ext cx="1944360" cy="28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Evolución del NASDAQ-100 </a:t>
            </a:r>
            <a:br>
              <a:rPr sz="1800"/>
            </a:b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1999 - 2005</a:t>
            </a:r>
            <a:endParaRPr b="0" lang="en-US" sz="18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5" name=""/>
          <p:cNvSpPr/>
          <p:nvPr/>
        </p:nvSpPr>
        <p:spPr>
          <a:xfrm>
            <a:off x="1980360" y="40464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Times New Roman"/>
              </a:rPr>
              <a:t>La Burbuja de las nuevas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Alcanc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tear la motivación del curso, sus objetivos, programa y la forma en que se desarrollará y evaluar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894880" cy="1262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928800" y="1569960"/>
            <a:ext cx="7143480" cy="5288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www.gartner.com/it/images/homepage/gartner136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72240" y="1714680"/>
            <a:ext cx="1162080" cy="29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4643280"/>
            <a:ext cx="2095560" cy="148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0800" y="1857240"/>
            <a:ext cx="2857320" cy="47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4240" y="1571760"/>
            <a:ext cx="2276640" cy="2639880"/>
          </a:xfrm>
          <a:prstGeom prst="rect">
            <a:avLst/>
          </a:prstGeom>
          <a:ln w="0">
            <a:noFill/>
          </a:ln>
        </p:spPr>
      </p:pic>
      <p:pic>
        <p:nvPicPr>
          <p:cNvPr id="173" name="Right Arrow 8" descr=""/>
          <p:cNvPicPr/>
          <p:nvPr/>
        </p:nvPicPr>
        <p:blipFill>
          <a:blip r:embed="rId8"/>
          <a:stretch/>
        </p:blipFill>
        <p:spPr>
          <a:xfrm>
            <a:off x="2865600" y="3505320"/>
            <a:ext cx="2815920" cy="1736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10080" y="6275520"/>
            <a:ext cx="74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http://es.youtube.com/watch?v=CzYzVXxbAoA&amp;feature=relate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68360" y="344520"/>
            <a:ext cx="4608720" cy="10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b61"/>
                </a:solidFill>
                <a:latin typeface="Book Antiqua"/>
              </a:rPr>
              <a:t>Internet se está incorporando mucho más rápido que otras tecnologías.</a:t>
            </a:r>
            <a:endParaRPr b="0" lang="en-US" sz="2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29280" cy="459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601640" y="5883120"/>
            <a:ext cx="647712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5806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0                  20                  40                  60                  80                 100                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09000" y="623052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mpo desde la 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3000">
            <a:off x="-490320" y="363528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netración (%  de la pobl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Convergencia de Industrias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11200" y="1976400"/>
            <a:ext cx="6669000" cy="3774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55840" y="2324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760" y="3519720"/>
            <a:ext cx="273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vergencia de voz/datos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áfico digital excede 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reg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09040" y="23245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20000" y="3427560"/>
            <a:ext cx="21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tándares Abier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ey de Mo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volución hacia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66800" y="498204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67640" y="5797800"/>
            <a:ext cx="270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acidades Multimed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nejo de Derechos de Prop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86640" y="5882040"/>
            <a:ext cx="18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 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ercanía al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00880" y="4799160"/>
            <a:ext cx="25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Electrónica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360" y="637920"/>
            <a:ext cx="690264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Book Antiqua"/>
              </a:rPr>
              <a:t>Una reflexión acerca de la Productividad de las TI</a:t>
            </a:r>
            <a:endParaRPr b="0" lang="en-US" sz="32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19280" y="2254320"/>
          <a:ext cx="4773600" cy="2557440"/>
        </p:xfrm>
        <a:graphic>
          <a:graphicData uri="http://schemas.openxmlformats.org/drawingml/2006/table">
            <a:tbl>
              <a:tblPr/>
              <a:tblGrid>
                <a:gridCol w="2386800"/>
                <a:gridCol w="2386800"/>
              </a:tblGrid>
              <a:tr h="12783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790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63560" y="173196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Esencia de las T.I.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s que permi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tu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mi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mace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13000"/>
            <a:ext cx="215640" cy="2305080"/>
          </a:xfrm>
          <a:custGeom>
            <a:avLst/>
            <a:gdLst>
              <a:gd name="textAreaLeft" fmla="*/ 0 w 215640"/>
              <a:gd name="textAreaRight" fmla="*/ 7776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85320" y="41688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tos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61976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40600" y="42552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ogías que permiten manejar 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256536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0606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ptu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2637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3080" y="35002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c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436572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2000" y="5229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lmace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2421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3800" y="328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Desple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35640" y="4724280"/>
            <a:ext cx="2808360" cy="136872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99280" y="55879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47000">
            <a:off x="5292360" y="4221000"/>
            <a:ext cx="1512720" cy="720720"/>
          </a:xfrm>
          <a:prstGeom prst="leftRightArrow">
            <a:avLst>
              <a:gd name="adj1" fmla="val 50000"/>
              <a:gd name="adj2" fmla="val 4178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www.gartner.com/it/images/homepage/gartner136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429080"/>
            <a:ext cx="1162080" cy="295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4"/>
          <a:stretch/>
        </p:blipFill>
        <p:spPr>
          <a:xfrm>
            <a:off x="7429680" y="4929120"/>
            <a:ext cx="1161720" cy="1590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88640" y="1699920"/>
            <a:ext cx="6383160" cy="4105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ozIP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sh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 web y las arquitecturas orientadas a la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al World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ftware so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¿Por que surge este curso?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impacto de las TIC, Internet y su uso en el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una visión panorámica que nos permita entender esquemáticamente los conceptos y la situación actual respecto a este 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ar sistémic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tecnolo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esafío clave, en los tiempos que cor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79360" y="173664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C= Tecnologías de Información y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Objetivos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3" name=""/>
          <p:cNvSpPr/>
          <p:nvPr/>
        </p:nvSpPr>
        <p:spPr>
          <a:xfrm>
            <a:off x="7462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752480"/>
            <a:ext cx="80168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tregar una visión introductoria esquemática de las TI y el gobierno electrónico, que permita entender sus posibilidades y beneficios, así como su estado actual de ev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352680"/>
            <a:ext cx="80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 espera que al finalizar el curso, Usted sea capaz de enten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importancia de la gestión de procesos en el uso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e se entiende por modelos electrónicos de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oncepto de e-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s tipos de solucione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s ventajas y beneficios que genera el gobierno electrónico, pero también las condiciones que se requieren para su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estado actual y las tendencias futuras en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dentificar las iniciativas y posibilidades que se generan para el mund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ticipar del diseño de estrategias y proyecto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08360" y="4070160"/>
            <a:ext cx="136836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484360" y="4070520"/>
            <a:ext cx="0" cy="86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84360" y="226980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97240" y="1989000"/>
            <a:ext cx="1995480" cy="1165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5864400"/>
            <a:ext cx="1368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372360" y="4070160"/>
            <a:ext cx="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79640" y="385128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059280" y="3494160"/>
            <a:ext cx="506160" cy="35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058920" y="4492800"/>
            <a:ext cx="237960" cy="44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211640" y="3741840"/>
            <a:ext cx="43344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9040" y="60530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lementación eficiente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97240" y="6014880"/>
            <a:ext cx="1347840" cy="22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structura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2384280"/>
            <a:ext cx="5400720" cy="64800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371600"/>
            <a:ext cx="3564000" cy="647640"/>
          </a:xfrm>
          <a:custGeom>
            <a:avLst/>
            <a:gdLst>
              <a:gd name="textAreaLeft" fmla="*/ 0 w 3564000"/>
              <a:gd name="textAreaRight" fmla="*/ 3564360 w 3564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357192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Sinopsis de Tecnología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65300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obiern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573264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las 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7720" y="1949400"/>
            <a:ext cx="6703560" cy="3574440"/>
            <a:chOff x="1377720" y="1949400"/>
            <a:chExt cx="6703560" cy="3574440"/>
          </a:xfrm>
        </p:grpSpPr>
        <p:sp>
          <p:nvSpPr>
            <p:cNvPr id="98" name="_s601100"/>
            <p:cNvSpPr/>
            <p:nvPr/>
          </p:nvSpPr>
          <p:spPr>
            <a:xfrm flipH="1">
              <a:off x="3114360" y="4421880"/>
              <a:ext cx="80712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601099"/>
            <p:cNvSpPr/>
            <p:nvPr/>
          </p:nvSpPr>
          <p:spPr>
            <a:xfrm>
              <a:off x="1377720" y="442404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Rediseñ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e 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601098"/>
            <p:cNvSpPr/>
            <p:nvPr/>
          </p:nvSpPr>
          <p:spPr>
            <a:xfrm>
              <a:off x="5534280" y="4424040"/>
              <a:ext cx="80784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601097"/>
            <p:cNvSpPr/>
            <p:nvPr/>
          </p:nvSpPr>
          <p:spPr>
            <a:xfrm>
              <a:off x="6217560" y="442188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Levantamiento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mape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601096"/>
            <p:cNvSpPr/>
            <p:nvPr/>
          </p:nvSpPr>
          <p:spPr>
            <a:xfrm flipV="1">
              <a:off x="472968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601095"/>
            <p:cNvSpPr/>
            <p:nvPr/>
          </p:nvSpPr>
          <p:spPr>
            <a:xfrm>
              <a:off x="3797640" y="194940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oncep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ás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601094"/>
            <p:cNvSpPr/>
            <p:nvPr/>
          </p:nvSpPr>
          <p:spPr>
            <a:xfrm>
              <a:off x="3797640" y="3598920"/>
              <a:ext cx="186372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08440" y="1949400"/>
            <a:ext cx="7611480" cy="4397400"/>
            <a:chOff x="1108440" y="1949400"/>
            <a:chExt cx="7611480" cy="4397400"/>
          </a:xfrm>
        </p:grpSpPr>
        <p:sp>
          <p:nvSpPr>
            <p:cNvPr id="107" name="_s604268"/>
            <p:cNvSpPr/>
            <p:nvPr/>
          </p:nvSpPr>
          <p:spPr>
            <a:xfrm flipH="1" flipV="1">
              <a:off x="3081960" y="3598920"/>
              <a:ext cx="91548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604267"/>
            <p:cNvSpPr/>
            <p:nvPr/>
          </p:nvSpPr>
          <p:spPr>
            <a:xfrm>
              <a:off x="1108440" y="277416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so de tecnologí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604266"/>
            <p:cNvSpPr/>
            <p:nvPr/>
          </p:nvSpPr>
          <p:spPr>
            <a:xfrm flipH="1">
              <a:off x="3085200" y="442404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604265"/>
            <p:cNvSpPr/>
            <p:nvPr/>
          </p:nvSpPr>
          <p:spPr>
            <a:xfrm>
              <a:off x="1112400" y="44240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Tend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604262"/>
            <p:cNvSpPr/>
            <p:nvPr/>
          </p:nvSpPr>
          <p:spPr>
            <a:xfrm>
              <a:off x="4917600" y="4696920"/>
              <a:ext cx="0" cy="54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604261"/>
            <p:cNvSpPr/>
            <p:nvPr/>
          </p:nvSpPr>
          <p:spPr>
            <a:xfrm>
              <a:off x="3860640" y="52470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Segur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604165"/>
            <p:cNvSpPr/>
            <p:nvPr/>
          </p:nvSpPr>
          <p:spPr>
            <a:xfrm>
              <a:off x="5830920" y="4420080"/>
              <a:ext cx="91548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04166"/>
            <p:cNvSpPr/>
            <p:nvPr/>
          </p:nvSpPr>
          <p:spPr>
            <a:xfrm>
              <a:off x="6606360" y="4421880"/>
              <a:ext cx="211356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and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person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04167"/>
            <p:cNvSpPr/>
            <p:nvPr/>
          </p:nvSpPr>
          <p:spPr>
            <a:xfrm flipV="1">
              <a:off x="5826960" y="359676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04168"/>
            <p:cNvSpPr/>
            <p:nvPr/>
          </p:nvSpPr>
          <p:spPr>
            <a:xfrm>
              <a:off x="6602040" y="2772360"/>
              <a:ext cx="2114280" cy="1099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nologías e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organizacio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04169"/>
            <p:cNvSpPr/>
            <p:nvPr/>
          </p:nvSpPr>
          <p:spPr>
            <a:xfrm flipV="1">
              <a:off x="49143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04170"/>
            <p:cNvSpPr/>
            <p:nvPr/>
          </p:nvSpPr>
          <p:spPr>
            <a:xfrm>
              <a:off x="38574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unicaciones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des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iv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604171"/>
            <p:cNvSpPr/>
            <p:nvPr/>
          </p:nvSpPr>
          <p:spPr>
            <a:xfrm>
              <a:off x="38574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Sinopsis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Tecnologí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7:44:24Z</dcterms:created>
  <dc:creator/>
  <dc:description/>
  <cp:keywords/>
  <dc:language>en-US</dc:language>
  <cp:lastModifiedBy>.</cp:lastModifiedBy>
  <cp:lastPrinted>1999-07-07T01:01:57Z</cp:lastPrinted>
  <dcterms:modified xsi:type="dcterms:W3CDTF">2008-07-26T17:41:49Z</dcterms:modified>
  <cp:revision>194</cp:revision>
  <dc:subject/>
  <dc:title>Information Resources in Business</dc:title>
</cp:coreProperties>
</file>