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B493-28C9-49B0-8992-BA5305B86998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7243-E5A3-481E-B197-BC36E4C05252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21AE-F09E-4732-9C66-F001DC16588F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9499-6B93-4888-AE95-B6EFADC55F3E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043-46E6-439B-AB1E-0E094B2D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5C1-9D6D-42E5-A07A-D2967771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1F7-D452-4304-B6AB-C6DAF848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43E2-A8E4-485B-A82F-21541F65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C298-374E-4CBB-BEE6-FA4C60760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5C0F-897F-485A-8E3D-5B7C346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31AC-0148-41EE-8D0C-1AB4DB7B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F31-77FE-4ED9-B9A7-42756533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BA1-F329-49CC-80A7-31B6495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8CD-0CC7-4209-8E46-1EBBEEAF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75B-B735-40A6-8C58-7FC3F1E9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DBAC-4592-41B7-BAEC-C9557175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E2E8-4D91-4F02-B88E-2F1C03608426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760" y="2714400"/>
            <a:ext cx="82864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Diploma en Gerencia Pública 2009</a:t>
            </a:r>
            <a:br>
              <a:rPr sz="4000"/>
            </a:br>
            <a:r>
              <a:rPr b="1" lang="es-ES" sz="4000" spc="-1" strike="noStrike">
                <a:solidFill>
                  <a:srgbClr val="0070c0"/>
                </a:solidFill>
                <a:latin typeface="Calibri"/>
              </a:rPr>
              <a:t>Taller de Estudio de Caso Institucional &amp; Generación de Iniciativas de Cambi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71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Profesor: José Inostroza La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Ayudante: Natalie Gonzále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Fecha:19/12/09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3 Imagen" descr="logotipo PGPP.jpg"/>
          <p:cNvPicPr/>
          <p:nvPr/>
        </p:nvPicPr>
        <p:blipFill>
          <a:blip r:embed="rId1"/>
          <a:stretch/>
        </p:blipFill>
        <p:spPr>
          <a:xfrm>
            <a:off x="2714760" y="214200"/>
            <a:ext cx="378612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53735"/>
                </a:solidFill>
                <a:latin typeface="Calibri"/>
              </a:rPr>
              <a:t>Contenidos de la Presentación fi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1. Presentación Formal y </a:t>
            </a:r>
            <a:r>
              <a:rPr b="1" lang="es-ES" sz="2000" spc="-1" strike="noStrike">
                <a:solidFill>
                  <a:srgbClr val="000000"/>
                </a:solidFill>
                <a:latin typeface="Calibri"/>
              </a:rPr>
              <a:t>datos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 básicos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2. Modelo de Negocio (2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3. Principales Hallazgos de Fuentes Secundaria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4. Principales Hallazgos de Instrumento‐encuesta (3 lámin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5 Identificación de Problemas Principal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alibri"/>
              </a:rPr>
              <a:t>6. “Diagrama Sistémico”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7. Conclusiones (1 lámi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8. Recomendaciones de Mejoría (Proyecto, líneas de acción, Rediseños de Procesos) (2 lámina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alibri"/>
              </a:rPr>
              <a:t>**Pueden escribir notas en el pp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ANEX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Listado de Entrevistados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Fuentes Revisadas (subir a U‐Curs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NTREGABL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PPT en UCURSO (16/1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Base de Datos en EXCEL con microdatos (anonimizad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953735"/>
                </a:solidFill>
                <a:latin typeface="Calibri"/>
              </a:rPr>
              <a:t>Orden de presentación grup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28400" y="1571760"/>
            <a:ext cx="8715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Bienes Nacion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AG Región Metropolit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CR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ERPLAC 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inisterio de Econom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IDECO Peñaf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CONA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3T22:15:09Z</dcterms:created>
  <dc:creator>Edacunaf</dc:creator>
  <dc:description/>
  <dc:language>en-US</dc:language>
  <cp:lastModifiedBy>Nombre de usuario</cp:lastModifiedBy>
  <dcterms:modified xsi:type="dcterms:W3CDTF">2009-12-10T14:04:51Z</dcterms:modified>
  <cp:revision>30</cp:revision>
  <dc:subject/>
  <dc:title>Buenas experiencias de liderazgo, gestión del cambio e innovación en la gestión pública</dc:title>
</cp:coreProperties>
</file>