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A1C-0C05-41DF-B829-3216E116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40F-DA4F-428B-BE2B-305254E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11A-4863-404A-B901-E4640690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5FC-1FE2-4175-904E-A69BE70B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234-1B7B-4DAD-A0F8-E79A19EB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B1D-B4C6-47A1-9966-D281C69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BCA-DAD6-4096-9D7D-9FF9927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922-E2C6-4AA8-88BF-D4A9FDA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AF3-0DD2-4310-8723-B84FD98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273-0CD9-4C80-849B-1F3F0C62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C7D-3C60-4DDB-BA53-3B69C6E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1A6-395A-408B-9F12-EB59DB06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EE4B-C988-4EC6-B021-1530E51D21D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de módu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manufacturera con alto nivel de co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4"/>
            <a:endCxn id="59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789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stos crecientes </a:t>
            </a:r>
            <a:r>
              <a:rPr b="0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Perdida de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63080" y="1052640"/>
            <a:ext cx="17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mpetidor de bajo co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2360" y="1844640"/>
            <a:ext cx="143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Objetivos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Iniciativas de Rdx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rmación de gestión de 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forzar programas de re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incen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5480" y="343044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uevas cifras de 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de servicios con problema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4" idx="4"/>
            <a:endCxn id="87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3789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la calidad servicio </a:t>
            </a:r>
            <a:r>
              <a:rPr b="0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Alta pérdida de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63440" y="1052640"/>
            <a:ext cx="172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celencia en 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53080" y="1844640"/>
            <a:ext cx="18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Objetivos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yectos de mejor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n la calidad de at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rmación de gestión de calidad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forzar programas de calidad de a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recursos e infra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43044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uevas cifras de calidad y retención de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innovadora de alt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2" idx="4"/>
            <a:endCxn id="115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789360"/>
            <a:ext cx="40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jo % de ventas por nuevos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clo de desarrollo 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rcado nos percibe est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62360" y="1052640"/>
            <a:ext cx="16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_tradnl" sz="1000" spc="-1" strike="noStrike">
                <a:solidFill>
                  <a:srgbClr val="ff0000"/>
                </a:solidFill>
                <a:latin typeface="Arial"/>
              </a:rPr>
              <a:t>Innovación perman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3800" y="1844640"/>
            <a:ext cx="164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Objetivos de nue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produc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Desarrollo de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Programa de I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Información de gestión de desarrollo de productos e I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Optimizar ciclo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Aumentar recursos de I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Incentivos 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4304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Nueva cifr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  <a:ea typeface="Arial"/>
              </a:rPr>
              <a:t>% de ventas de nuev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  <a:ea typeface="Arial"/>
              </a:rPr>
              <a:t>Tpo de ciclo desarrollo de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12:30Z</dcterms:created>
  <dc:creator>.</dc:creator>
  <dc:description/>
  <dc:language>en-US</dc:language>
  <cp:lastModifiedBy>.</cp:lastModifiedBy>
  <dcterms:modified xsi:type="dcterms:W3CDTF">2008-08-08T18:06:29Z</dcterms:modified>
  <cp:revision>5</cp:revision>
  <dc:subject/>
  <dc:title>Ejemplos de módulo 1</dc:title>
</cp:coreProperties>
</file>