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AE7-BA02-4E91-B358-3F9516AA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D46-1E98-45D3-9923-587FD994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B70-56DD-4215-8B99-E471FFC0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E6B-EF84-4474-9FDF-7DCEEB1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EB2-2966-480B-BF1A-71BE5A4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EFE-4DF7-4E96-AD1A-9C525CD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35AF-CD42-4D28-B296-14677F6F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1E3D-64E8-4145-9DB8-87F5F22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D75-00C4-4AF8-9C57-603E893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5D97-3F77-4BB6-AC4F-F6A8F09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025-3CFC-4D71-9838-A5E9277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B69-AEED-4AC9-88F9-AA03582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D18-345D-4350-AB64-3188525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126-F05E-400F-9201-A8C7D51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E61-0115-4BC8-A791-3EF5C79C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C2C-F6AD-403B-8CD3-13F890F2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4649-103D-4F0F-B23B-7EA2643A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919-7142-4026-AD28-F1B0C060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943-97A7-48C5-8DCD-FE92239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E6-4A6E-4339-B7D8-2A758F9A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566-4FC0-471B-AAB5-54E6138D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DDF-89C1-4B64-9901-8235DB0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E1E-B141-4AE6-8A64-1732225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51C-7E1D-4795-AA64-A4BDDFB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0BE-3EF7-4F8F-9EB0-12DE224D51F3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4552-57DC-42C8-BDD2-035E90791776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 Fábrica de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Fabrica de Muebles MES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fabrica de muebles MESA es una empresa mediana dedicada a la fabricación de muebles de dos tip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de oficina, con orientación a líneas estándar masivas y bajo costo, que se comercializa en forma dir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para el hogar, con orientación a segmento masivo, comercializando a través de grandes tiendas y otros intermedi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Diagnóst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consultores ‘WOOD INC’ han hecho un diagnóstico de la empresa cuyos resultados se resumen 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empresa enfrenta problemas financieros, que se manifiestan en el bajo retorno sobre el capital invertido que muestra la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nálisis apuntan a que este síntoma evidencia dos efectos centrales en la empre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ajos beneficios netos de oper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querimiento de capital superior al neces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problema del beneficio neto se debe según los análisis realizado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ventas creciendo muy lentam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costos alto, especialmente a nivel del proceso productivo y la compra de materias prim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 su vez el problema de las ventas, se asocia según los análisi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ta rotación de clientes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ductos maduros iniciando etapa decreciente, especialmente en la linea hog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en la entrega a 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ciencias en el servicio post – ve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otra parte el problema en costos se deberí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cesos ineficientes en la línea de produ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ción deficiente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de motivación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áquinas antiguas en la línea hog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mpras mal gestion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su vez el alto requerimiento de capital de la empresa se puede explicar por el alto nivel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de trabajo requerido para op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fijos uti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o que se refiere a capital de trabajo se ha detecta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es de inventario en la línea de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 de Cx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a gestión en la bodega de product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nivel de activo fijo, la empresa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espacio físico en forma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obsoletos que no se utilizan produc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ota propia subutilizada para distribución y entr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rcicio</a:t>
            </a: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aso Fábrica de Mue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requiere mejorar el retorno de la empresa, estructurando una línea de acción que permita a la empresa revertir su situación actual, para ello se requiere que Us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alice un mapa estratég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ncione los principales indicadores en cada ámb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eñe un BSC bás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25T20:21:44Z</dcterms:modified>
  <cp:revision>128</cp:revision>
  <dc:subject/>
  <dc:title>Sin título de diapositiva</dc:title>
</cp:coreProperties>
</file>