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AD29-C18F-48DF-8893-35118FA3F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4DA8-C26D-40D8-ADE5-E89CF3F6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89EF-6EA5-4057-92D1-22F60E628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6E4D-4134-4D9A-A82B-2E6582B89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5BAD-D3B4-4A23-AFE1-A0222FC2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A4B6-8D38-4FD7-8C01-2D5FEDCF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D065-2F4F-439D-B499-FFB1CA85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74D3-432C-4493-9F04-3566B8C3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109A-0883-4A4A-95B6-F19332A3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403A-B15E-4043-BC1B-5800C81F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F79A-46BA-40B7-84FF-2781758D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627E-09F8-4174-90BA-75C3E48D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B111-E83C-4485-8B0D-16C1CBE54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nálisis de caso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BSC del proyecto 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hilecomp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 de indicadores perspectiva de proc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32508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 de indicadores Formación y Cr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832040"/>
            <a:ext cx="9144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valuación BSC 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770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odelo de Chilecomp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434960"/>
            <a:ext cx="882000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erspectivas de análisis</a:t>
            </a:r>
            <a:br>
              <a:rPr sz="3600"/>
            </a:b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Adaptación al modelo clásico de BS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96472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apa estratégico Chile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812880"/>
            <a:ext cx="9144000" cy="6045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692280"/>
            <a:ext cx="7610760" cy="72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parentar y crear valor en el mercado de las compras públicas, a través de la introducción de instrumentos tecnológicos y de gestión de excele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seño para objetivos de ahor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6392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ablero de indicadores plante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662472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 de indicadores perspectiva del du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849780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 de indicadores cliente compr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2279520"/>
            <a:ext cx="896472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 de indicadores cliente provee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967040"/>
            <a:ext cx="91440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4T21:46:55Z</dcterms:created>
  <dc:creator>.</dc:creator>
  <dc:description/>
  <dc:language>en-US</dc:language>
  <cp:lastModifiedBy>.</cp:lastModifiedBy>
  <dcterms:modified xsi:type="dcterms:W3CDTF">2008-07-24T21:57:49Z</dcterms:modified>
  <cp:revision>2</cp:revision>
  <dc:subject/>
  <dc:title>Análisis de caso BSC del proyecto  Chilecompra</dc:title>
</cp:coreProperties>
</file>