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5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1.png" ContentType="image/png"/>
  <Override PartName="/ppt/media/image6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12.png" ContentType="image/png"/>
  <Override PartName="/ppt/media/image10.png" ContentType="image/png"/>
  <Override PartName="/ppt/media/image4.png" ContentType="image/png"/>
  <Override PartName="/ppt/media/image26.wmf" ContentType="image/x-wmf"/>
  <Override PartName="/ppt/media/image14.wmf" ContentType="image/x-wmf"/>
  <Override PartName="/ppt/media/image24.wmf" ContentType="image/x-wmf"/>
  <Override PartName="/ppt/media/image2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5.png" ContentType="image/png"/>
  <Override PartName="/ppt/media/image2.png" ContentType="image/png"/>
  <Override PartName="/ppt/media/image9.jpeg" ContentType="image/jpeg"/>
  <Override PartName="/ppt/media/image23.wmf" ContentType="image/x-wmf"/>
  <Override PartName="/ppt/media/image3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020F-7612-4DA2-95B7-CD5B6F874B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ADB5-1D9B-47CC-B9CE-A009C467C8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8B77-CA66-4C53-90A6-F57FEC897F8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4394-3E8E-4C15-AE7D-DE8C94CD4C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4D18-2978-4FE5-AD0B-12BE7179A2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A3D7-7C6D-4947-96B1-716DDD3BE2A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CCD4-1FA7-4351-99BD-A6DFFE45CF4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9056-B2DD-4248-9FED-2A467C30F9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D26A-15B1-40FC-8A6E-E7823336E2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8B84-1EC0-4B7A-B31E-1154A7B63E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8F40-D29F-4153-9AB0-26087557F01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1EF6-5515-44B5-9349-01B863EECE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E500-F793-4CE4-A02F-90506E8A138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2827-D635-466D-9AED-A94497E807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3BF2-2BF0-4D00-B8B2-206A169D27D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2B43-D278-4891-BB07-33F37B0D049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C38B-3433-4AA7-9DA5-CD79EEE1767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2313-43E8-442F-9FE0-6E06F174A2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EB32-090A-48DB-A71C-EB1C6E843E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3168-EB9B-4B5C-B415-9D38C86A270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09D7-373E-4479-9D01-5B92211A61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4353-725B-48E1-8B29-B8919F5C11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9059-C194-47B8-A18F-63E97E00E37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7505-2D5A-4EC7-BB56-ED38AF5878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77FF-2FFC-4EC9-91B2-97FA64E3AE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B4EE-1DFE-4229-AEA9-7A7408A0ED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8F95-3EFF-444C-87D1-8D1CAB3054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24E0-78F9-48DB-80AB-B1AACEB1EC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E931-9B75-49D3-8C34-7602762979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8C3-0901-43B3-BE98-8E7B0AE9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55DC-9A64-486A-8BC2-8A9B66AB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B33C-1884-47C1-B3F3-599EAE2F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9DB-3351-4494-9ADE-52D64022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E5E5-2620-4CAE-98EF-38DCEE52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87FC-912E-40CB-8E9F-AC109741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736-89C4-4710-B193-DF6C8F81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6BB9-F7A3-4E1A-AC4D-7E85169A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83E-2F33-4A01-9783-31BF7220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7C36-0461-467D-A0A4-F728F0F5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D915-8EED-4D65-AA0E-C1B4C1C5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D44-83C6-4270-93C7-9CA192EE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0172-DD0C-4B13-A06B-CA190B2A023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2"/>
          <p:cNvGrpSpPr/>
          <p:nvPr/>
        </p:nvGrpSpPr>
        <p:grpSpPr>
          <a:xfrm>
            <a:off x="628560" y="2090880"/>
            <a:ext cx="7886880" cy="1585800"/>
            <a:chOff x="628560" y="2090880"/>
            <a:chExt cx="7886880" cy="1585800"/>
          </a:xfrm>
        </p:grpSpPr>
        <p:pic>
          <p:nvPicPr>
            <p:cNvPr id="49" name="Rectangle 2" descr=""/>
            <p:cNvPicPr/>
            <p:nvPr/>
          </p:nvPicPr>
          <p:blipFill>
            <a:blip r:embed="rId1"/>
            <a:stretch/>
          </p:blipFill>
          <p:spPr>
            <a:xfrm>
              <a:off x="628560" y="2090880"/>
              <a:ext cx="788688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85800" y="213048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4400" spc="-1" strike="noStrike">
                  <a:solidFill>
                    <a:srgbClr val="ffffff"/>
                  </a:solidFill>
                  <a:latin typeface="Arial"/>
                </a:rPr>
                <a:t>Indicadores de gestió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19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t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CuadroTexto"/>
          <p:cNvSpPr/>
          <p:nvPr/>
        </p:nvSpPr>
        <p:spPr>
          <a:xfrm>
            <a:off x="233280" y="214200"/>
            <a:ext cx="3416040" cy="9169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plomad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rategia y Control de Gest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276720" y="1197000"/>
            <a:ext cx="5486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CO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TIDAD DE GASO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UCES DIREC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ELOCI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MPERATURA DEL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ENTA KILÓ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AG00027_"/>
          <p:cNvPicPr/>
          <p:nvPr/>
        </p:nvPicPr>
        <p:blipFill>
          <a:blip r:embed="rId1"/>
          <a:stretch/>
        </p:blipFill>
        <p:spPr>
          <a:xfrm>
            <a:off x="611280" y="1773360"/>
            <a:ext cx="2305080" cy="3027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j0076187"/>
          <p:cNvPicPr/>
          <p:nvPr/>
        </p:nvPicPr>
        <p:blipFill>
          <a:blip r:embed="rId1"/>
          <a:stretch/>
        </p:blipFill>
        <p:spPr>
          <a:xfrm>
            <a:off x="900000" y="2781360"/>
            <a:ext cx="2614680" cy="2449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762120" y="83808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Cuanto hace que no se toma los exámenes de salu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038480" y="350532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La empresa que administramos desde niños no necesita contr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ol clave: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 indicador como sintetizad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s: ROI, PIB, ro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stión basada en ind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qué objetivos se busca log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orte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49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finir indicadores para medir el cumpl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relación con lo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ctibilidad de hacer una medición obje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49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los estándares para cada indicad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de comparación, re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le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49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cómo se va a contr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d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s d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finición de ind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dentificar o definir explícitamente qué es lo que se quiere me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 expresarse en un concepto genérico (Rotación de inventarios)  o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o concepto que relacione variables (Porcentaje de...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órmula de cálc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ablecer claramente las variables y operaciones que se deben realizar para el cálculo del indic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dios de ver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dentificar elementos 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finir métodos/instrumentos de medición que garanticen autonomía del evalu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canismos de captura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qué forma se registran y recuperan los datos para el cálculo del indic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ta (estánd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alor deseado del indicador que se desea alcan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mporalidad / Gradu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Oval 2"/>
          <p:cNvSpPr/>
          <p:nvPr/>
        </p:nvSpPr>
        <p:spPr>
          <a:xfrm>
            <a:off x="250920" y="1197000"/>
            <a:ext cx="8424720" cy="504036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PASOS BASICOS PARA LA CONSTRUCCION DE 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DENTIFICAR OBJETIVOS Y M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DENTIFICAR LAS AREAS DE MEDICION DE DESEMPEÑ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TRUIR LAS FORMULAS O ALGORIT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ALIDAR: APLICAR  CRITERIOS DE TECNICOS Y 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R LA INFORMACION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ER RESPONSABILIDADES ORGANIZ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UNICAR E INFOR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4356000" y="1197000"/>
            <a:ext cx="216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 flipH="1">
            <a:off x="4356000" y="6237360"/>
            <a:ext cx="28728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. Objetiv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Para que queremos los indicado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84360" y="2133720"/>
            <a:ext cx="48960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Medir / compa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Revisar tend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Contro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Evalu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Gestio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Indicadores europeos"/>
          <p:cNvPicPr/>
          <p:nvPr/>
        </p:nvPicPr>
        <p:blipFill>
          <a:blip r:embed="rId1"/>
          <a:srcRect l="0" t="0" r="0" b="42515"/>
          <a:stretch/>
        </p:blipFill>
        <p:spPr>
          <a:xfrm>
            <a:off x="971640" y="825480"/>
            <a:ext cx="7416720" cy="5045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PSA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13" descr=""/>
          <p:cNvPicPr/>
          <p:nvPr/>
        </p:nvPicPr>
        <p:blipFill>
          <a:blip r:embed="rId1"/>
          <a:srcRect l="60564" t="42830" r="19428" b="21079"/>
          <a:stretch/>
        </p:blipFill>
        <p:spPr>
          <a:xfrm>
            <a:off x="468360" y="1646280"/>
            <a:ext cx="7486560" cy="44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Rectangle 3"/>
          <p:cNvGrpSpPr/>
          <p:nvPr/>
        </p:nvGrpSpPr>
        <p:grpSpPr>
          <a:xfrm>
            <a:off x="781200" y="1298520"/>
            <a:ext cx="7600680" cy="5900760"/>
            <a:chOff x="781200" y="1298520"/>
            <a:chExt cx="7600680" cy="5900760"/>
          </a:xfrm>
        </p:grpSpPr>
        <p:pic>
          <p:nvPicPr>
            <p:cNvPr id="55" name="Rectangle 3" descr=""/>
            <p:cNvPicPr/>
            <p:nvPr/>
          </p:nvPicPr>
          <p:blipFill>
            <a:blip r:embed="rId1"/>
            <a:stretch/>
          </p:blipFill>
          <p:spPr>
            <a:xfrm>
              <a:off x="781200" y="1298520"/>
              <a:ext cx="7600680" cy="590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71640" y="1413000"/>
              <a:ext cx="73548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Arial"/>
                </a:rPr>
                <a:t>BSC e indicador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Arial"/>
                </a:rPr>
                <a:t>¿Qué son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Arial"/>
                </a:rPr>
                <a:t>Objetiv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Arial"/>
                </a:rPr>
                <a:t>Desafí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Arial"/>
                </a:rPr>
                <a:t>Clasific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Arial"/>
                </a:rPr>
                <a:t>Indicadores por á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8496360" cy="5440680"/>
          </a:xfrm>
          <a:prstGeom prst="rect">
            <a:avLst/>
          </a:prstGeom>
          <a:ln w="0">
            <a:noFill/>
          </a:ln>
        </p:spPr>
      </p:pic>
      <p:grpSp>
        <p:nvGrpSpPr>
          <p:cNvPr id="137" name="5 CuadroTexto"/>
          <p:cNvGrpSpPr/>
          <p:nvPr/>
        </p:nvGrpSpPr>
        <p:grpSpPr>
          <a:xfrm>
            <a:off x="2610000" y="152280"/>
            <a:ext cx="3705120" cy="506520"/>
            <a:chOff x="2610000" y="152280"/>
            <a:chExt cx="3705120" cy="506520"/>
          </a:xfrm>
        </p:grpSpPr>
        <p:pic>
          <p:nvPicPr>
            <p:cNvPr id="138" name="5 CuadroTexto" descr=""/>
            <p:cNvPicPr/>
            <p:nvPr/>
          </p:nvPicPr>
          <p:blipFill>
            <a:blip r:embed="rId2"/>
            <a:stretch/>
          </p:blipFill>
          <p:spPr>
            <a:xfrm>
              <a:off x="2610000" y="152280"/>
              <a:ext cx="37051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736000" y="214200"/>
              <a:ext cx="34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Indicador de control de proce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OBJETIVOS USO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nduce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oras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ndamenta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 discusión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osibilita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oya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oceso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rmulación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lí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acilita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tablecimiento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 Compromisos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ahoma"/>
              </a:rPr>
              <a:t>(*) Dirección de Presupuestos. Ministerio Hacienda. Chile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pregunta cl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ff0000"/>
                </a:solidFill>
                <a:latin typeface="Arial"/>
              </a:rPr>
              <a:t>¿Qué queremos medir / evaluar 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ff0000"/>
                </a:solidFill>
                <a:latin typeface="Arial"/>
              </a:rPr>
              <a:t>gestionar 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ff0000"/>
                </a:solidFill>
                <a:latin typeface="Arial"/>
              </a:rPr>
              <a:t>controlar?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4. Desafíos asociados al trabajo con indicado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os extremos noc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684360" y="2781360"/>
            <a:ext cx="7704000" cy="720720"/>
          </a:xfrm>
          <a:prstGeom prst="leftRightArrow">
            <a:avLst>
              <a:gd name="adj1" fmla="val 50000"/>
              <a:gd name="adj2" fmla="val 212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79800" y="2008080"/>
            <a:ext cx="78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sencia d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ceso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dicadore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d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uso de un indicador depende del contexto…no hay indicadores buenos siemp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gresos/trabaj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sa de utilización de maquin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EGURARSE QUE ESTOY MIDIENDO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JETIVOS VINCULADOS A  LO ESTRATE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ES POSIBLE, NI DESEABLE MEDIRLO TO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LEVANCIA DE LA MEDI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MEDIR LO CORREC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OCER EL SISTEMA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IDE, ASEGURANDOSE QUE LA MEDIDA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EMPEÑO 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LA OBTEN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 LA ME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aracterísticas de un buen indic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68000" y="148428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inculado al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lev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h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sto efe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Gestio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NDICIONES QUE DEBEN CUMPLIR LOS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INDICADORES DE DESEMPEÑO NO 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FIN EN SI MISMO SINO UN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VALUACION MAS QUE UNA MEDICION ES UNA INTERPRETACION DE LOS RESULTAD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ESPECIFICARSE Y TENERSE EN CUENTA LA INTERRELACION DE LAS DIFERENTES MEDIDAS DE DESEMP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MPLICIDAD DE LA MEDI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Rectangle 2"/>
          <p:cNvGrpSpPr/>
          <p:nvPr/>
        </p:nvGrpSpPr>
        <p:grpSpPr>
          <a:xfrm>
            <a:off x="365040" y="2676600"/>
            <a:ext cx="8345520" cy="1255680"/>
            <a:chOff x="365040" y="2676600"/>
            <a:chExt cx="8345520" cy="1255680"/>
          </a:xfrm>
        </p:grpSpPr>
        <p:pic>
          <p:nvPicPr>
            <p:cNvPr id="58" name="Rectangle 2" descr=""/>
            <p:cNvPicPr/>
            <p:nvPr/>
          </p:nvPicPr>
          <p:blipFill>
            <a:blip r:embed="rId1"/>
            <a:stretch/>
          </p:blipFill>
          <p:spPr>
            <a:xfrm>
              <a:off x="365040" y="2676600"/>
              <a:ext cx="83455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28760" y="271476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38080" indent="-838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400" spc="-1" strike="noStrike">
                  <a:solidFill>
                    <a:srgbClr val="ffffff"/>
                  </a:solidFill>
                  <a:latin typeface="Arial"/>
                </a:rPr>
                <a:t>1. BSC e indicador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O INTERPRETAR LOS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ES DE COMPARAC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EMPEÑO HISTORIC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S DEFI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EMPEÑO LOGRADO EN INSTITUCIONES SIMILARES, PROCESOS O PROGRA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 DE CONSTRUCCION DE INDICADORE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ULAS DE CAL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04920" y="1981080"/>
            <a:ext cx="807696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STION DE AÑOS ANT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centaje de aumento del parque informático de la Unidad Ejecutora y su conexión en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órmula de cálculo: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[(Equipos incorporados y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ectados en el año 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pos conec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ño t-1) -1] *100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3,9%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5,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 DE CONSTRUCCION DE INDICADORE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ULAS DE CAL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09480" y="2438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N ESTANDAR DE INSTITUCIONES SIMI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83560" y="3165480"/>
            <a:ext cx="60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máximo de tramitación de medi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593640" y="4114800"/>
            <a:ext cx="32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órmula de cálcul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41360" y="4572000"/>
            <a:ext cx="7407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toria de N°de día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mitación/N°de trami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lizada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8día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día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5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í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 DE CONSTRUCCION DE INDICADORE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ULAS DE CAL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2452680"/>
            <a:ext cx="9144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 PROGRAMADO, COMPARACION RESPECTO DEL OBJETIVO DEFI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centaje de vías navegables ya habili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16960" y="407988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órmula de cál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898560" y="461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33520" y="4738680"/>
            <a:ext cx="661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ías navegables habilitadas año 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ías navegables programadas año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708440" y="41562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20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4937040" y="4765680"/>
            <a:ext cx="42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/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/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20/143)*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3,9%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¿COMO INTERPRETAR LOS RESULTAD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UNA MEDIDA UNICA QUE DEMUESTRE POR SI SOLA EL DESEMPEÑO DE LA INSTITU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QUIERE UN COMBINACION DE EL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S, IMPACTO, EFICACIA, EFICIENCIA,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ERTOS INDICADORES PUEDEN SER CONTRADICTORIOS ENTRE  ELLOS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50012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OBLEMAS FRECUENTES EN LA CONSTRUCCION DE INDICADOR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MPA DE LA MEDICION: SE MUESTRA COMO RESULTADOS (Y SE HACE)  SOLO LO QUE SE PUEDE M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TIENDE A MEDIR DE ACUERDO A LA INFORMACION DISPONIBLE, DESCUIDANDO LA MEDICION DE LOS ASPECTOS MAS RELEV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BVALORACION DE LAS METAS FRENTE A UN AMBIENTE PUNITIVO DE LA EVALUA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OBLEMAS FRECUENTES EN LA CONSTRUCCION DE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NDENCIA A MEDIRLO TODO PARA NO SUBREPRESENTAR ESFUERZ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DESARROLLAN INDICADORES PERO NO SE USAN PARA LA TOMA DE DECI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TEGRALIDAD DE LAS M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85800" y="2133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828800" y="2209680"/>
            <a:ext cx="5334120" cy="198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Aumentar la cobertura del programa de raciones a un 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de la población esc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Llegar a un costos promedio de $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Alcanzar 1000 calorías por r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6019920" y="4343400"/>
            <a:ext cx="281916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a50021"/>
                </a:solidFill>
                <a:uFillTx/>
                <a:latin typeface="Arial"/>
              </a:rPr>
              <a:t>INDICADOR DE 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* Calorías por r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* Porcentaje de acep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de los escolares (encues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200400" y="4365720"/>
            <a:ext cx="2514600" cy="1501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a50021"/>
                </a:solidFill>
                <a:uFillTx/>
                <a:latin typeface="Arial"/>
              </a:rPr>
              <a:t>INDICADOR DE EFICI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Costo promedio de la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raciones: gasto tot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programa / númer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r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4365360"/>
            <a:ext cx="26668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a50021"/>
                </a:solidFill>
                <a:uFillTx/>
                <a:latin typeface="Arial"/>
              </a:rPr>
              <a:t>INDICADOR DE EFICA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oblación escolar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grama / pobl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olar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5. Clasificac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pueden agrupar de varias for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Tipo  </a:t>
            </a:r>
            <a:r>
              <a:rPr b="0" lang="es-CL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De acuerdo al concepto que mi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Área </a:t>
            </a:r>
            <a:r>
              <a:rPr b="0" lang="es-CL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Ventas, producción, RRHH, Abastecimiento, Inventario, distribució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Finalidad </a:t>
            </a:r>
            <a:r>
              <a:rPr b="0" lang="es-CL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Gestionar, controlar, evaluar, medir, revisar tende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Determinación </a:t>
            </a:r>
            <a:r>
              <a:rPr b="0" lang="es-CL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Objetivos y su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Relación con finanzas </a:t>
            </a:r>
            <a:r>
              <a:rPr b="0" lang="es-CL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Financieros y Oper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Frecuencia </a:t>
            </a:r>
            <a:r>
              <a:rPr b="0" lang="es-CL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Según la periodicidad de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BSC </a:t>
            </a:r>
            <a:r>
              <a:rPr b="0" lang="es-CL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Lead &amp; Lag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SC: Lead and Lag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g indicat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los indicadores de rendimiento final claves para la empresa como beneficio ne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: Los cambios en la estrategia a menudo puede llevar meses ya veces años antes de que puedan tener un impacto en un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ead indicators  son los indicadores que pueden medirse fácilmente y con rapidez y se mostrará el impacto de las operaciones y decisiones estratégicas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umen estructura B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Text Box 4"/>
          <p:cNvGrpSpPr/>
          <p:nvPr/>
        </p:nvGrpSpPr>
        <p:grpSpPr>
          <a:xfrm>
            <a:off x="3170160" y="1852560"/>
            <a:ext cx="2151000" cy="4078440"/>
            <a:chOff x="3170160" y="1852560"/>
            <a:chExt cx="2151000" cy="4078440"/>
          </a:xfrm>
        </p:grpSpPr>
        <p:pic>
          <p:nvPicPr>
            <p:cNvPr id="62" name="Text Box 4" descr=""/>
            <p:cNvPicPr/>
            <p:nvPr/>
          </p:nvPicPr>
          <p:blipFill>
            <a:blip r:embed="rId1"/>
            <a:stretch/>
          </p:blipFill>
          <p:spPr>
            <a:xfrm>
              <a:off x="3170160" y="1852560"/>
              <a:ext cx="2151000" cy="407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279960" y="1916280"/>
              <a:ext cx="193032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Mapa estratég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dicad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Met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Line 5"/>
          <p:cNvSpPr/>
          <p:nvPr/>
        </p:nvSpPr>
        <p:spPr>
          <a:xfrm>
            <a:off x="4140360" y="2349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4140360" y="306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4140360" y="3933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859280" y="4581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Text Box 9"/>
          <p:cNvGrpSpPr/>
          <p:nvPr/>
        </p:nvGrpSpPr>
        <p:grpSpPr>
          <a:xfrm>
            <a:off x="5870520" y="3816360"/>
            <a:ext cx="2084400" cy="1481040"/>
            <a:chOff x="5870520" y="3816360"/>
            <a:chExt cx="2084400" cy="1481040"/>
          </a:xfrm>
        </p:grpSpPr>
        <p:pic>
          <p:nvPicPr>
            <p:cNvPr id="69" name="Text Box 9" descr=""/>
            <p:cNvPicPr/>
            <p:nvPr/>
          </p:nvPicPr>
          <p:blipFill>
            <a:blip r:embed="rId2"/>
            <a:stretch/>
          </p:blipFill>
          <p:spPr>
            <a:xfrm>
              <a:off x="5870520" y="3816360"/>
              <a:ext cx="208440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160320" y="4076640"/>
              <a:ext cx="1509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Arial"/>
                </a:rPr>
                <a:t>Respons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Arial"/>
                </a:rPr>
                <a:t>Recur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Arial"/>
                </a:rPr>
                <a:t>Tim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AutoShape 10"/>
          <p:cNvSpPr/>
          <p:nvPr/>
        </p:nvSpPr>
        <p:spPr>
          <a:xfrm>
            <a:off x="5867280" y="4076640"/>
            <a:ext cx="144720" cy="936720"/>
          </a:xfrm>
          <a:custGeom>
            <a:avLst/>
            <a:gdLst>
              <a:gd name="textAreaLeft" fmla="*/ 92520 w 144720"/>
              <a:gd name="textAreaRight" fmla="*/ 145080 w 1447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: innovación de product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g indicat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ntas por nuevos productos (MMU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% de ventas por productos de menos de 2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ad indica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asto en proyectos de nuevos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vance de proyectos de diseño de nuevos produ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sonal trabajando en nuevos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ff"/>
                </a:solidFill>
                <a:latin typeface="Arial"/>
              </a:rPr>
              <a:t>Clasificación según t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Tipos más relevante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Eficaci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Eficiencia Equida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Calida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Economi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8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23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4296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VALUACION DE LA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214200" y="150012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CO DE LA EVALU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2895480" y="2133720"/>
            <a:ext cx="838440" cy="685800"/>
          </a:xfrm>
          <a:prstGeom prst="rightArrow">
            <a:avLst>
              <a:gd name="adj1" fmla="val 50000"/>
              <a:gd name="adj2" fmla="val 30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114800" y="198108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EDICION DEL DESEMPEÑO LOGRADO  POR LAS INSTITUCION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3641760" y="55008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295280" y="3429000"/>
            <a:ext cx="685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ABORACION DE MEDIDAS DE DESEMP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UEDE ABARCAR TODO EL PROCESO DE PROD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304920" y="4572000"/>
            <a:ext cx="2361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SU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2362320" y="5105520"/>
            <a:ext cx="274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5181480" y="5562720"/>
            <a:ext cx="190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1219320" y="525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449568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792468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6781680" y="6095880"/>
            <a:ext cx="190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5562720" y="6248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12193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449568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55627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"/>
          <p:cNvSpPr/>
          <p:nvPr/>
        </p:nvSpPr>
        <p:spPr>
          <a:xfrm>
            <a:off x="685800" y="0"/>
            <a:ext cx="3124080" cy="556272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990720" y="3505320"/>
            <a:ext cx="2361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371600" y="2209680"/>
            <a:ext cx="1981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O – (OUTPU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447920" y="533520"/>
            <a:ext cx="16761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FINAL O IMPAC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(OUTCOM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16765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"/>
          <p:cNvSpPr/>
          <p:nvPr/>
        </p:nvSpPr>
        <p:spPr>
          <a:xfrm>
            <a:off x="182880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1371600" y="233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>
            <a:off x="251460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85800" y="4724280"/>
            <a:ext cx="2971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INSUM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(INPUT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1"/>
          <p:cNvSpPr/>
          <p:nvPr/>
        </p:nvSpPr>
        <p:spPr>
          <a:xfrm>
            <a:off x="3429000" y="9907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2"/>
          <p:cNvSpPr/>
          <p:nvPr/>
        </p:nvSpPr>
        <p:spPr>
          <a:xfrm>
            <a:off x="3505320" y="22096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3"/>
          <p:cNvSpPr/>
          <p:nvPr/>
        </p:nvSpPr>
        <p:spPr>
          <a:xfrm>
            <a:off x="3429000" y="361476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1447920" y="3962520"/>
            <a:ext cx="0" cy="509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2209680" y="4038480"/>
            <a:ext cx="0" cy="50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>
            <a:off x="2971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7"/>
          <p:cNvSpPr/>
          <p:nvPr/>
        </p:nvSpPr>
        <p:spPr>
          <a:xfrm>
            <a:off x="3886200" y="1905120"/>
            <a:ext cx="304920" cy="761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8"/>
          <p:cNvSpPr/>
          <p:nvPr/>
        </p:nvSpPr>
        <p:spPr>
          <a:xfrm>
            <a:off x="26668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9"/>
          <p:cNvSpPr/>
          <p:nvPr/>
        </p:nvSpPr>
        <p:spPr>
          <a:xfrm>
            <a:off x="3886200" y="3048120"/>
            <a:ext cx="380880" cy="1252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32400 h 1252440"/>
              <a:gd name="textAreaBottom" fmla="*/ 1220040 h 125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4267080" y="3048120"/>
            <a:ext cx="2743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¿Con qué  rapidez lo estamos hacie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¿Cuanto nos cues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4267080" y="1752480"/>
            <a:ext cx="3124440" cy="10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¿ Cuántas unidad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productos y servicios estam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nd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2"/>
          <p:cNvSpPr/>
          <p:nvPr/>
        </p:nvSpPr>
        <p:spPr>
          <a:xfrm>
            <a:off x="3733920" y="464832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3"/>
          <p:cNvSpPr/>
          <p:nvPr/>
        </p:nvSpPr>
        <p:spPr>
          <a:xfrm>
            <a:off x="4038480" y="4648320"/>
            <a:ext cx="228600" cy="799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520 h 799920"/>
              <a:gd name="textAreaBottom" fmla="*/ 779400 h 79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4419720" y="4572000"/>
            <a:ext cx="350496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¿Cuántos recursos invertimos, cuanto personal trabajó en el proce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5"/>
          <p:cNvSpPr/>
          <p:nvPr/>
        </p:nvSpPr>
        <p:spPr>
          <a:xfrm>
            <a:off x="0" y="1566720"/>
            <a:ext cx="9144000" cy="50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4114800" y="380880"/>
            <a:ext cx="3429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ómo están cambiando las condiciones que estamos intervinie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7"/>
          <p:cNvSpPr/>
          <p:nvPr/>
        </p:nvSpPr>
        <p:spPr>
          <a:xfrm>
            <a:off x="3809880" y="4572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990720" y="1295280"/>
            <a:ext cx="7315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8080"/>
                </a:solidFill>
                <a:latin typeface="Arial"/>
              </a:rPr>
              <a:t>Procesos</a:t>
            </a:r>
            <a:r>
              <a:rPr b="0" i="1" lang="es-ES_tradnl" sz="2400" spc="-1" strike="noStrike">
                <a:solidFill>
                  <a:srgbClr val="80808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actividades que es necesario ejecutar para la generación y entrega del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8080"/>
                </a:solidFill>
                <a:latin typeface="Arial"/>
              </a:rPr>
              <a:t>Producto: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resultados directos obtenidos de los procesos o efectos inmediatos sobre la población objetivo beneficiada; ejemplos: beneficios otorgados, cursos impartidos, urgencias atendid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            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Los productos pueden tener que satisfacer requisitos de calidad: producida y   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percibi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8080"/>
                </a:solidFill>
                <a:latin typeface="Arial"/>
              </a:rPr>
              <a:t>Resultados (impacto):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resultados esperados como propósito final de la organización; deben º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traducirse en un mejoramiento significativo, en algunos casos perdurable en el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tiempo, en algunas de las condiciones o características de la población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objetivo; ejemplos: aumento en el nivel de remuneraciones de una población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capacitada, mejoramiento en el nivel socio económico de familias asistidas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técnic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295280" y="68580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Indicadores DIPRES: Ámbitos de Control 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BJETIVO DEL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304920" y="2286000"/>
            <a:ext cx="167616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4"/>
          <p:cNvSpPr/>
          <p:nvPr/>
        </p:nvSpPr>
        <p:spPr>
          <a:xfrm>
            <a:off x="2590920" y="2286000"/>
            <a:ext cx="167616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>
            <a:off x="7162920" y="2286000"/>
            <a:ext cx="167616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4876920" y="2362320"/>
            <a:ext cx="17524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990720" y="4435920"/>
            <a:ext cx="2438280" cy="459720"/>
          </a:xfrm>
          <a:prstGeom prst="rect">
            <a:avLst/>
          </a:pr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5791320" y="4435920"/>
            <a:ext cx="2438280" cy="459720"/>
          </a:xfrm>
          <a:prstGeom prst="rect">
            <a:avLst/>
          </a:pr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ic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3429000" y="6001200"/>
            <a:ext cx="2438280" cy="459720"/>
          </a:xfrm>
          <a:prstGeom prst="rect">
            <a:avLst/>
          </a:pr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>
            <a:off x="1066680" y="365760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 flipH="1">
            <a:off x="2133720" y="3657600"/>
            <a:ext cx="12189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5715000" y="3733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 flipH="1">
            <a:off x="6933960" y="365760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2057400" y="4952880"/>
            <a:ext cx="23623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5"/>
          <p:cNvSpPr/>
          <p:nvPr/>
        </p:nvSpPr>
        <p:spPr>
          <a:xfrm flipH="1">
            <a:off x="4495680" y="4952880"/>
            <a:ext cx="23623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1066680" y="19051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7"/>
          <p:cNvSpPr/>
          <p:nvPr/>
        </p:nvSpPr>
        <p:spPr>
          <a:xfrm>
            <a:off x="10666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34290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9"/>
          <p:cNvSpPr/>
          <p:nvPr/>
        </p:nvSpPr>
        <p:spPr>
          <a:xfrm>
            <a:off x="571500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"/>
          <p:cNvSpPr/>
          <p:nvPr/>
        </p:nvSpPr>
        <p:spPr>
          <a:xfrm>
            <a:off x="79246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5076720" y="1052640"/>
            <a:ext cx="1219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b0101"/>
                </a:solidFill>
                <a:latin typeface="Arial"/>
                <a:ea typeface="Times New Roman"/>
              </a:rPr>
              <a:t>ECON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4191120" y="2133720"/>
            <a:ext cx="1371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b0101"/>
                </a:solidFill>
                <a:latin typeface="Arial"/>
                <a:ea typeface="Times New Roman"/>
              </a:rPr>
              <a:t>EFICI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867280" y="2133720"/>
            <a:ext cx="12956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b0101"/>
                </a:solidFill>
                <a:latin typeface="Arial"/>
                <a:ea typeface="Times New Roman"/>
              </a:rPr>
              <a:t>EFICA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5"/>
          <p:cNvSpPr/>
          <p:nvPr/>
        </p:nvSpPr>
        <p:spPr>
          <a:xfrm flipH="1">
            <a:off x="2209680" y="1052640"/>
            <a:ext cx="2867040" cy="20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"/>
          <p:cNvSpPr/>
          <p:nvPr/>
        </p:nvSpPr>
        <p:spPr>
          <a:xfrm>
            <a:off x="6300720" y="1125360"/>
            <a:ext cx="1727280" cy="18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1600200" y="3048120"/>
            <a:ext cx="1066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3276720" y="29718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266688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464832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"/>
          <p:cNvSpPr/>
          <p:nvPr/>
        </p:nvSpPr>
        <p:spPr>
          <a:xfrm flipH="1">
            <a:off x="4114440" y="2362320"/>
            <a:ext cx="304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5181480" y="2438280"/>
            <a:ext cx="45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5029200" y="30481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T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4"/>
          <p:cNvSpPr/>
          <p:nvPr/>
        </p:nvSpPr>
        <p:spPr>
          <a:xfrm>
            <a:off x="617220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6553080" y="3048120"/>
            <a:ext cx="1524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3733920" y="3429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7"/>
          <p:cNvSpPr/>
          <p:nvPr/>
        </p:nvSpPr>
        <p:spPr>
          <a:xfrm flipH="1">
            <a:off x="5486040" y="3352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2666880" y="373392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6b657"/>
                </a:solidFill>
                <a:latin typeface="Arial"/>
                <a:ea typeface="Times New Roman"/>
              </a:rPr>
              <a:t>NIVEL DE SERV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4952880" y="37339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6b657"/>
                </a:solidFill>
                <a:latin typeface="Arial"/>
                <a:ea typeface="Times New Roman"/>
              </a:rPr>
              <a:t>UTI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6b657"/>
                </a:solidFill>
                <a:latin typeface="Arial"/>
                <a:ea typeface="Times New Roman"/>
              </a:rPr>
              <a:t>SATISFAC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4114800" y="41911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1"/>
          <p:cNvSpPr/>
          <p:nvPr/>
        </p:nvSpPr>
        <p:spPr>
          <a:xfrm flipH="1">
            <a:off x="5105160" y="41911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3962520" y="464832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6b657"/>
                </a:solidFill>
                <a:latin typeface="Arial"/>
                <a:ea typeface="Times New Roman"/>
              </a:rPr>
              <a:t>POB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6b657"/>
                </a:solidFill>
                <a:latin typeface="Arial"/>
                <a:ea typeface="Times New Roman"/>
              </a:rPr>
              <a:t>OBJE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3"/>
          <p:cNvSpPr/>
          <p:nvPr/>
        </p:nvSpPr>
        <p:spPr>
          <a:xfrm>
            <a:off x="-914400" y="1523880"/>
            <a:ext cx="9144000" cy="29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4"/>
          <p:cNvSpPr/>
          <p:nvPr/>
        </p:nvSpPr>
        <p:spPr>
          <a:xfrm flipH="1">
            <a:off x="5791320" y="2421000"/>
            <a:ext cx="581040" cy="70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5"/>
          <p:cNvSpPr/>
          <p:nvPr/>
        </p:nvSpPr>
        <p:spPr>
          <a:xfrm>
            <a:off x="6477120" y="243828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755640" y="0"/>
            <a:ext cx="739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RELACIONES ENTRE EL PROCESO DE PRODUCCION DE BIENES Y SERVICIOS Y LA EFICIENCIA, EFICACIA, ECONOMIA(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7"/>
          <p:cNvSpPr/>
          <p:nvPr/>
        </p:nvSpPr>
        <p:spPr>
          <a:xfrm>
            <a:off x="97920" y="5899320"/>
            <a:ext cx="89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*) Fuente: Indicadores de Gestión para las Entidades Públicas. AECA. Madrid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NCEPTOS Y EJEMPLOS DE INDICADORES DE</a:t>
            </a:r>
            <a:r>
              <a:rPr b="1" lang="es-ES_tradnl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S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99cc00"/>
                </a:solidFill>
                <a:latin typeface="Arial"/>
              </a:rPr>
              <a:t>EFICAC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de el grado de cumplimiento de los objetivos y metas establecidos, a través de los productos o resultados obtenidos, sin referencia al costo de consecución de los mi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NCEPTO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IC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ULTADO (% RESULTADO LOGRADO EXITOSAMENTE RESPECTO  REALIZADO-SOLICIT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CALIZACION  (LOGRADO  RESPECTO DEL UNIVER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BERTURA  ( LOGRADO RESPECTO DE LA DEMANDA PO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ACTO (LOGRADO RESPECTO DEL PROBLEMA QUE SE QUIERE ATAC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24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43080" y="990720"/>
            <a:ext cx="8458200" cy="114300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be0e3"/>
                </a:solidFill>
                <a:latin typeface="Arial"/>
              </a:rPr>
              <a:t>CUADRO DE MANDO INTEG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04920" y="3048120"/>
            <a:ext cx="830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uno de los Cuadro de Mando Integral de las unidades de negocio alimenta a su vez las perspectivas del Balanced Scorecard, donde se homogeniza la información y se obtiene el resultado final o cumplimiento de metas y obje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ICAC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3"/>
          <p:cNvGraphicFramePr/>
          <p:nvPr/>
        </p:nvGraphicFramePr>
        <p:xfrm>
          <a:off x="457200" y="2349360"/>
          <a:ext cx="8229600" cy="30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49360"/>
                    <a:ext cx="8229600" cy="30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ICAC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Object 3"/>
          <p:cNvGraphicFramePr/>
          <p:nvPr/>
        </p:nvGraphicFramePr>
        <p:xfrm>
          <a:off x="250920" y="1811160"/>
          <a:ext cx="8642160" cy="32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11160"/>
                    <a:ext cx="864216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ICAC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Object 3"/>
          <p:cNvGraphicFramePr/>
          <p:nvPr/>
        </p:nvGraphicFramePr>
        <p:xfrm>
          <a:off x="1116000" y="2017800"/>
          <a:ext cx="748836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17800"/>
                    <a:ext cx="7488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406440" y="2286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IC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4"/>
          <p:cNvGraphicFramePr/>
          <p:nvPr/>
        </p:nvGraphicFramePr>
        <p:xfrm>
          <a:off x="900000" y="2017800"/>
          <a:ext cx="748836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017800"/>
                    <a:ext cx="7488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ICIENC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scribe la relación entre dos magnitud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producción física de un producto (bien o servicio)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os insumos o recursos que se utilizaronb para alcanzar ese nivel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yor cantidad de servicios dado el mismo nivel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canzar un determinado nivel de servicios utilizando la menor cantidad de recursos po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ICIENC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3"/>
          <p:cNvGraphicFramePr/>
          <p:nvPr/>
        </p:nvGraphicFramePr>
        <p:xfrm>
          <a:off x="1042920" y="2060640"/>
          <a:ext cx="7696440" cy="401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60640"/>
                    <a:ext cx="7696440" cy="40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ICIENC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3"/>
          <p:cNvGraphicFramePr/>
          <p:nvPr/>
        </p:nvGraphicFramePr>
        <p:xfrm>
          <a:off x="457200" y="1690560"/>
          <a:ext cx="8229600" cy="43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90560"/>
                    <a:ext cx="822960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ECONO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pacidad de la institución para mover adecuadamente los recurs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l cumplimiento de sus objetiv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ficiencia manejo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so actual de recursos en relación a 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e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suficiencia financiera en la capacidad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enerar ahorros y en la existencia de equilib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supues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CON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Object 3"/>
          <p:cNvGraphicFramePr/>
          <p:nvPr/>
        </p:nvGraphicFramePr>
        <p:xfrm>
          <a:off x="677880" y="2135160"/>
          <a:ext cx="7778880" cy="392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2135160"/>
                    <a:ext cx="7778880" cy="39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LIDAD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la institución por responder en 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istente, rápida y directa a las necesidade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usu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diciones Indirec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jorar los atributos y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racterísticas de los produ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diciones Direc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rado de satisfacción de 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u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285840" y="520560"/>
          <a:ext cx="8643960" cy="633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520560"/>
                    <a:ext cx="86439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406440" y="2286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LIDA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258920" y="1989000"/>
          <a:ext cx="705816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89000"/>
                    <a:ext cx="705816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LIDAD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3"/>
          <p:cNvGraphicFramePr/>
          <p:nvPr/>
        </p:nvGraphicFramePr>
        <p:xfrm>
          <a:off x="468360" y="1700280"/>
          <a:ext cx="8136000" cy="403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1360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826920" y="260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INDICADORES DE DESEMPEÑO (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572040" y="2754360"/>
            <a:ext cx="1607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FICA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"/>
          <p:cNvSpPr/>
          <p:nvPr/>
        </p:nvSpPr>
        <p:spPr>
          <a:xfrm>
            <a:off x="2257560" y="2971800"/>
            <a:ext cx="581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2333520" y="3581280"/>
            <a:ext cx="57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6"/>
          <p:cNvSpPr/>
          <p:nvPr/>
        </p:nvSpPr>
        <p:spPr>
          <a:xfrm>
            <a:off x="2333520" y="4191120"/>
            <a:ext cx="57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7"/>
          <p:cNvSpPr/>
          <p:nvPr/>
        </p:nvSpPr>
        <p:spPr>
          <a:xfrm>
            <a:off x="2362320" y="48769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1981080" y="182880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            PRODUCTO         RESUL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9"/>
          <p:cNvSpPr/>
          <p:nvPr/>
        </p:nvSpPr>
        <p:spPr>
          <a:xfrm>
            <a:off x="2895480" y="2225520"/>
            <a:ext cx="152640" cy="3489480"/>
          </a:xfrm>
          <a:prstGeom prst="downArrow">
            <a:avLst>
              <a:gd name="adj1" fmla="val 50000"/>
              <a:gd name="adj2" fmla="val 571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4724280" y="2209680"/>
            <a:ext cx="152640" cy="3489480"/>
          </a:xfrm>
          <a:prstGeom prst="downArrow">
            <a:avLst>
              <a:gd name="adj1" fmla="val 50000"/>
              <a:gd name="adj2" fmla="val 571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6781680" y="2209680"/>
            <a:ext cx="152640" cy="3489480"/>
          </a:xfrm>
          <a:prstGeom prst="downArrow">
            <a:avLst>
              <a:gd name="adj1" fmla="val 50000"/>
              <a:gd name="adj2" fmla="val 571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219240" y="2270160"/>
            <a:ext cx="395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1332000" y="112536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AMBITOS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331920" y="6356520"/>
            <a:ext cx="50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*) Indicadores de Desempeño. www.dipre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atriz de cober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ica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ici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 de servi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Oval 30"/>
          <p:cNvSpPr/>
          <p:nvPr/>
        </p:nvSpPr>
        <p:spPr>
          <a:xfrm>
            <a:off x="6705720" y="2438280"/>
            <a:ext cx="1752480" cy="3353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7010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7086600" y="37321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Siempre deben exis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3"/>
          <p:cNvSpPr/>
          <p:nvPr/>
        </p:nvSpPr>
        <p:spPr>
          <a:xfrm>
            <a:off x="3200400" y="2819520"/>
            <a:ext cx="2971800" cy="297180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4"/>
          <p:cNvSpPr/>
          <p:nvPr/>
        </p:nvSpPr>
        <p:spPr>
          <a:xfrm>
            <a:off x="3886200" y="3962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Son de apo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"/>
          <p:cNvGrpSpPr/>
          <p:nvPr/>
        </p:nvGrpSpPr>
        <p:grpSpPr>
          <a:xfrm>
            <a:off x="0" y="1142640"/>
            <a:ext cx="9143280" cy="5257440"/>
            <a:chOff x="0" y="1142640"/>
            <a:chExt cx="9143280" cy="5257440"/>
          </a:xfrm>
        </p:grpSpPr>
        <p:grpSp>
          <p:nvGrpSpPr>
            <p:cNvPr id="346" name="Group 3"/>
            <p:cNvGrpSpPr/>
            <p:nvPr/>
          </p:nvGrpSpPr>
          <p:grpSpPr>
            <a:xfrm>
              <a:off x="6480" y="1142640"/>
              <a:ext cx="9136800" cy="5257440"/>
              <a:chOff x="6480" y="1142640"/>
              <a:chExt cx="9136800" cy="5257440"/>
            </a:xfrm>
          </p:grpSpPr>
          <p:sp>
            <p:nvSpPr>
              <p:cNvPr id="347" name="Rectangle 4"/>
              <p:cNvSpPr/>
              <p:nvPr/>
            </p:nvSpPr>
            <p:spPr>
              <a:xfrm>
                <a:off x="6480" y="1163160"/>
                <a:ext cx="9136800" cy="523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5"/>
              <p:cNvSpPr/>
              <p:nvPr/>
            </p:nvSpPr>
            <p:spPr>
              <a:xfrm>
                <a:off x="6480" y="5412600"/>
                <a:ext cx="9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6"/>
              <p:cNvSpPr/>
              <p:nvPr/>
            </p:nvSpPr>
            <p:spPr>
              <a:xfrm>
                <a:off x="6480" y="3439440"/>
                <a:ext cx="9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7"/>
              <p:cNvSpPr/>
              <p:nvPr/>
            </p:nvSpPr>
            <p:spPr>
              <a:xfrm>
                <a:off x="6480" y="4426200"/>
                <a:ext cx="9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8"/>
              <p:cNvSpPr/>
              <p:nvPr/>
            </p:nvSpPr>
            <p:spPr>
              <a:xfrm>
                <a:off x="6480" y="2453400"/>
                <a:ext cx="9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9"/>
              <p:cNvSpPr/>
              <p:nvPr/>
            </p:nvSpPr>
            <p:spPr>
              <a:xfrm>
                <a:off x="16560" y="5488200"/>
                <a:ext cx="78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Calida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10"/>
              <p:cNvSpPr/>
              <p:nvPr/>
            </p:nvSpPr>
            <p:spPr>
              <a:xfrm>
                <a:off x="86040" y="2529000"/>
                <a:ext cx="80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Eficac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11"/>
              <p:cNvSpPr/>
              <p:nvPr/>
            </p:nvSpPr>
            <p:spPr>
              <a:xfrm>
                <a:off x="17280" y="3515760"/>
                <a:ext cx="9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Eficienc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2"/>
              <p:cNvSpPr/>
              <p:nvPr/>
            </p:nvSpPr>
            <p:spPr>
              <a:xfrm>
                <a:off x="18720" y="4502160"/>
                <a:ext cx="98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Economí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3"/>
              <p:cNvSpPr/>
              <p:nvPr/>
            </p:nvSpPr>
            <p:spPr>
              <a:xfrm>
                <a:off x="5713560" y="1315080"/>
                <a:ext cx="729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Estim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4"/>
              <p:cNvSpPr/>
              <p:nvPr/>
            </p:nvSpPr>
            <p:spPr>
              <a:xfrm>
                <a:off x="6658560" y="1315080"/>
                <a:ext cx="33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Me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5"/>
              <p:cNvSpPr/>
              <p:nvPr/>
            </p:nvSpPr>
            <p:spPr>
              <a:xfrm>
                <a:off x="3834720" y="18021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200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6"/>
              <p:cNvSpPr/>
              <p:nvPr/>
            </p:nvSpPr>
            <p:spPr>
              <a:xfrm>
                <a:off x="4527000" y="18021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200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7"/>
              <p:cNvSpPr/>
              <p:nvPr/>
            </p:nvSpPr>
            <p:spPr>
              <a:xfrm>
                <a:off x="5211000" y="18021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200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8"/>
              <p:cNvSpPr/>
              <p:nvPr/>
            </p:nvSpPr>
            <p:spPr>
              <a:xfrm>
                <a:off x="5856840" y="18021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200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9"/>
              <p:cNvSpPr/>
              <p:nvPr/>
            </p:nvSpPr>
            <p:spPr>
              <a:xfrm>
                <a:off x="6672960" y="17956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200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20"/>
              <p:cNvSpPr/>
              <p:nvPr/>
            </p:nvSpPr>
            <p:spPr>
              <a:xfrm>
                <a:off x="137520" y="1346760"/>
                <a:ext cx="1276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Producto relevant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21"/>
              <p:cNvSpPr/>
              <p:nvPr/>
            </p:nvSpPr>
            <p:spPr>
              <a:xfrm>
                <a:off x="94320" y="1557000"/>
                <a:ext cx="1346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(bien y/o servicio) al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22"/>
              <p:cNvSpPr/>
              <p:nvPr/>
            </p:nvSpPr>
            <p:spPr>
              <a:xfrm>
                <a:off x="205920" y="1808640"/>
                <a:ext cx="916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que se vincu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23"/>
              <p:cNvSpPr/>
              <p:nvPr/>
            </p:nvSpPr>
            <p:spPr>
              <a:xfrm>
                <a:off x="1202040" y="176868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24"/>
              <p:cNvSpPr/>
              <p:nvPr/>
            </p:nvSpPr>
            <p:spPr>
              <a:xfrm>
                <a:off x="1656720" y="1467000"/>
                <a:ext cx="87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Indicador d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25"/>
              <p:cNvSpPr/>
              <p:nvPr/>
            </p:nvSpPr>
            <p:spPr>
              <a:xfrm>
                <a:off x="1667520" y="1678680"/>
                <a:ext cx="744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Desempeñ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26"/>
              <p:cNvSpPr/>
              <p:nvPr/>
            </p:nvSpPr>
            <p:spPr>
              <a:xfrm>
                <a:off x="2826720" y="1542960"/>
                <a:ext cx="7581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Fórmula 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cálcul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27"/>
              <p:cNvSpPr/>
              <p:nvPr/>
            </p:nvSpPr>
            <p:spPr>
              <a:xfrm>
                <a:off x="3957120" y="1315080"/>
                <a:ext cx="1451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Información Histór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28"/>
              <p:cNvSpPr/>
              <p:nvPr/>
            </p:nvSpPr>
            <p:spPr>
              <a:xfrm flipV="1">
                <a:off x="318960" y="1163160"/>
                <a:ext cx="1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29"/>
              <p:cNvSpPr/>
              <p:nvPr/>
            </p:nvSpPr>
            <p:spPr>
              <a:xfrm flipV="1">
                <a:off x="1467360" y="1142640"/>
                <a:ext cx="0" cy="52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30"/>
              <p:cNvSpPr/>
              <p:nvPr/>
            </p:nvSpPr>
            <p:spPr>
              <a:xfrm>
                <a:off x="8397000" y="1542960"/>
                <a:ext cx="70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Medios d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31"/>
              <p:cNvSpPr/>
              <p:nvPr/>
            </p:nvSpPr>
            <p:spPr>
              <a:xfrm>
                <a:off x="8370000" y="1741680"/>
                <a:ext cx="761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verific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32"/>
              <p:cNvSpPr/>
              <p:nvPr/>
            </p:nvSpPr>
            <p:spPr>
              <a:xfrm>
                <a:off x="7448400" y="1391040"/>
                <a:ext cx="739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Programa/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33"/>
              <p:cNvSpPr/>
              <p:nvPr/>
            </p:nvSpPr>
            <p:spPr>
              <a:xfrm>
                <a:off x="7293600" y="1590120"/>
                <a:ext cx="1052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Subtítulo/ ítem/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34"/>
              <p:cNvSpPr/>
              <p:nvPr/>
            </p:nvSpPr>
            <p:spPr>
              <a:xfrm>
                <a:off x="7336800" y="1827000"/>
                <a:ext cx="687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asign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35"/>
              <p:cNvSpPr/>
              <p:nvPr/>
            </p:nvSpPr>
            <p:spPr>
              <a:xfrm>
                <a:off x="8102160" y="178956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36"/>
              <p:cNvSpPr/>
              <p:nvPr/>
            </p:nvSpPr>
            <p:spPr>
              <a:xfrm flipV="1">
                <a:off x="2539440" y="1153440"/>
                <a:ext cx="0" cy="52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37"/>
              <p:cNvSpPr/>
              <p:nvPr/>
            </p:nvSpPr>
            <p:spPr>
              <a:xfrm flipV="1">
                <a:off x="3676680" y="1164600"/>
                <a:ext cx="0" cy="52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38"/>
              <p:cNvSpPr/>
              <p:nvPr/>
            </p:nvSpPr>
            <p:spPr>
              <a:xfrm flipV="1">
                <a:off x="8237160" y="1142640"/>
                <a:ext cx="0" cy="52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39"/>
              <p:cNvSpPr/>
              <p:nvPr/>
            </p:nvSpPr>
            <p:spPr>
              <a:xfrm flipV="1">
                <a:off x="7270560" y="1142640"/>
                <a:ext cx="0" cy="52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40"/>
              <p:cNvSpPr/>
              <p:nvPr/>
            </p:nvSpPr>
            <p:spPr>
              <a:xfrm flipV="1">
                <a:off x="4379400" y="1618560"/>
                <a:ext cx="0" cy="478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41"/>
              <p:cNvSpPr/>
              <p:nvPr/>
            </p:nvSpPr>
            <p:spPr>
              <a:xfrm flipV="1">
                <a:off x="5082480" y="1618560"/>
                <a:ext cx="0" cy="478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42"/>
              <p:cNvSpPr/>
              <p:nvPr/>
            </p:nvSpPr>
            <p:spPr>
              <a:xfrm flipV="1">
                <a:off x="6487920" y="1162800"/>
                <a:ext cx="0" cy="52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43"/>
              <p:cNvSpPr/>
              <p:nvPr/>
            </p:nvSpPr>
            <p:spPr>
              <a:xfrm flipV="1">
                <a:off x="5707440" y="1162800"/>
                <a:ext cx="0" cy="52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44"/>
              <p:cNvSpPr/>
              <p:nvPr/>
            </p:nvSpPr>
            <p:spPr>
              <a:xfrm>
                <a:off x="3676680" y="1618560"/>
                <a:ext cx="359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Line 45"/>
            <p:cNvSpPr/>
            <p:nvPr/>
          </p:nvSpPr>
          <p:spPr>
            <a:xfrm>
              <a:off x="6480" y="2812320"/>
              <a:ext cx="14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46"/>
            <p:cNvSpPr/>
            <p:nvPr/>
          </p:nvSpPr>
          <p:spPr>
            <a:xfrm>
              <a:off x="9720" y="5792040"/>
              <a:ext cx="14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47"/>
            <p:cNvSpPr/>
            <p:nvPr/>
          </p:nvSpPr>
          <p:spPr>
            <a:xfrm>
              <a:off x="0" y="4805640"/>
              <a:ext cx="14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8"/>
            <p:cNvSpPr/>
            <p:nvPr/>
          </p:nvSpPr>
          <p:spPr>
            <a:xfrm>
              <a:off x="6480" y="3819240"/>
              <a:ext cx="14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Rectangle 49"/>
          <p:cNvSpPr/>
          <p:nvPr/>
        </p:nvSpPr>
        <p:spPr>
          <a:xfrm>
            <a:off x="971640" y="3333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ATRIZ DE INDICADORES (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0"/>
          <p:cNvSpPr/>
          <p:nvPr/>
        </p:nvSpPr>
        <p:spPr>
          <a:xfrm>
            <a:off x="376560" y="6521400"/>
            <a:ext cx="40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*)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Indicadores de Desempeño. www.dipres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684360" y="1700280"/>
            <a:ext cx="7467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Los </a:t>
            </a:r>
            <a:r>
              <a:rPr b="1" i="1" lang="es-ES_tradnl" sz="1400" spc="-1" strike="noStrike">
                <a:solidFill>
                  <a:srgbClr val="808080"/>
                </a:solidFill>
                <a:latin typeface="Arial"/>
              </a:rPr>
              <a:t>indicadores de tendencia, predictivos o inductores de una actuación (lead indicators)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buscan medir el progreso alcanzado en la forma cómo las actividades deben ser desarrollad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Si los indicadores de resultados intentan reflejar el QUE resultados esperar para el éxito, los indicadores de tendencia buscan medir el COM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Los </a:t>
            </a:r>
            <a:r>
              <a:rPr b="1" i="1" lang="es-ES_tradnl" sz="1400" spc="-1" strike="noStrike">
                <a:solidFill>
                  <a:srgbClr val="808080"/>
                </a:solidFill>
                <a:latin typeface="Arial"/>
              </a:rPr>
              <a:t>indicadores de tendencia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son fundamentales para el control de los recursos empleados, los procesos operados, y los productos obtenid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Los indicadores de tendencia constituyen un instrumento imprescindible para la evaluación del desempeño de la organización en un área, respecto de un atributo, o en un ámbito, definido como clave o determinante del éxito de la organización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La principal </a:t>
            </a:r>
            <a:r>
              <a:rPr b="1" i="1" lang="es-ES_tradnl" sz="1400" spc="-1" strike="noStrike">
                <a:solidFill>
                  <a:srgbClr val="808080"/>
                </a:solidFill>
                <a:latin typeface="Arial"/>
              </a:rPr>
              <a:t>limitación de los indicadores de tendencia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dice relación con que no proporcionan información que permita deducir o establecer con facilidad el impacto de las acciones inducidas sobre los objetivos o resultados finales esperad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611280" y="260280"/>
            <a:ext cx="5029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dicadores de T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6. 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 del abast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ficiencia en las comp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inimizar los recursos necesarios (financieros, humanos, físicos) para suministrar los bienes y servicios requer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ar visibilidad a las actividades y criterios de decisión involucrados en el abastecimiento, facilitando el control y el acceso a los 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horro o compra adecu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atisfacer las necesidades de oportunidad y requerimientos técnicos de los usu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ptimización del uso de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acionalizar el uso de recursos al interior de la instit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1042920" y="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dicadores de uso frecuente para evaluar la gestión de abast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stado de indicadores (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uración de los inventario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es el número de días en que se consumiría los stocks disponibles de un material a los niveles de consumo promedio de la instit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Quiebres de inventari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frecuencia de casos en que una institución se queda sin inventario de un material que se mantiene en bode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iempo de ciclo de compr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tiempo que transcurre entre que se solicita la compra de un material y que este es recibido en bode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iempo de despacho de la orden de compr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tiempo que transcurre entre que se solicita la compra de un material y se despacha al proveedor la orden de compra respectiva.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stado de indicadores (2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ntidad de peticiones de oferta enviad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corresponde al número de proveedores a los cuales se envía una petición de oferta para los procesos de cotización (para la operación en ChileCompra, corresponde al número de proveedores que son notificados de las cotizaciones vía e-mai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ntidad de ofertas recibid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corresponde al número de ofertas o cotizaciones recibidas en un proceso de comp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dicadores de satisfacción de usuario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corresponden a una calificación de la calidad de servicio percibida por los clientes internos del área de adquisiciones, normalmente considera distintos ámb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dicadores de evaluación de proveedore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corresponden a una evaluación de la calidad de servicio entregada por los proveedores. Normalmente se asocia a una clasificación de los provee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2. ¿Qué es un indicador de gestió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finición opera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STRUMENTOS DE MEDICION QUE PERMITE SINTETIZAR LA DETERMINACION DE COMO  UNA  ORGANIZACION ESTA ALCANZANDO SUS OBJETIVOS Y MET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762120" y="1352520"/>
            <a:ext cx="7619760" cy="52974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lación de indicadores con objetivos de 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dicadores con enfoque de gé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La incorporación de enfoque de género en la gestión pública obedece 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la necesidad del Estado d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ahoma"/>
              </a:rPr>
              <a:t>evaluar los efectos diferenciados de sus productos (bienes y servicios) para mujeres y homb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epresenta un avance para el mejoramiento de la gestión del Estado por cuanto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ahoma"/>
              </a:rPr>
              <a:t>eleva la eficacia de los programas relacionados con las actuales prioridades públi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e puede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ahoma"/>
              </a:rPr>
              <a:t>preveer y evitar que se produzcan efectos negativos sobre las condiciones de vida y bienestar, o sobre la posición de las mujeres y los homb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 en nuestra socie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ww.dipre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dicadores con enfoque de gé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ahoma"/>
              </a:rPr>
              <a:t>Los resultados del producto ¿muestran efectos negativos diferenciad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ahoma"/>
              </a:rPr>
              <a:t>para hombres y mujer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ahoma"/>
              </a:rPr>
              <a:t>Ejemplos de efectos nega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Incremento de la carga de trabajo, deterioro de la salud personal, restricción de oportunida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Incremento del aislamiento so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Rigidez y reproducción de roles tradicionales para mujeres y homb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Ningún o escaso acceso al ingreso o a los productos del servicio o institu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Disminución del acceso a bienes materiales, a nuevas fuentes energéticas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productivas, a los servicios, o a las instituciones el Es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Disminución de la autoridad en los ámbitos de poder o tareas tradicion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Exclusión de los beneficios del producto en grupos específicos de mujeres (grupos d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mujeres de menores ingresos por ejempl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centración de los beneficios en lo grupos de hombres, et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dicadores con enfoque de gé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1143000" y="3276720"/>
            <a:ext cx="7772400" cy="2073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1219320" y="1828800"/>
            <a:ext cx="7696080" cy="15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5"/>
          <p:cNvSpPr/>
          <p:nvPr/>
        </p:nvSpPr>
        <p:spPr>
          <a:xfrm>
            <a:off x="1130760" y="5442120"/>
            <a:ext cx="59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Fuente: Balance de Gestión Integral. Servicio Nacional de Capacitación y Emp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dicadores con enfoque de gé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696080" cy="151920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4"/>
          <p:cNvSpPr/>
          <p:nvPr/>
        </p:nvSpPr>
        <p:spPr>
          <a:xfrm>
            <a:off x="1130760" y="5442120"/>
            <a:ext cx="59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Fuente: Balance de Gestión Integral. Servicio Nacional de Capacitación y Emp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7925040" cy="286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volución de la Tasa de Mortalidad Infantil, 1970-20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Object 3"/>
          <p:cNvGraphicFramePr/>
          <p:nvPr/>
        </p:nvGraphicFramePr>
        <p:xfrm>
          <a:off x="1066680" y="1828800"/>
          <a:ext cx="674388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674388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indicador en el contexto del ciclo de control de gest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987640" y="2997360"/>
            <a:ext cx="1655640" cy="647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Un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"/>
          <p:cNvSpPr/>
          <p:nvPr/>
        </p:nvSpPr>
        <p:spPr>
          <a:xfrm>
            <a:off x="2771640" y="1628640"/>
            <a:ext cx="194472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Mercado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 flipV="1">
            <a:off x="3492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7"/>
          <p:cNvSpPr/>
          <p:nvPr/>
        </p:nvSpPr>
        <p:spPr>
          <a:xfrm>
            <a:off x="2916360" y="414972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 flipV="1">
            <a:off x="3995640" y="364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 flipH="1">
            <a:off x="3492000" y="36464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4643280" y="3284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5151240" y="28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6156360" y="177336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6590520" y="1052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6804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5"/>
          <p:cNvSpPr/>
          <p:nvPr/>
        </p:nvSpPr>
        <p:spPr>
          <a:xfrm>
            <a:off x="6659640" y="306864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6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6732720" y="3141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val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3203640" y="537372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Decid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19"/>
          <p:cNvCxnSpPr>
            <a:stCxn id="91" idx="4"/>
            <a:endCxn id="94" idx="3"/>
          </p:cNvCxnSpPr>
          <p:nvPr/>
        </p:nvCxnSpPr>
        <p:spPr>
          <a:xfrm rot="5400000">
            <a:off x="4535640" y="3393000"/>
            <a:ext cx="2269080" cy="2340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6" name="Line 20"/>
          <p:cNvSpPr/>
          <p:nvPr/>
        </p:nvSpPr>
        <p:spPr>
          <a:xfrm>
            <a:off x="1332000" y="3284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1"/>
          <p:cNvSpPr/>
          <p:nvPr/>
        </p:nvSpPr>
        <p:spPr>
          <a:xfrm>
            <a:off x="1332000" y="3284640"/>
            <a:ext cx="0" cy="244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1332000" y="573408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5356080" y="1486080"/>
            <a:ext cx="2735280" cy="122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7932600" y="155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Plan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5"/>
          <p:cNvSpPr/>
          <p:nvPr/>
        </p:nvSpPr>
        <p:spPr>
          <a:xfrm>
            <a:off x="5076720" y="2708280"/>
            <a:ext cx="792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4429440" y="12682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M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7"/>
          <p:cNvSpPr/>
          <p:nvPr/>
        </p:nvSpPr>
        <p:spPr>
          <a:xfrm>
            <a:off x="5003640" y="1700280"/>
            <a:ext cx="43200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8"/>
          <p:cNvSpPr/>
          <p:nvPr/>
        </p:nvSpPr>
        <p:spPr>
          <a:xfrm>
            <a:off x="6037200" y="2852640"/>
            <a:ext cx="122400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7887240" y="3141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Eval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0"/>
          <p:cNvSpPr/>
          <p:nvPr/>
        </p:nvSpPr>
        <p:spPr>
          <a:xfrm flipH="1">
            <a:off x="7260840" y="335772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1"/>
          <p:cNvSpPr/>
          <p:nvPr/>
        </p:nvSpPr>
        <p:spPr>
          <a:xfrm>
            <a:off x="2627280" y="5084640"/>
            <a:ext cx="2376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2"/>
          <p:cNvSpPr/>
          <p:nvPr/>
        </p:nvSpPr>
        <p:spPr>
          <a:xfrm>
            <a:off x="4717800" y="58770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Contr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ILOSOFIA DE LOS INDICAD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025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odo lo que se mi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e contro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Y todo aquello que se contro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e admini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Y lo que se admini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e mejora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1:22:21Z</dcterms:created>
  <dc:creator>.</dc:creator>
  <dc:description/>
  <dc:language>en-US</dc:language>
  <cp:lastModifiedBy>Ivan Braga</cp:lastModifiedBy>
  <dcterms:modified xsi:type="dcterms:W3CDTF">2009-07-22T22:08:59Z</dcterms:modified>
  <cp:revision>14</cp:revision>
  <dc:subject/>
  <dc:title>Diapositiva 1</dc:title>
</cp:coreProperties>
</file>