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9.gif" ContentType="image/gif"/>
  <Override PartName="/ppt/media/image10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891E-7BCA-425D-91C4-CF4AA199396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3ADC-CEFC-4826-8536-D4B14222D38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ABC6-DAD4-475F-B36F-871C8B5BE38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F791-3193-4243-8D09-850426BF5AF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49E6-20AA-4FBD-ADA3-CEBF5BECD4F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D3D-0E11-45CC-BCAC-07B37D95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44FA-CB6C-45B9-8260-97FCC771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C6F-F077-4C21-9368-A545EAD1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E91-15D7-48B8-8BC9-86460F11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742-DF7F-4F86-94A6-48A7A71C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54A-CD12-4B6B-8164-26FE45AD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9C0-CEDC-4CE7-9309-C4FE7658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3DA-6CDF-4A0E-8C22-E181B1F4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EB7D-8A50-4BD2-9F1F-F7037140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59A-0006-4581-A095-93C9FFBE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0A42-1895-473E-9EC6-197A53D2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C9E-BE77-4562-9845-C9181D4B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D50A-9C3C-4ED8-85CA-326867ED6B75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71840" y="3886200"/>
            <a:ext cx="428616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ptiembre d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isión esquemática del ciclo de control de gestión en un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590520" y="1052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5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9"/>
          <p:cNvCxnSpPr>
            <a:stCxn id="117" idx="4"/>
            <a:endCxn id="120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2" name="Line 20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2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3"/>
          <p:cNvSpPr/>
          <p:nvPr/>
        </p:nvSpPr>
        <p:spPr>
          <a:xfrm>
            <a:off x="5356080" y="1486080"/>
            <a:ext cx="2735280" cy="122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7932600" y="155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lan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5"/>
          <p:cNvSpPr/>
          <p:nvPr/>
        </p:nvSpPr>
        <p:spPr>
          <a:xfrm>
            <a:off x="5076720" y="2708280"/>
            <a:ext cx="792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429440" y="1268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5003640" y="1700280"/>
            <a:ext cx="43200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8"/>
          <p:cNvSpPr/>
          <p:nvPr/>
        </p:nvSpPr>
        <p:spPr>
          <a:xfrm>
            <a:off x="6227640" y="2781360"/>
            <a:ext cx="122400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7742880" y="36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l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H="1" flipV="1">
            <a:off x="7261200" y="3357720"/>
            <a:ext cx="479520" cy="358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1"/>
          <p:cNvSpPr/>
          <p:nvPr/>
        </p:nvSpPr>
        <p:spPr>
          <a:xfrm>
            <a:off x="2627280" y="5084640"/>
            <a:ext cx="2376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4717800" y="58770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tr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3"/>
          <p:cNvSpPr/>
          <p:nvPr/>
        </p:nvSpPr>
        <p:spPr>
          <a:xfrm>
            <a:off x="7236000" y="1989000"/>
            <a:ext cx="1655640" cy="120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TO </a:t>
            </a:r>
            <a:r>
              <a:rPr b="1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ER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4794840" y="3376440"/>
            <a:ext cx="844920" cy="71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6877080" y="4437000"/>
            <a:ext cx="203508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s y análisi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324000" y="5300640"/>
            <a:ext cx="2035080" cy="642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es de acción corr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68360" y="33336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ontrol presupuestario clás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4932360" y="2060640"/>
            <a:ext cx="10666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la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181480" y="12193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Estrategia de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5435640" y="15573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209680" y="3809880"/>
            <a:ext cx="2001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Estan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5181480" y="396252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4211640" y="414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900000" y="4149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900000" y="3716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4211640" y="3716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5435640" y="29973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5292720" y="40053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 flipV="1">
            <a:off x="5292720" y="40050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3927960" y="314172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ferencia =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2700360" y="5445000"/>
            <a:ext cx="1150920" cy="720720"/>
          </a:xfrm>
          <a:prstGeom prst="leftArrowCallout">
            <a:avLst>
              <a:gd name="adj1" fmla="val 25002"/>
              <a:gd name="adj2" fmla="val 25000"/>
              <a:gd name="adj3" fmla="val 2661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899640" y="5805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 flipV="1">
            <a:off x="900000" y="4149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9"/>
          <p:cNvSpPr/>
          <p:nvPr/>
        </p:nvSpPr>
        <p:spPr>
          <a:xfrm>
            <a:off x="5435640" y="4437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"/>
          <p:cNvSpPr/>
          <p:nvPr/>
        </p:nvSpPr>
        <p:spPr>
          <a:xfrm flipH="1">
            <a:off x="3850920" y="580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4286160" y="6021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tr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7164360" y="2637000"/>
            <a:ext cx="1655640" cy="120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TO </a:t>
            </a:r>
            <a:r>
              <a:rPr b="1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ER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4312080" y="4221000"/>
            <a:ext cx="844920" cy="71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5867280" y="4869000"/>
            <a:ext cx="203544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s y análisi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0" y="5229360"/>
            <a:ext cx="2035080" cy="642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es de acción corr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ompañía productora de jabón ‘COPITO S.A’ exhibe la siguiente información para el año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985080" cy="3819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6877080" y="2205000"/>
            <a:ext cx="13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ifras en K U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pto para 2009 tiene la siguiente estruc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0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79280" y="1198440"/>
            <a:ext cx="84963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lgunos indicadores proyec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880" y="35002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a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1547640" y="3429000"/>
            <a:ext cx="144720" cy="79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2438280" y="2535120"/>
            <a:ext cx="483408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tiene la siguiente información para el resultado real del periodo 200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0" y="2421000"/>
            <a:ext cx="8858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lances compar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50920" y="1370160"/>
            <a:ext cx="8713800" cy="4651200"/>
          </a:xfrm>
          <a:prstGeom prst="rect">
            <a:avLst/>
          </a:prstGeom>
          <a:ln w="0">
            <a:noFill/>
          </a:ln>
        </p:spPr>
      </p:pic>
      <p:sp>
        <p:nvSpPr>
          <p:cNvPr id="179" name="5 CuadroTexto"/>
          <p:cNvSpPr/>
          <p:nvPr/>
        </p:nvSpPr>
        <p:spPr>
          <a:xfrm>
            <a:off x="3714840" y="1571760"/>
            <a:ext cx="26431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2008               2009                   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dicadores compar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98440" y="1889280"/>
            <a:ext cx="86076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presupuesto cl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y 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j0076172"/>
          <p:cNvPicPr/>
          <p:nvPr/>
        </p:nvPicPr>
        <p:blipFill>
          <a:blip r:embed="rId1"/>
          <a:stretch/>
        </p:blipFill>
        <p:spPr>
          <a:xfrm>
            <a:off x="5715000" y="1676520"/>
            <a:ext cx="28195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grama del resto del curso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óximas cl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upuesto y ciclo de control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rcicio de sim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s de cost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s de Información para el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lementando sistemas de control de gest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ópicos específicos de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ort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to más claro, preciso y bien pensado, más fácilmente las compañía podrá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ar planes, actividades y gasto asdoci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r g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canzar los objetivos de neg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ar sistemas internos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laves de un buen proceso presupuest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ender la misión y la 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aluación del potencial de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tear programas y sus potenci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ignar responsa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robar formalmente el presu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nitorear su ejec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lantear el presupuesto en caso de ser neces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enda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inir un plan con sus activ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blecer horizonte y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inir responsables por t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blecer mecanismos de consolidación y re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inir Hitos de aprob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tribuir calendario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3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2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v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cos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fectado por política de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ga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Inversión, I&amp;D, mkt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pto de gast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do de Resultados proyec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lance proyec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lujo de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strucción del presupue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3024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379080" y="1360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826920" y="0"/>
          <a:ext cx="6924960" cy="64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0"/>
                    <a:ext cx="692496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C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neficio Neto después de impu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 (Ingresos – Gastos /sin efecto de caj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-/+ cambio en necesidades netas de oper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ja Generada por la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+/- Caja de Operaciones de 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-/+ Caja de inver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s Líquidos N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mbio en necesidades netas de explo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/+ cambio en deuda de clientes (Cx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/+ cambio en niveles de exist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/- cambio en cuentas por pagar (Cx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val 4"/>
          <p:cNvSpPr/>
          <p:nvPr/>
        </p:nvSpPr>
        <p:spPr>
          <a:xfrm>
            <a:off x="1116000" y="148428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1187280" y="306864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j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1187280" y="465300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ja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116000" y="148428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j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4572000" y="3068640"/>
            <a:ext cx="1655640" cy="72072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$ líqu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3276720" y="1484280"/>
            <a:ext cx="934920" cy="3816360"/>
          </a:xfrm>
          <a:custGeom>
            <a:avLst/>
            <a:gdLst>
              <a:gd name="textAreaLeft" fmla="*/ 0 w 934920"/>
              <a:gd name="textAreaRight" fmla="*/ 337680 w 934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tiene la siguiente información para el resultado real del periodo 200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0" y="2421000"/>
            <a:ext cx="8858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ctur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tilización de sistemas de cost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lances compar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50920" y="1370160"/>
            <a:ext cx="8713800" cy="4651200"/>
          </a:xfrm>
          <a:prstGeom prst="rect">
            <a:avLst/>
          </a:prstGeom>
          <a:ln w="0">
            <a:noFill/>
          </a:ln>
        </p:spPr>
      </p:pic>
      <p:sp>
        <p:nvSpPr>
          <p:cNvPr id="213" name="5 CuadroTexto"/>
          <p:cNvSpPr/>
          <p:nvPr/>
        </p:nvSpPr>
        <p:spPr>
          <a:xfrm>
            <a:off x="3714840" y="1571760"/>
            <a:ext cx="26431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2008               2009                   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licando al ejemplo ant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eño del ppto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álculo del flujo de caja proyectado (método direct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1042920" y="3141720"/>
            <a:ext cx="71643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étodo indir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140360" y="549360"/>
            <a:ext cx="45464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eneficio Neto después de im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- (Ingresos – Gastos /sin efecto de caj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-/+ cambio en necesidades netas de oper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ja Generada por la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+/- Caja de Operaciones de Financi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-/+ Caja de inver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cursos Líquidos Ne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1360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tuación real (cálculo indirec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4121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7920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a forma de compa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424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grupos deberán preparar para la empresa que están estudian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Mapa estraté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modelo de BSC, incluyendo indicadores y m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omendaciones para el control de gestión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control financiero cl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oque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 del presu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yección de flujo de c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isión esquemática del ciclo de control de gestión en un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6590520" y="1052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5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19"/>
          <p:cNvCxnSpPr>
            <a:stCxn id="73" idx="4"/>
            <a:endCxn id="76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8" name="Line 20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1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3"/>
          <p:cNvSpPr/>
          <p:nvPr/>
        </p:nvSpPr>
        <p:spPr>
          <a:xfrm>
            <a:off x="5356080" y="1486080"/>
            <a:ext cx="2735280" cy="122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7932600" y="155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lan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5"/>
          <p:cNvSpPr/>
          <p:nvPr/>
        </p:nvSpPr>
        <p:spPr>
          <a:xfrm>
            <a:off x="5076720" y="2708280"/>
            <a:ext cx="792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4429440" y="1268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5003640" y="1700280"/>
            <a:ext cx="43200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8"/>
          <p:cNvSpPr/>
          <p:nvPr/>
        </p:nvSpPr>
        <p:spPr>
          <a:xfrm>
            <a:off x="6227640" y="2781360"/>
            <a:ext cx="122400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7887240" y="3141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l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0"/>
          <p:cNvSpPr/>
          <p:nvPr/>
        </p:nvSpPr>
        <p:spPr>
          <a:xfrm flipH="1">
            <a:off x="7260840" y="335772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1"/>
          <p:cNvSpPr/>
          <p:nvPr/>
        </p:nvSpPr>
        <p:spPr>
          <a:xfrm>
            <a:off x="2627280" y="5084640"/>
            <a:ext cx="2376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4717800" y="58770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tr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80"/>
          <p:cNvSpPr/>
          <p:nvPr/>
        </p:nvSpPr>
        <p:spPr>
          <a:xfrm>
            <a:off x="755640" y="1989000"/>
            <a:ext cx="2303640" cy="20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79"/>
          <p:cNvSpPr/>
          <p:nvPr/>
        </p:nvSpPr>
        <p:spPr>
          <a:xfrm>
            <a:off x="4859280" y="1916280"/>
            <a:ext cx="2017800" cy="22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77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184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78"/>
          <p:cNvSpPr/>
          <p:nvPr/>
        </p:nvSpPr>
        <p:spPr>
          <a:xfrm>
            <a:off x="3134880" y="33577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upuesto debería ser una planificación integral del negocio de acuerdo a la estrate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097640" y="27288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ERR (t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lanc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294880" y="2781360"/>
            <a:ext cx="154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ERR 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lance 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lujo de ca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132000" y="3141720"/>
            <a:ext cx="1800360" cy="574560"/>
          </a:xfrm>
          <a:prstGeom prst="rightArrow">
            <a:avLst>
              <a:gd name="adj1" fmla="val 50000"/>
              <a:gd name="adj2" fmla="val 783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549800" y="5013360"/>
            <a:ext cx="145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Estrategi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Supues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del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495960" y="4941720"/>
            <a:ext cx="17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Oper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276720" y="501336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2124000" y="3428640"/>
            <a:ext cx="1800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6:47:06Z</dcterms:created>
  <dc:creator>.</dc:creator>
  <dc:description/>
  <dc:language>en-US</dc:language>
  <cp:lastModifiedBy>Ivan Braga</cp:lastModifiedBy>
  <dcterms:modified xsi:type="dcterms:W3CDTF">2009-09-11T00:58:54Z</dcterms:modified>
  <cp:revision>29</cp:revision>
  <dc:subject/>
  <dc:title>El control financiero clásico</dc:title>
</cp:coreProperties>
</file>